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WHOOSH.WAV" ContentType="audio/x-wav"/>
  <Override PartName="/ppt/media/image5.wmf" ContentType="image/x-wmf"/>
  <Override PartName="/ppt/media/image7.jpeg" ContentType="image/jpeg"/>
  <Override PartName="/ppt/media/image6.jpeg" ContentType="image/jpeg"/>
  <Override PartName="/ppt/media/image8.wmf" ContentType="image/x-wmf"/>
  <Override PartName="/ppt/media/image9.png" ContentType="image/png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8AAE046-B83E-4CF5-9CD1-A80DCA850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02C6F13-9EFB-4457-99F3-EEA074BBB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344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2715B83-D9FB-49FF-B7B2-22AD7D35F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344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A087F41-BDC2-4EC3-8E0C-EF9939D05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633C1BC-070B-4891-AA37-827A7F5E0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344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6257-5ED7-4C9F-8C58-FF2509871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F1C6-0171-4DA1-8037-C74BBEDF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EBE0-E9D2-4771-967E-347E1636E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9F95-4DBC-410D-8E64-58225630B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1A5A-58E4-4B93-9A40-E3433D453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D092-3AEE-44CF-8EE1-CFE1819D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F6E5-B603-4EA0-811D-39824471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11DE-AFCB-47B1-A45F-1C5DA4D9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8C645-3401-41EB-8A12-19EA8920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D60B-771D-4397-9BF6-9581BADD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5C48-935E-41F9-B2BE-3D375E47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0582-0B1C-4006-823C-512A0247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96B2-667C-47AC-BF2B-3581183B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6C9E-5A6A-47C5-935D-85641975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4190-F40F-4D2A-99ED-BE804E49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B2427-D9CE-48E6-8091-CB1E2834B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D51B-5FEE-4995-BABD-38C6A5AA5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7B75-FE6B-41D2-971B-6B976BF3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1130-A535-4ABB-B82B-19BB65F8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E067-3DD1-4080-B67C-CF86899A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B280-A4B0-4A68-BE31-8166F22E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3C17-E0F9-4BD7-9152-01F0DE95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FE6C-5DD7-495C-9BAE-1F2B8B2C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09DA-866F-494B-A040-C2C9590C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094B-C03A-443D-9E2E-018FCF2D10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91BB-F54C-484E-8C74-BE952A84AA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61760" y="3276720"/>
            <a:ext cx="74674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B: the dise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 of conventional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ar mechanisms of drug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066680" y="6264360"/>
            <a:ext cx="678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ntent adapted from standardized WHO, CDC and NHLS Training Materials for use by the African Centre for Integrated Laboratory Training,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b9"/>
                </a:solidFill>
                <a:latin typeface="Arial"/>
              </a:rPr>
              <a:t>Molecular mechanisms of </a:t>
            </a:r>
            <a:br>
              <a:rPr sz="4200"/>
            </a:br>
            <a:r>
              <a:rPr b="0" lang="en-US" sz="4200" spc="-1" strike="noStrike">
                <a:solidFill>
                  <a:srgbClr val="ffffb9"/>
                </a:solidFill>
                <a:latin typeface="Arial"/>
              </a:rPr>
              <a:t>multidrug-resistant tuberculosi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99"/>
                </a:solidFill>
                <a:latin typeface="Arial"/>
              </a:rPr>
              <a:t>Koch`s postulates 1882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icroorganism must be present in every case of the disea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icroorganism must be isolated from the host with the disease and grown in pure cul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specific disease must be reproduced when a pure culture of the microorganism is inoculated into a healthy susceptible ho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icroorganism must be recoverable from the experimentally infected host and identified as being identical to the original specific causative agent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b9"/>
                </a:solidFill>
                <a:latin typeface="Arial"/>
              </a:rPr>
              <a:t>Edward Livingston Trudeau (1915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Koch’s paper on “The Etiology of Tuberculosis” is certainly one of the most, if not the most, important medical papers ever w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model of logic in application of the   new experimental method to the study of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99"/>
                </a:solidFill>
                <a:latin typeface="Arial"/>
              </a:rPr>
              <a:t>Koch`s molecular postulat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lection and isolation of a mutant with a particular pheno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oning the mutant genotype and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eproducing the mutant phenotype by introduction of mutant genotype (gene) into wild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b9"/>
                </a:solidFill>
                <a:latin typeface="Arial"/>
              </a:rPr>
              <a:t>Development of drug resistance in </a:t>
            </a:r>
            <a:r>
              <a:rPr b="0" i="1" lang="en-US" sz="3800" spc="-1" strike="noStrike">
                <a:solidFill>
                  <a:srgbClr val="ffffb9"/>
                </a:solidFill>
                <a:latin typeface="Arial"/>
              </a:rPr>
              <a:t>M. tuberculosi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ycobacterial cell is surrounded by a specialized, highly hydrophobic cell wall that results in decreased permeability to many antimicrobial ag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istance of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M tuberculosi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to antimycobacterial drugs is the consequence of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aturally occuring, spontaneous mutation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in genes that encode either the target of the drug, or enzymes that are involved in drug activ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istance-associated mutations have been described for all first-line drugs (isoniazid, rifampin, pyrazinamide, ethambutol, and streptomyci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b9"/>
                </a:solidFill>
                <a:latin typeface="Arial"/>
              </a:rPr>
              <a:t>Development of multidrug-resistant tuberculosi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o single genetic alteration has yet been found that results in the MDR phenotype (defined as resistance at least to INH and RM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DR develops by sequential acquisition and selection of mutations at different loci, usually because of inappropriate patient trea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appropriate treatment may lead to disease pro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sease progression will increase the bacterial load and the risk of naturally occurring m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ecause MDR strains are the result of cumulative mutations, growth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 tuberculosi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can successfully be controlled in the host by concomitant treatment with more than on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us, treatment regimens that consist of three to four drugs are used routinely to treat patients with tubercul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b9"/>
                </a:solidFill>
                <a:latin typeface="Arial"/>
              </a:rPr>
              <a:t>Isoniazid resistance and </a:t>
            </a:r>
            <a:r>
              <a:rPr b="0" i="1" lang="en-US" sz="4200" spc="-1" strike="noStrike">
                <a:solidFill>
                  <a:srgbClr val="ffffb9"/>
                </a:solidFill>
                <a:latin typeface="Arial"/>
              </a:rPr>
              <a:t>kat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4832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NH is a pro-drug that requires activation in INH-susceptible mycobacterial spec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e activation of INH results in a number of highly reactive compounds that are capable of damaging the mycobacterial cell wal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NH-resistant clinical isolates frequently loose their catalase-peroxidase activ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ssociation of this enzyme with INH activation was proven when the mycobacterial catalase-peroxidase gene (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katG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) was cloned and sequen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utations in this gene were found in 70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80% of high INH-resistant clinical isola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e most common mutation that was found was the Ser315Thr mu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4"/>
          <p:cNvGraphicFramePr/>
          <p:nvPr/>
        </p:nvGraphicFramePr>
        <p:xfrm>
          <a:off x="609480" y="1523880"/>
          <a:ext cx="3678480" cy="449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3678480" cy="4496040"/>
                  </a:xfrm>
                  <a:prstGeom prst="rect">
                    <a:avLst/>
                  </a:prstGeom>
                  <a:ln w="38160">
                    <a:solidFill>
                      <a:srgbClr val="6666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63" name="Picture 6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Isoniazid resistance and virulence in </a:t>
            </a:r>
            <a:r>
              <a:rPr b="0" i="1" lang="en-US" sz="3800" spc="-1" strike="noStrike">
                <a:solidFill>
                  <a:srgbClr val="ffffff"/>
                </a:solidFill>
                <a:latin typeface="Arial"/>
              </a:rPr>
              <a:t>katG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ge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191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Ser315Thr mutation in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katG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results in an enzyme without the ability to activate INH, but retains approximately 50% of its catalase-peroxidase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s altered catalase-peroxidase provides high-level resistance to INH, while retaining a level of oxidative protection against host antibacterial radica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solates that carry other, mutations in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katG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exhibit varying levels of INH-resistance and catalase-peroxidase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5"/>
          <p:cNvSpPr/>
          <p:nvPr/>
        </p:nvSpPr>
        <p:spPr>
          <a:xfrm>
            <a:off x="5410080" y="2590920"/>
            <a:ext cx="1671840" cy="1649160"/>
          </a:xfrm>
          <a:custGeom>
            <a:avLst/>
            <a:gdLst>
              <a:gd name="textAreaLeft" fmla="*/ 0 w 1671840"/>
              <a:gd name="textAreaRight" fmla="*/ 1672200 w 1671840"/>
              <a:gd name="textAreaTop" fmla="*/ 0 h 1649160"/>
              <a:gd name="textAreaBottom" fmla="*/ 1649520 h 1649160"/>
            </a:gdLst>
            <a:ahLst/>
            <a:rect l="textAreaLeft" t="textAreaTop" r="textAreaRight" b="textAreaBottom"/>
            <a:pathLst>
              <a:path w="1184" h="1039">
                <a:moveTo>
                  <a:pt x="337" y="191"/>
                </a:moveTo>
                <a:lnTo>
                  <a:pt x="420" y="159"/>
                </a:lnTo>
                <a:lnTo>
                  <a:pt x="503" y="121"/>
                </a:lnTo>
                <a:lnTo>
                  <a:pt x="649" y="38"/>
                </a:lnTo>
                <a:lnTo>
                  <a:pt x="725" y="13"/>
                </a:lnTo>
                <a:lnTo>
                  <a:pt x="795" y="0"/>
                </a:lnTo>
                <a:lnTo>
                  <a:pt x="872" y="7"/>
                </a:lnTo>
                <a:lnTo>
                  <a:pt x="948" y="45"/>
                </a:lnTo>
                <a:lnTo>
                  <a:pt x="980" y="83"/>
                </a:lnTo>
                <a:lnTo>
                  <a:pt x="999" y="128"/>
                </a:lnTo>
                <a:lnTo>
                  <a:pt x="1005" y="178"/>
                </a:lnTo>
                <a:lnTo>
                  <a:pt x="999" y="229"/>
                </a:lnTo>
                <a:lnTo>
                  <a:pt x="980" y="344"/>
                </a:lnTo>
                <a:lnTo>
                  <a:pt x="986" y="401"/>
                </a:lnTo>
                <a:lnTo>
                  <a:pt x="1005" y="458"/>
                </a:lnTo>
                <a:lnTo>
                  <a:pt x="1050" y="516"/>
                </a:lnTo>
                <a:lnTo>
                  <a:pt x="1107" y="560"/>
                </a:lnTo>
                <a:lnTo>
                  <a:pt x="1158" y="605"/>
                </a:lnTo>
                <a:lnTo>
                  <a:pt x="1177" y="637"/>
                </a:lnTo>
                <a:lnTo>
                  <a:pt x="1183" y="675"/>
                </a:lnTo>
                <a:lnTo>
                  <a:pt x="1171" y="726"/>
                </a:lnTo>
                <a:lnTo>
                  <a:pt x="1139" y="783"/>
                </a:lnTo>
                <a:lnTo>
                  <a:pt x="1101" y="834"/>
                </a:lnTo>
                <a:lnTo>
                  <a:pt x="1056" y="878"/>
                </a:lnTo>
                <a:lnTo>
                  <a:pt x="1005" y="917"/>
                </a:lnTo>
                <a:lnTo>
                  <a:pt x="967" y="949"/>
                </a:lnTo>
                <a:lnTo>
                  <a:pt x="929" y="961"/>
                </a:lnTo>
                <a:lnTo>
                  <a:pt x="910" y="968"/>
                </a:lnTo>
                <a:lnTo>
                  <a:pt x="872" y="949"/>
                </a:lnTo>
                <a:lnTo>
                  <a:pt x="814" y="936"/>
                </a:lnTo>
                <a:lnTo>
                  <a:pt x="744" y="929"/>
                </a:lnTo>
                <a:lnTo>
                  <a:pt x="681" y="949"/>
                </a:lnTo>
                <a:lnTo>
                  <a:pt x="649" y="961"/>
                </a:lnTo>
                <a:lnTo>
                  <a:pt x="630" y="993"/>
                </a:lnTo>
                <a:lnTo>
                  <a:pt x="611" y="1019"/>
                </a:lnTo>
                <a:lnTo>
                  <a:pt x="585" y="1038"/>
                </a:lnTo>
                <a:lnTo>
                  <a:pt x="535" y="1025"/>
                </a:lnTo>
                <a:lnTo>
                  <a:pt x="496" y="999"/>
                </a:lnTo>
                <a:lnTo>
                  <a:pt x="452" y="968"/>
                </a:lnTo>
                <a:lnTo>
                  <a:pt x="407" y="949"/>
                </a:lnTo>
                <a:lnTo>
                  <a:pt x="375" y="942"/>
                </a:lnTo>
                <a:lnTo>
                  <a:pt x="344" y="949"/>
                </a:lnTo>
                <a:lnTo>
                  <a:pt x="280" y="974"/>
                </a:lnTo>
                <a:lnTo>
                  <a:pt x="229" y="987"/>
                </a:lnTo>
                <a:lnTo>
                  <a:pt x="204" y="980"/>
                </a:lnTo>
                <a:lnTo>
                  <a:pt x="191" y="968"/>
                </a:lnTo>
                <a:lnTo>
                  <a:pt x="178" y="929"/>
                </a:lnTo>
                <a:lnTo>
                  <a:pt x="191" y="898"/>
                </a:lnTo>
                <a:lnTo>
                  <a:pt x="216" y="872"/>
                </a:lnTo>
                <a:lnTo>
                  <a:pt x="255" y="847"/>
                </a:lnTo>
                <a:lnTo>
                  <a:pt x="286" y="821"/>
                </a:lnTo>
                <a:lnTo>
                  <a:pt x="325" y="796"/>
                </a:lnTo>
                <a:lnTo>
                  <a:pt x="344" y="764"/>
                </a:lnTo>
                <a:lnTo>
                  <a:pt x="356" y="732"/>
                </a:lnTo>
                <a:lnTo>
                  <a:pt x="344" y="675"/>
                </a:lnTo>
                <a:lnTo>
                  <a:pt x="312" y="630"/>
                </a:lnTo>
                <a:lnTo>
                  <a:pt x="274" y="598"/>
                </a:lnTo>
                <a:lnTo>
                  <a:pt x="229" y="586"/>
                </a:lnTo>
                <a:lnTo>
                  <a:pt x="191" y="592"/>
                </a:lnTo>
                <a:lnTo>
                  <a:pt x="159" y="618"/>
                </a:lnTo>
                <a:lnTo>
                  <a:pt x="140" y="649"/>
                </a:lnTo>
                <a:lnTo>
                  <a:pt x="121" y="688"/>
                </a:lnTo>
                <a:lnTo>
                  <a:pt x="102" y="726"/>
                </a:lnTo>
                <a:lnTo>
                  <a:pt x="83" y="751"/>
                </a:lnTo>
                <a:lnTo>
                  <a:pt x="57" y="770"/>
                </a:lnTo>
                <a:lnTo>
                  <a:pt x="32" y="764"/>
                </a:lnTo>
                <a:lnTo>
                  <a:pt x="0" y="732"/>
                </a:lnTo>
                <a:lnTo>
                  <a:pt x="6" y="694"/>
                </a:lnTo>
                <a:lnTo>
                  <a:pt x="19" y="649"/>
                </a:lnTo>
                <a:lnTo>
                  <a:pt x="45" y="605"/>
                </a:lnTo>
                <a:lnTo>
                  <a:pt x="76" y="548"/>
                </a:lnTo>
                <a:lnTo>
                  <a:pt x="127" y="516"/>
                </a:lnTo>
                <a:lnTo>
                  <a:pt x="172" y="478"/>
                </a:lnTo>
                <a:lnTo>
                  <a:pt x="210" y="427"/>
                </a:lnTo>
                <a:lnTo>
                  <a:pt x="204" y="376"/>
                </a:lnTo>
                <a:lnTo>
                  <a:pt x="191" y="331"/>
                </a:lnTo>
                <a:lnTo>
                  <a:pt x="178" y="287"/>
                </a:lnTo>
                <a:lnTo>
                  <a:pt x="178" y="261"/>
                </a:lnTo>
                <a:lnTo>
                  <a:pt x="191" y="242"/>
                </a:lnTo>
                <a:lnTo>
                  <a:pt x="223" y="210"/>
                </a:lnTo>
                <a:lnTo>
                  <a:pt x="274" y="198"/>
                </a:lnTo>
                <a:lnTo>
                  <a:pt x="318" y="191"/>
                </a:lnTo>
                <a:lnTo>
                  <a:pt x="331" y="191"/>
                </a:lnTo>
                <a:lnTo>
                  <a:pt x="337" y="191"/>
                </a:lnTo>
              </a:path>
            </a:pathLst>
          </a:custGeom>
          <a:solidFill>
            <a:srgbClr val="dadada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6"/>
          <p:cNvSpPr/>
          <p:nvPr/>
        </p:nvSpPr>
        <p:spPr>
          <a:xfrm>
            <a:off x="6062760" y="2819520"/>
            <a:ext cx="711000" cy="466560"/>
          </a:xfrm>
          <a:custGeom>
            <a:avLst/>
            <a:gdLst>
              <a:gd name="textAreaLeft" fmla="*/ 0 w 711000"/>
              <a:gd name="textAreaRight" fmla="*/ 711360 w 711000"/>
              <a:gd name="textAreaTop" fmla="*/ 0 h 466560"/>
              <a:gd name="textAreaBottom" fmla="*/ 466920 h 466560"/>
            </a:gdLst>
            <a:ahLst/>
            <a:rect l="textAreaLeft" t="textAreaTop" r="textAreaRight" b="textAreaBottom"/>
            <a:pathLst>
              <a:path w="504" h="294">
                <a:moveTo>
                  <a:pt x="318" y="0"/>
                </a:moveTo>
                <a:lnTo>
                  <a:pt x="153" y="19"/>
                </a:lnTo>
                <a:lnTo>
                  <a:pt x="57" y="89"/>
                </a:lnTo>
                <a:lnTo>
                  <a:pt x="38" y="146"/>
                </a:lnTo>
                <a:lnTo>
                  <a:pt x="25" y="172"/>
                </a:lnTo>
                <a:lnTo>
                  <a:pt x="19" y="191"/>
                </a:lnTo>
                <a:lnTo>
                  <a:pt x="0" y="229"/>
                </a:lnTo>
                <a:lnTo>
                  <a:pt x="6" y="242"/>
                </a:lnTo>
                <a:lnTo>
                  <a:pt x="38" y="280"/>
                </a:lnTo>
                <a:lnTo>
                  <a:pt x="102" y="293"/>
                </a:lnTo>
                <a:lnTo>
                  <a:pt x="134" y="261"/>
                </a:lnTo>
                <a:lnTo>
                  <a:pt x="159" y="242"/>
                </a:lnTo>
                <a:lnTo>
                  <a:pt x="140" y="184"/>
                </a:lnTo>
                <a:lnTo>
                  <a:pt x="153" y="153"/>
                </a:lnTo>
                <a:lnTo>
                  <a:pt x="197" y="108"/>
                </a:lnTo>
                <a:lnTo>
                  <a:pt x="261" y="121"/>
                </a:lnTo>
                <a:lnTo>
                  <a:pt x="293" y="134"/>
                </a:lnTo>
                <a:lnTo>
                  <a:pt x="337" y="184"/>
                </a:lnTo>
                <a:lnTo>
                  <a:pt x="413" y="204"/>
                </a:lnTo>
                <a:lnTo>
                  <a:pt x="439" y="172"/>
                </a:lnTo>
                <a:lnTo>
                  <a:pt x="503" y="127"/>
                </a:lnTo>
                <a:lnTo>
                  <a:pt x="477" y="64"/>
                </a:lnTo>
                <a:lnTo>
                  <a:pt x="471" y="51"/>
                </a:lnTo>
                <a:lnTo>
                  <a:pt x="433" y="32"/>
                </a:lnTo>
                <a:lnTo>
                  <a:pt x="369" y="13"/>
                </a:lnTo>
                <a:lnTo>
                  <a:pt x="318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7"/>
          <p:cNvSpPr/>
          <p:nvPr/>
        </p:nvSpPr>
        <p:spPr>
          <a:xfrm>
            <a:off x="6062760" y="2819520"/>
            <a:ext cx="684000" cy="446040"/>
          </a:xfrm>
          <a:custGeom>
            <a:avLst/>
            <a:gdLst>
              <a:gd name="textAreaLeft" fmla="*/ 0 w 684000"/>
              <a:gd name="textAreaRight" fmla="*/ 684360 w 68400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484" h="281">
                <a:moveTo>
                  <a:pt x="369" y="13"/>
                </a:moveTo>
                <a:lnTo>
                  <a:pt x="305" y="0"/>
                </a:lnTo>
                <a:lnTo>
                  <a:pt x="229" y="0"/>
                </a:lnTo>
                <a:lnTo>
                  <a:pt x="153" y="19"/>
                </a:lnTo>
                <a:lnTo>
                  <a:pt x="83" y="64"/>
                </a:lnTo>
                <a:lnTo>
                  <a:pt x="57" y="83"/>
                </a:lnTo>
                <a:lnTo>
                  <a:pt x="44" y="108"/>
                </a:lnTo>
                <a:lnTo>
                  <a:pt x="25" y="172"/>
                </a:lnTo>
                <a:lnTo>
                  <a:pt x="6" y="204"/>
                </a:lnTo>
                <a:lnTo>
                  <a:pt x="0" y="223"/>
                </a:lnTo>
                <a:lnTo>
                  <a:pt x="6" y="242"/>
                </a:lnTo>
                <a:lnTo>
                  <a:pt x="32" y="267"/>
                </a:lnTo>
                <a:lnTo>
                  <a:pt x="64" y="280"/>
                </a:lnTo>
                <a:lnTo>
                  <a:pt x="102" y="274"/>
                </a:lnTo>
                <a:lnTo>
                  <a:pt x="134" y="261"/>
                </a:lnTo>
                <a:lnTo>
                  <a:pt x="146" y="235"/>
                </a:lnTo>
                <a:lnTo>
                  <a:pt x="146" y="204"/>
                </a:lnTo>
                <a:lnTo>
                  <a:pt x="140" y="178"/>
                </a:lnTo>
                <a:lnTo>
                  <a:pt x="153" y="153"/>
                </a:lnTo>
                <a:lnTo>
                  <a:pt x="197" y="121"/>
                </a:lnTo>
                <a:lnTo>
                  <a:pt x="261" y="121"/>
                </a:lnTo>
                <a:lnTo>
                  <a:pt x="286" y="134"/>
                </a:lnTo>
                <a:lnTo>
                  <a:pt x="312" y="153"/>
                </a:lnTo>
                <a:lnTo>
                  <a:pt x="337" y="178"/>
                </a:lnTo>
                <a:lnTo>
                  <a:pt x="369" y="191"/>
                </a:lnTo>
                <a:lnTo>
                  <a:pt x="407" y="191"/>
                </a:lnTo>
                <a:lnTo>
                  <a:pt x="439" y="172"/>
                </a:lnTo>
                <a:lnTo>
                  <a:pt x="458" y="146"/>
                </a:lnTo>
                <a:lnTo>
                  <a:pt x="477" y="121"/>
                </a:lnTo>
                <a:lnTo>
                  <a:pt x="483" y="89"/>
                </a:lnTo>
                <a:lnTo>
                  <a:pt x="477" y="64"/>
                </a:lnTo>
                <a:lnTo>
                  <a:pt x="452" y="32"/>
                </a:lnTo>
                <a:lnTo>
                  <a:pt x="413" y="19"/>
                </a:lnTo>
                <a:lnTo>
                  <a:pt x="382" y="13"/>
                </a:lnTo>
                <a:lnTo>
                  <a:pt x="369" y="13"/>
                </a:lnTo>
              </a:path>
            </a:pathLst>
          </a:custGeom>
          <a:solidFill>
            <a:srgbClr val="fe9b0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8"/>
          <p:cNvSpPr/>
          <p:nvPr/>
        </p:nvSpPr>
        <p:spPr>
          <a:xfrm>
            <a:off x="5616720" y="3678120"/>
            <a:ext cx="191880" cy="44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9"/>
          <p:cNvSpPr/>
          <p:nvPr/>
        </p:nvSpPr>
        <p:spPr>
          <a:xfrm>
            <a:off x="5641920" y="376884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5562720" y="388620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1"/>
          <p:cNvSpPr/>
          <p:nvPr/>
        </p:nvSpPr>
        <p:spPr>
          <a:xfrm>
            <a:off x="5935680" y="3757680"/>
            <a:ext cx="514440" cy="255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2"/>
          <p:cNvSpPr/>
          <p:nvPr/>
        </p:nvSpPr>
        <p:spPr>
          <a:xfrm>
            <a:off x="6083280" y="3811680"/>
            <a:ext cx="166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3"/>
          <p:cNvSpPr/>
          <p:nvPr/>
        </p:nvSpPr>
        <p:spPr>
          <a:xfrm>
            <a:off x="6021360" y="3922560"/>
            <a:ext cx="16524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4"/>
          <p:cNvSpPr/>
          <p:nvPr/>
        </p:nvSpPr>
        <p:spPr>
          <a:xfrm>
            <a:off x="6226200" y="3892680"/>
            <a:ext cx="166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5"/>
          <p:cNvSpPr/>
          <p:nvPr/>
        </p:nvSpPr>
        <p:spPr>
          <a:xfrm rot="1324800">
            <a:off x="6393960" y="3425400"/>
            <a:ext cx="609840" cy="381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9"/>
          <p:cNvSpPr/>
          <p:nvPr/>
        </p:nvSpPr>
        <p:spPr>
          <a:xfrm>
            <a:off x="4572000" y="426708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T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71"/>
          <p:cNvSpPr/>
          <p:nvPr/>
        </p:nvSpPr>
        <p:spPr>
          <a:xfrm>
            <a:off x="6010200" y="358128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72"/>
          <p:cNvSpPr/>
          <p:nvPr/>
        </p:nvSpPr>
        <p:spPr>
          <a:xfrm>
            <a:off x="6180120" y="342900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73"/>
          <p:cNvSpPr/>
          <p:nvPr/>
        </p:nvSpPr>
        <p:spPr>
          <a:xfrm>
            <a:off x="6095880" y="342900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74"/>
          <p:cNvSpPr/>
          <p:nvPr/>
        </p:nvSpPr>
        <p:spPr>
          <a:xfrm>
            <a:off x="6062760" y="3352680"/>
            <a:ext cx="6804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9"/>
          <p:cNvSpPr/>
          <p:nvPr/>
        </p:nvSpPr>
        <p:spPr>
          <a:xfrm>
            <a:off x="5558040" y="481176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hagoso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with viable MT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90"/>
          <p:cNvSpPr/>
          <p:nvPr/>
        </p:nvSpPr>
        <p:spPr>
          <a:xfrm flipV="1">
            <a:off x="5257800" y="3962520"/>
            <a:ext cx="30492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91"/>
          <p:cNvSpPr/>
          <p:nvPr/>
        </p:nvSpPr>
        <p:spPr>
          <a:xfrm flipV="1">
            <a:off x="6019920" y="4038480"/>
            <a:ext cx="2286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92"/>
          <p:cNvSpPr/>
          <p:nvPr/>
        </p:nvSpPr>
        <p:spPr>
          <a:xfrm>
            <a:off x="6664320" y="361152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93"/>
          <p:cNvSpPr/>
          <p:nvPr/>
        </p:nvSpPr>
        <p:spPr>
          <a:xfrm>
            <a:off x="6512040" y="365760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94"/>
          <p:cNvSpPr/>
          <p:nvPr/>
        </p:nvSpPr>
        <p:spPr>
          <a:xfrm>
            <a:off x="6485040" y="3429000"/>
            <a:ext cx="6804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95"/>
          <p:cNvSpPr/>
          <p:nvPr/>
        </p:nvSpPr>
        <p:spPr>
          <a:xfrm>
            <a:off x="6629400" y="342900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96"/>
          <p:cNvSpPr/>
          <p:nvPr/>
        </p:nvSpPr>
        <p:spPr>
          <a:xfrm>
            <a:off x="6629400" y="3505320"/>
            <a:ext cx="68400" cy="759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7"/>
          <p:cNvSpPr/>
          <p:nvPr/>
        </p:nvSpPr>
        <p:spPr>
          <a:xfrm>
            <a:off x="5715000" y="2514600"/>
            <a:ext cx="2286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8"/>
          <p:cNvSpPr/>
          <p:nvPr/>
        </p:nvSpPr>
        <p:spPr>
          <a:xfrm>
            <a:off x="4641840" y="1905120"/>
            <a:ext cx="21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Lysosome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with free oxigene radica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99"/>
          <p:cNvSpPr/>
          <p:nvPr/>
        </p:nvSpPr>
        <p:spPr>
          <a:xfrm flipH="1">
            <a:off x="6781320" y="2971800"/>
            <a:ext cx="6858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0"/>
          <p:cNvSpPr/>
          <p:nvPr/>
        </p:nvSpPr>
        <p:spPr>
          <a:xfrm>
            <a:off x="6778080" y="2438280"/>
            <a:ext cx="19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hago-lysosomes wit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nactivated MT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3"/>
          <p:cNvSpPr/>
          <p:nvPr/>
        </p:nvSpPr>
        <p:spPr>
          <a:xfrm>
            <a:off x="1127160" y="419904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0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soniazid resistance and </a:t>
            </a:r>
            <a:r>
              <a:rPr b="0" i="1" lang="en-US" sz="4200" spc="-1" strike="noStrike">
                <a:solidFill>
                  <a:srgbClr val="ffffff"/>
                </a:solidFill>
                <a:latin typeface="Arial"/>
              </a:rPr>
              <a:t>inh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3886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H blocks the synthesis of cell-wall mycolic acids, the major components of the envelope of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M tubercul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ne intracellular target of the drug is fatty-acid enoyl-acyl carrier protein reductase (Inh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s enzyme is involved in the synthesis of mycolic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utations in the promoter region of the gene (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inhA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) encoding this enzyme result in over-expression of the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over-expressed enzyme may counter-balance the effect of INH and will result in a low-level resistance to the dru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Object 9"/>
          <p:cNvGraphicFramePr/>
          <p:nvPr/>
        </p:nvGraphicFramePr>
        <p:xfrm>
          <a:off x="4724280" y="1600200"/>
          <a:ext cx="3678480" cy="44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3678480" cy="4419720"/>
                  </a:xfrm>
                  <a:prstGeom prst="rect">
                    <a:avLst/>
                  </a:prstGeom>
                  <a:ln w="38160">
                    <a:solidFill>
                      <a:srgbClr val="6666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04" name="Picture 11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ifampin resistanc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886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One of the main reasons for treatment failure and fatal clinical outcome in tuberculosis patients is resistance to R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MP exhibits a significant early bactericidal effect on metabolically active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M tuberculosis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, and excellent late sterilizing action on semidormant organisms undergoing short bursts of metabolic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hile monoresistance to INH is common, monoresistance to RMP is r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MP resistance occurs most often in strains that are also resistant to INH; thus RMP resistance can be used as a surrogate marker for MD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MP inhibits mycobacterial transcription by targeting DNA-dependent RNA polymer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4"/>
          <p:cNvGraphicFramePr/>
          <p:nvPr/>
        </p:nvGraphicFramePr>
        <p:xfrm>
          <a:off x="4724280" y="1523880"/>
          <a:ext cx="3678480" cy="44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523880"/>
                    <a:ext cx="3678480" cy="4419720"/>
                  </a:xfrm>
                  <a:prstGeom prst="rect">
                    <a:avLst/>
                  </a:prstGeom>
                  <a:ln w="38160">
                    <a:solidFill>
                      <a:srgbClr val="6666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11" name="Picture 6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762120" y="22860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9"/>
                </a:solidFill>
                <a:latin typeface="Arial"/>
              </a:rPr>
              <a:t>Rifampin resistance and </a:t>
            </a:r>
            <a:r>
              <a:rPr b="0" i="1" lang="en-US" sz="4000" spc="-1" strike="noStrike">
                <a:solidFill>
                  <a:srgbClr val="ffffb9"/>
                </a:solidFill>
                <a:latin typeface="Arial"/>
              </a:rPr>
              <a:t>rpoB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762120" y="2971800"/>
            <a:ext cx="781992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sistance to RMP is due to mutations in a well-defined, 81 base-pair (27 codons) central region of the gene that encodes the β-subunit of RNA polymerase 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rpoB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ore than 96% of the rifampin-resistant strains contain a mutation in this 81 bp region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rpo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most common mutations (65–86%) alter either codon 526 or codon 531, and result in high-level resistance to R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terations in other codons result in low-level resist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are mutations associated with rifampin resistance have also been found in the amino-terminal region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rpoB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7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LIPA2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914400" y="1295280"/>
            <a:ext cx="7010280" cy="1551240"/>
          </a:xfrm>
          <a:prstGeom prst="rect">
            <a:avLst/>
          </a:prstGeom>
          <a:ln w="38160">
            <a:solidFill>
              <a:srgbClr val="6666cc"/>
            </a:solidFill>
            <a:miter/>
          </a:ln>
        </p:spPr>
      </p:pic>
      <p:cxnSp>
        <p:nvCxnSpPr>
          <p:cNvPr id="220" name="Straight Arrow Connector 10"/>
          <p:cNvCxnSpPr/>
          <p:nvPr/>
        </p:nvCxnSpPr>
        <p:spPr>
          <a:xfrm flipH="1" flipV="1">
            <a:off x="5486040" y="2514240"/>
            <a:ext cx="381600" cy="3816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21" name="Straight Arrow Connector 13"/>
          <p:cNvCxnSpPr/>
          <p:nvPr/>
        </p:nvCxnSpPr>
        <p:spPr>
          <a:xfrm flipH="1" flipV="1">
            <a:off x="6781320" y="2513880"/>
            <a:ext cx="153360" cy="305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MDR-XDR T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628640"/>
            <a:ext cx="8469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DR-TB =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ultidrug-resistant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B resistant to INH and R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gh fatality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quires treatment with second-line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 therapy (18 months): Increased cost, sid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XDR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xtensively drug-resistant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B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istant to INH and RMP (MDR)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lu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ista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any fluoroquinolone, and at least one injectable second-line drug (capreomycin, kanamycin, and/or amikac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ld be incu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388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id molecular detection of INH and RMP resistance: Line – probe assay method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NA isolated from processed original specimen or from cultured bacterial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ultiplexed amplification (PCR) of mycobacterial DNA using biotin-labelled pri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naturation of the amplified DNA products into single-str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ybridization of the denatured DNA to probes on a membrane str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nzyme-mediated detection of bands where DNA products have bound to str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pcr3"/>
          <p:cNvPicPr/>
          <p:nvPr/>
        </p:nvPicPr>
        <p:blipFill>
          <a:blip r:embed="rId1"/>
          <a:srcRect l="1964" t="0" r="1964" b="2718"/>
          <a:stretch/>
        </p:blipFill>
        <p:spPr>
          <a:xfrm>
            <a:off x="0" y="1711440"/>
            <a:ext cx="9144000" cy="430992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3"/>
          <p:cNvSpPr/>
          <p:nvPr/>
        </p:nvSpPr>
        <p:spPr>
          <a:xfrm>
            <a:off x="228600" y="228600"/>
            <a:ext cx="81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9"/>
                </a:solidFill>
                <a:latin typeface="Arial"/>
              </a:rPr>
              <a:t>Polymerase chain reac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rcRect l="4670" t="12486" r="28735" b="6253"/>
          <a:stretch/>
        </p:blipFill>
        <p:spPr>
          <a:xfrm>
            <a:off x="755640" y="1155600"/>
            <a:ext cx="7488360" cy="57024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3"/>
          <p:cNvSpPr/>
          <p:nvPr/>
        </p:nvSpPr>
        <p:spPr>
          <a:xfrm>
            <a:off x="0" y="195120"/>
            <a:ext cx="8604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TBDR plus strip for identification of MTB complex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resistance to RMP and/or IN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b9"/>
                </a:solidFill>
                <a:latin typeface="Arial"/>
              </a:rPr>
              <a:t>TB molecular identif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564000" y="1413000"/>
            <a:ext cx="2448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VANTAGES of molecular test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pid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c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be done in the presence of contamin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 biohazard risk inv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156360" y="1412640"/>
            <a:ext cx="2519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SADVANTAGES of molecular test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dicated equipment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chnical expertise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"/>
          <p:cNvSpPr/>
          <p:nvPr/>
        </p:nvSpPr>
        <p:spPr>
          <a:xfrm>
            <a:off x="6156360" y="1341360"/>
            <a:ext cx="0" cy="4896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6"/>
          <p:cNvSpPr/>
          <p:nvPr/>
        </p:nvSpPr>
        <p:spPr>
          <a:xfrm>
            <a:off x="3564000" y="1341360"/>
            <a:ext cx="0" cy="4896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395280" y="1413000"/>
            <a:ext cx="309708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LE SYSTEMS (Commercial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in GenotType MTBDRpl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LiPA Ri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8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ummary: why is molecular detection of drug resistance important?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apid and accu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provide information on viru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provide information on the level of resist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help to identify molecular pathways to develop new dru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5216-EBDE-4CEF-AEF1-9F6CCB61A2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-7632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5"/>
          <p:cNvGraphicFramePr/>
          <p:nvPr/>
        </p:nvGraphicFramePr>
        <p:xfrm>
          <a:off x="0" y="0"/>
          <a:ext cx="8915400" cy="6359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5400" cy="63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Text Box 6"/>
          <p:cNvSpPr/>
          <p:nvPr/>
        </p:nvSpPr>
        <p:spPr>
          <a:xfrm>
            <a:off x="380880" y="63244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True global distribution unknown due to limited culture and DST testing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b9"/>
                </a:solidFill>
                <a:latin typeface="Arial"/>
              </a:rPr>
              <a:t>Conventional laboratory diagnosis of tuberculosi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68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TB is caused by the bacterial species </a:t>
            </a:r>
            <a:r>
              <a:rPr b="0" i="1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Mycobacterium tuberculosis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 and occasionally by other species belonging to the TB complex (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M. bovis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,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M. africanum, M. canetti, M. pennipedii, M. microti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 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Members of the TB complex are also known as tubercule bacil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Laboratory methods for detection and diagnosis of TB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AFB smear micros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Culture for detection and identification of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Drug-susceptibilit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Molecular and new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0" y="249120"/>
            <a:ext cx="84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9"/>
                </a:solidFill>
                <a:latin typeface="Arial"/>
              </a:rPr>
              <a:t>The causative agent of TB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5715000" y="6338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5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6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mitations  of AFB smear microscop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sensitivity for AFB detection in spu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5000–10,000 AFB/ml of spu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V co-infection further reduces sensitivity (non-cavitary disease with lower numbers of bacteria in sput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on increases with specimen concentration and fluorescent micros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ins both live and dead myco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differentiate tubercle bacilli from other myco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" descr=""/>
          <p:cNvPicPr/>
          <p:nvPr/>
        </p:nvPicPr>
        <p:blipFill>
          <a:blip r:embed="rId1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7" descr=""/>
          <p:cNvPicPr/>
          <p:nvPr/>
        </p:nvPicPr>
        <p:blipFill>
          <a:blip r:embed="rId2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imitations of TB cultu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growth of the MTB; long turn-arou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nsive; limited number of laboratories performing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ti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herence to strict biosafety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quate infrastructure, facilities, electricity and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of qualifi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 use and maintenance of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ous supply of media, reagents and supp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men transpo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y Management 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Ps, organized workflow, quality control, quality as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enotypic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turn-around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growth for identification and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turn-around time is 21 days from inoculation to L J or 7H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2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er turn-around time compared to solid DST 4 – 13/21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oduc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76680" y="1447560"/>
            <a:ext cx="9448920" cy="16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olecular mechanisms of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ultidrug-resistant 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09:28:36Z</dcterms:created>
  <dc:creator>D</dc:creator>
  <dc:description/>
  <dc:language>en-US</dc:language>
  <cp:lastModifiedBy>Philip</cp:lastModifiedBy>
  <dcterms:modified xsi:type="dcterms:W3CDTF">2012-01-26T09:52:21Z</dcterms:modified>
  <cp:revision>98</cp:revision>
  <dc:subject/>
  <dc:title>Slide 1</dc:title>
</cp:coreProperties>
</file>