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0E0FF-C069-4CF5-A4EF-D99D2FB794EB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D94CA-D657-44EA-B9FC-65D29872F826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F3583-F374-4526-8672-33ADA006C315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9CA3F-5F30-4E7D-A9A2-43BE77BF8DC6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F821B-80A2-4C32-978C-CEF08721B746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3DDDB-7B3A-459D-904B-D31468B8EAEC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B2460-A031-4B07-9029-09434F335E3F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38ED0-415A-4019-96F4-835D3159CEE3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AAFD6-11CB-4073-90DD-B5F315D8A70B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FF1F7-E7A8-414E-A41F-74FC5DEE3A02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2DA4C-06D4-4F10-A8F4-8970B0F94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66D42-D988-4C0B-80AB-57056C8B5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B240C-F3FD-4F7C-8C3B-65947BDBB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95C04-F1CB-4310-843B-D85158617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36984-973D-4B6C-9670-A26C6BB71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30BAB-EE8B-4058-AD3C-2E390CB0E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4568C-05EA-4E48-B13D-7D25AFA68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F23C5-0045-4E92-9F5E-7CECC27DE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2C8D5-98E3-49A2-890B-6280A8D37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887C9-3A83-4A72-ACC1-18EDA6525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2E9B4-38B0-4505-9D04-56C1E2771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D6A8B-61D2-4A62-ABB9-05B373CD2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FE3CE-6E75-438F-A920-B923B6C8C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6D121-D106-4680-BE6C-252886057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B5CD6-1E3B-4515-9FF8-04C7CD41E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E1E17-5C46-4C7E-BB46-5FA215FAC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B39AC-4ED6-460D-9E6B-935153F98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9DB54-9D73-49A4-B137-6302CE725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99161-9093-4D63-B27B-9105E74AC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32DEF-0C94-442A-82EA-ABFEFE872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1AA44-6E46-4B23-A9C6-42BB62952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6AABC-9F05-4CF4-8842-77B0B70BF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3F006-89E9-4B6C-8C74-5F6470808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7A88E-6160-437C-8B0B-438EF618F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69E2A-8594-429E-BDD0-5D4CA479C08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6A886-1898-475E-9E5A-20869B7B2CE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57280" y="928800"/>
            <a:ext cx="7943760" cy="19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2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econd-line drug preparation for MGIT 960 DS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C78CD-EC10-48F6-BBC1-A2142A6940D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79280" y="285480"/>
            <a:ext cx="8307360" cy="91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floxacin preparation: DMP formul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Rectangle 3"/>
          <p:cNvSpPr/>
          <p:nvPr/>
        </p:nvSpPr>
        <p:spPr>
          <a:xfrm>
            <a:off x="500040" y="1571760"/>
            <a:ext cx="7929720" cy="45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FX critical concentration = 2 µg/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t 040M1313V: 100% purity (no potency-adjustment necessar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lvent &amp; diluent: sterile distilled 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GIT DST tubes contain 8.4 ml to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8.4 ml × 2 µg/ml = 16.8 µg per MGIT tu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0.1 ml ×168 µg/ml added per MGIT tu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5.95 ml sterile d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 × 168 µg/ml = 1000 µg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F4F09-DDA5-49B6-AA9A-06F7763FAB6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848664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floxacin preparation: DMP formul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Rectangle 3"/>
          <p:cNvSpPr/>
          <p:nvPr/>
        </p:nvSpPr>
        <p:spPr>
          <a:xfrm>
            <a:off x="500040" y="1571760"/>
            <a:ext cx="7929720" cy="45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ilter membrane available: cellulose acetate, 0.2 or 0.22 µ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ttach syringe filter to a 10 ml syringe; filter-sterilize into sterile cryovials and freeze immediat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aw just prior to use and do not re-freeze; discard any leftover so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"/>
              </a:rPr>
              <a:t>Acknowledge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700FB-03C7-4108-9F1F-545BC90D0103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6" descr=""/>
          <p:cNvPicPr/>
          <p:nvPr/>
        </p:nvPicPr>
        <p:blipFill>
          <a:blip r:embed="rId1"/>
          <a:stretch/>
        </p:blipFill>
        <p:spPr>
          <a:xfrm>
            <a:off x="1258920" y="1413000"/>
            <a:ext cx="4102200" cy="14731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7" descr=""/>
          <p:cNvPicPr/>
          <p:nvPr/>
        </p:nvPicPr>
        <p:blipFill>
          <a:blip r:embed="rId2"/>
          <a:stretch/>
        </p:blipFill>
        <p:spPr>
          <a:xfrm>
            <a:off x="1187280" y="2924280"/>
            <a:ext cx="2089440" cy="15127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5" descr="LogoColour"/>
          <p:cNvPicPr/>
          <p:nvPr/>
        </p:nvPicPr>
        <p:blipFill>
          <a:blip r:embed="rId3"/>
          <a:stretch/>
        </p:blipFill>
        <p:spPr>
          <a:xfrm>
            <a:off x="2340000" y="4869000"/>
            <a:ext cx="2808360" cy="10825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2" descr=""/>
          <p:cNvPicPr/>
          <p:nvPr/>
        </p:nvPicPr>
        <p:blipFill>
          <a:blip r:embed="rId4"/>
          <a:stretch/>
        </p:blipFill>
        <p:spPr>
          <a:xfrm>
            <a:off x="4859280" y="2924280"/>
            <a:ext cx="302580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E7D8C-5C24-4789-82E5-3708360ACB8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-360" y="285480"/>
            <a:ext cx="8604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neral drug preparation considerati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Rectangle 3"/>
          <p:cNvSpPr/>
          <p:nvPr/>
        </p:nvSpPr>
        <p:spPr>
          <a:xfrm>
            <a:off x="500040" y="1571760"/>
            <a:ext cx="7929720" cy="45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rugs may be prepared in stock solutions that are stored frozen and later thawed and diluted for use; solvents are not always distilled 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rug solutions must be sterile-filtered prior to addition to MGIT tubes, either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the 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ock solutions or diluted working sol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ilter membranes must be compatible with final drug solv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1B39A-3754-402B-86B3-6690504D5E1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285480"/>
            <a:ext cx="8486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 membrane guide (1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Picture 5" descr=""/>
          <p:cNvPicPr/>
          <p:nvPr/>
        </p:nvPicPr>
        <p:blipFill>
          <a:blip r:embed="rId1"/>
          <a:stretch/>
        </p:blipFill>
        <p:spPr>
          <a:xfrm>
            <a:off x="395280" y="1341360"/>
            <a:ext cx="5832360" cy="46418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6" descr=""/>
          <p:cNvPicPr/>
          <p:nvPr/>
        </p:nvPicPr>
        <p:blipFill>
          <a:blip r:embed="rId2"/>
          <a:stretch/>
        </p:blipFill>
        <p:spPr>
          <a:xfrm>
            <a:off x="6227640" y="1341360"/>
            <a:ext cx="2657520" cy="20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3751C-0D29-4AAC-8430-67C85443FE5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 Membrane Guide (2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Picture 5" descr=""/>
          <p:cNvPicPr/>
          <p:nvPr/>
        </p:nvPicPr>
        <p:blipFill>
          <a:blip r:embed="rId1"/>
          <a:stretch/>
        </p:blipFill>
        <p:spPr>
          <a:xfrm>
            <a:off x="6227640" y="1341360"/>
            <a:ext cx="2657520" cy="20192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6" descr=""/>
          <p:cNvPicPr/>
          <p:nvPr/>
        </p:nvPicPr>
        <p:blipFill>
          <a:blip r:embed="rId2"/>
          <a:stretch/>
        </p:blipFill>
        <p:spPr>
          <a:xfrm>
            <a:off x="324000" y="1622520"/>
            <a:ext cx="5832360" cy="10047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8" descr=""/>
          <p:cNvPicPr/>
          <p:nvPr/>
        </p:nvPicPr>
        <p:blipFill>
          <a:blip r:embed="rId3"/>
          <a:stretch/>
        </p:blipFill>
        <p:spPr>
          <a:xfrm>
            <a:off x="324000" y="1413000"/>
            <a:ext cx="5832360" cy="20772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3"/>
          <p:cNvSpPr/>
          <p:nvPr/>
        </p:nvSpPr>
        <p:spPr>
          <a:xfrm>
            <a:off x="468360" y="3429000"/>
            <a:ext cx="79200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rugs prepared in a non-aqueous solvent but diluted in distilled 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 may be filtered through a membrane compatible with water but not the initial solv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ll filter membranes in the above tables are compatible with w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3835A-017D-482C-AA1D-65B36F6CD67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79280" y="285480"/>
            <a:ext cx="8307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otency/purit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Rectangle 3"/>
          <p:cNvSpPr/>
          <p:nvPr/>
        </p:nvSpPr>
        <p:spPr>
          <a:xfrm>
            <a:off x="500040" y="1571760"/>
            <a:ext cx="7959600" cy="41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rugs are purchased as powders that vary in activity from lot to l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activity of a specific drug lot is listed as potency or purity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n the Certificate of Analysis (C of A) supplied by the vend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rugs at or near 100% potency may be weighed out without adjustment (it can be assumed that 10 mg powder = 10 mg active dru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otency variabilit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tencies may not be close to 100% becaus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are other materials in the powder, such as impurities, preservatives or solubiliz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tency standards may be decades old and drug manufacturing processes have changed since the standards were establish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otency adjust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the potency of a given drug is 74.5% (or 0.745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µg/ml), how would you prepa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10 ml of a 1% solu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.01 gram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× 10 ml = 0.1 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otency adjustment: 0.1 grams/0.745 = 0.134 grams pow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eigh out 0.134 grams powder and dissolve in 10 ml for a 1% potency-adjusted so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A29F6-E0EC-4BE0-93A9-EA3FD90BB92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79280" y="285480"/>
            <a:ext cx="8307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day’s second-line drug preparati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500040" y="1571760"/>
            <a:ext cx="7929720" cy="45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ritical concentrations for MGIT960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cond-line anti-TB drugs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re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rom WHO guidel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ormulations are from NHLS Diagnostic Media Products (DM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498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thionamide (ETH): Sigma E6005, critical concentration = 5 µg/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498"/>
              </a:lnSpc>
              <a:spcBef>
                <a:spcPts val="2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floxacin (OFX): Sigma O8757, critical concentration = 2 µg/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19AD3-2185-4BB1-A476-7F1964CD0CC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5" descr=""/>
          <p:cNvPicPr/>
          <p:nvPr/>
        </p:nvPicPr>
        <p:blipFill>
          <a:blip r:embed="rId1"/>
          <a:stretch/>
        </p:blipFill>
        <p:spPr>
          <a:xfrm>
            <a:off x="971640" y="189000"/>
            <a:ext cx="682128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kos Somoskovi</dc:creator>
  <dc:description/>
  <dc:language>en-US</dc:language>
  <cp:lastModifiedBy>Philip</cp:lastModifiedBy>
  <dcterms:modified xsi:type="dcterms:W3CDTF">2012-01-26T09:53:02Z</dcterms:modified>
  <cp:revision>345</cp:revision>
  <dc:subject/>
  <dc:title>PowerPoint Presentation</dc:title>
</cp:coreProperties>
</file>