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29.png" ContentType="image/png"/>
  <Override PartName="/ppt/media/image14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F37-EAFD-4D7C-9C75-51D79719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63F-945A-430C-B2A7-77522A66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9CF-20FE-4E5B-B557-0D8CE344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FBA-6CCE-4A66-AB43-61AEEB18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3F8A-2A56-4F52-95DE-8D1E01FE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A57-0256-4A5F-A0A7-EC31A0C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53D-A999-4152-BEAC-04B88E7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A386-98A1-4250-B3BF-32F9DD34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B85C-EDA2-4070-B8E1-FF90525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BC0-9836-4262-9AA4-15163989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D1C-4FA0-47B6-B4E9-78B03046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9FC-B9C3-446B-BE27-4E0A93F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8C5-13A8-4AB7-AC2A-BB174D1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2B3-BDDB-4D25-8004-463E2AE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7A4-CDEA-47EA-A6E6-9EE126E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E7F-FACB-42F1-AD53-F7F2699B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FA3-7D64-4C36-95AA-8254EB39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90F-00D8-481F-BBDD-D23FCAE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064-DC73-467F-8DC2-43FC979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42A-8278-46FC-84F8-6731D8F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8C4-08D3-4CFB-A230-BC8FF54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B39-5D95-44EA-AE81-91866708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294-7098-496F-9C71-86BD315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FE6-756D-4322-890E-C076C17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DDC-DEC1-4F01-B1BC-196503647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D2DE-8FA2-4CA1-9FE7-16A5F138A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mplification and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124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ean/ne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pense 2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enaturation (D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a corner of each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2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ampli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carefully mix by pipetting up and down 5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plash mixture and contaminate neighbouring trou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042920" y="1486080"/>
            <a:ext cx="6769080" cy="2519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67" name="Picture 18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9640" y="1484280"/>
            <a:ext cx="792000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6"/>
          <p:cNvGraphicFramePr/>
          <p:nvPr/>
        </p:nvGraphicFramePr>
        <p:xfrm>
          <a:off x="1476360" y="1693800"/>
          <a:ext cx="62596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93800"/>
                    <a:ext cx="6259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5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6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4360" y="1844280"/>
            <a:ext cx="4319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5520" indent="-155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refully add 1 ml of pre-wa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to each trough; change tips between samp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tly rock trough to homogenously m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amp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 not make any spills into neighbouring troughs – CROSS- CONTAMIN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611280" y="2637000"/>
            <a:ext cx="3527280" cy="1663560"/>
            <a:chOff x="611280" y="2637000"/>
            <a:chExt cx="3527280" cy="1663560"/>
          </a:xfrm>
        </p:grpSpPr>
        <p:pic>
          <p:nvPicPr>
            <p:cNvPr id="180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637000"/>
              <a:ext cx="266364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7" descr=""/>
            <p:cNvPicPr/>
            <p:nvPr/>
          </p:nvPicPr>
          <p:blipFill>
            <a:blip r:embed="rId2"/>
            <a:stretch/>
          </p:blipFill>
          <p:spPr>
            <a:xfrm>
              <a:off x="611280" y="2637000"/>
              <a:ext cx="901800" cy="16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425480" y="1412640"/>
            <a:ext cx="3962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numbered strips face side up 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ean/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stic twee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ps must be completely covered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.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strips turn over, re-position them with a fresh pipett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tray onto TwinCubator and press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ubate tray at 45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for 30 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s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7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ing the strip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72000" cy="14893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sp>
        <p:nvSpPr>
          <p:cNvPr id="188" name="Oval 7"/>
          <p:cNvSpPr/>
          <p:nvPr/>
        </p:nvSpPr>
        <p:spPr>
          <a:xfrm rot="2248800">
            <a:off x="1258560" y="3102120"/>
            <a:ext cx="450720" cy="1223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LogoColour"/>
          <p:cNvPicPr/>
          <p:nvPr/>
        </p:nvPicPr>
        <p:blipFill>
          <a:blip r:embed="rId2"/>
          <a:stretch/>
        </p:blipFill>
        <p:spPr>
          <a:xfrm>
            <a:off x="8244000" y="6405480"/>
            <a:ext cx="900000" cy="452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7280" y="1916280"/>
            <a:ext cx="6264360" cy="3774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1692360" y="2133720"/>
          <a:ext cx="540072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4007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9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ent wash of non-hybridized amplic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pe off condensation that forms on lid before every incub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each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tray for 15 min at 45 °C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1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63640" cy="151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2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2448000" cy="151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4"/>
          <p:cNvSpPr/>
          <p:nvPr/>
        </p:nvSpPr>
        <p:spPr>
          <a:xfrm>
            <a:off x="6804000" y="3789360"/>
            <a:ext cx="100800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627280" y="2637000"/>
            <a:ext cx="115272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900000" y="1968480"/>
          <a:ext cx="33847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68480"/>
                    <a:ext cx="3384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4859280" y="3284640"/>
          <a:ext cx="35845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3584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0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tringent w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55480" y="146844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092560" y="251316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5" descr="LogoColour"/>
          <p:cNvPicPr/>
          <p:nvPr/>
        </p:nvPicPr>
        <p:blipFill>
          <a:blip r:embed="rId5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"/>
          <p:cNvPicPr/>
          <p:nvPr/>
        </p:nvPicPr>
        <p:blipFill>
          <a:blip r:embed="rId6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"/>
          <p:cNvPicPr/>
          <p:nvPr/>
        </p:nvPicPr>
        <p:blipFill>
          <a:blip r:embed="rId7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58920" y="1989000"/>
            <a:ext cx="3816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once with 1 ml of rinse (RIN) solution for 1 minute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the RIN solution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28360" y="1483200"/>
            <a:ext cx="58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°C temperature for rest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18920" cy="1440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stringent wash solu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374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diluted conjugate (CON-D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olution to each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for 30 min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olution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68360" y="2952720"/>
            <a:ext cx="4032360" cy="2060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229" name="Text Box 5"/>
          <p:cNvSpPr/>
          <p:nvPr/>
        </p:nvSpPr>
        <p:spPr>
          <a:xfrm>
            <a:off x="468360" y="2060640"/>
            <a:ext cx="3997440" cy="368280"/>
          </a:xfrm>
          <a:prstGeom prst="rect">
            <a:avLst/>
          </a:prstGeom>
          <a:noFill/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l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diluted conju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411280" y="2565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4"/>
          <p:cNvGraphicFramePr/>
          <p:nvPr/>
        </p:nvGraphicFramePr>
        <p:xfrm>
          <a:off x="609480" y="2205000"/>
          <a:ext cx="792504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5000"/>
                    <a:ext cx="79250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3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conjuga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930920" y="1844280"/>
            <a:ext cx="374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WIC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th 1 ml of RIN solution for 1 minute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RIN solution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; this coul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18920" cy="1440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987840" y="1844640"/>
            <a:ext cx="3164760" cy="64260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nse strips TWICE with 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unbound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unbound conjugant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556000" y="2565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859280" y="1557000"/>
            <a:ext cx="360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once with 1 ml of sterile distilled water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) for 1 minute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554040" y="3429000"/>
            <a:ext cx="849240" cy="1440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rins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608760" y="1844640"/>
            <a:ext cx="39222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ONCE with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RIN and unbound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41128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3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713120" y="1628280"/>
            <a:ext cx="381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Diluted Substrate (SUB-D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each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for 30 min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ray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SUB-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60520" y="1670040"/>
            <a:ext cx="3884040" cy="642600"/>
          </a:xfrm>
          <a:prstGeom prst="rect">
            <a:avLst/>
          </a:prstGeom>
          <a:solidFill>
            <a:srgbClr val="6666cc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luted Subst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t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SUB-D tube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2411280" y="24210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6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ur development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611280" y="3114720"/>
            <a:ext cx="3889440" cy="19699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263" name="Picture 11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684360" y="1989000"/>
            <a:ext cx="7416720" cy="374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DIN-Medium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282920" y="205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027760" y="40244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818800" y="4024440"/>
            <a:ext cx="1207800" cy="642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1041480" y="3933720"/>
            <a:ext cx="734760" cy="351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9"/>
          <p:cNvGraphicFramePr/>
          <p:nvPr/>
        </p:nvGraphicFramePr>
        <p:xfrm>
          <a:off x="3349800" y="3309840"/>
          <a:ext cx="187164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3309840"/>
                    <a:ext cx="18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10"/>
          <p:cNvSpPr/>
          <p:nvPr/>
        </p:nvSpPr>
        <p:spPr>
          <a:xfrm>
            <a:off x="3578400" y="4932360"/>
            <a:ext cx="969840" cy="69840"/>
          </a:xfrm>
          <a:prstGeom prst="rightArrow">
            <a:avLst>
              <a:gd name="adj1" fmla="val 50000"/>
              <a:gd name="adj2" fmla="val 3471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 rot="10800000">
            <a:off x="1977840" y="4037040"/>
            <a:ext cx="623880" cy="156960"/>
          </a:xfrm>
          <a:prstGeom prst="rightArrow">
            <a:avLst>
              <a:gd name="adj1" fmla="val 50000"/>
              <a:gd name="adj2" fmla="val 993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216080" y="3706920"/>
            <a:ext cx="34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763920" y="2666880"/>
            <a:ext cx="1686600" cy="2607120"/>
            <a:chOff x="763920" y="2666880"/>
            <a:chExt cx="1686600" cy="2607120"/>
          </a:xfrm>
        </p:grpSpPr>
        <p:sp>
          <p:nvSpPr>
            <p:cNvPr id="277" name="Text Box 14"/>
            <p:cNvSpPr/>
            <p:nvPr/>
          </p:nvSpPr>
          <p:spPr>
            <a:xfrm>
              <a:off x="763920" y="487512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DNA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  <a:ea typeface="Times New Roman"/>
                </a:rPr>
                <a:t>•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STRIP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BankGothic Md BT"/>
                  <a:ea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15"/>
            <p:cNvGrpSpPr/>
            <p:nvPr/>
          </p:nvGrpSpPr>
          <p:grpSpPr>
            <a:xfrm>
              <a:off x="1174320" y="2666880"/>
              <a:ext cx="380520" cy="2150280"/>
              <a:chOff x="1174320" y="2666880"/>
              <a:chExt cx="380520" cy="2150280"/>
            </a:xfrm>
          </p:grpSpPr>
          <p:sp>
            <p:nvSpPr>
              <p:cNvPr id="279" name="Freeform 16"/>
              <p:cNvSpPr/>
              <p:nvPr/>
            </p:nvSpPr>
            <p:spPr>
              <a:xfrm>
                <a:off x="1202760" y="2666880"/>
                <a:ext cx="352080" cy="219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30" h="25">
                    <a:moveTo>
                      <a:pt x="330" y="13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02" y="13"/>
                    </a:lnTo>
                    <a:lnTo>
                      <a:pt x="330" y="13"/>
                    </a:lnTo>
                    <a:lnTo>
                      <a:pt x="330" y="0"/>
                    </a:lnTo>
                    <a:lnTo>
                      <a:pt x="318" y="0"/>
                    </a:lnTo>
                    <a:lnTo>
                      <a:pt x="33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>
                <a:off x="1188360" y="4794120"/>
                <a:ext cx="353160" cy="2304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31" h="25">
                    <a:moveTo>
                      <a:pt x="0" y="12"/>
                    </a:moveTo>
                    <a:lnTo>
                      <a:pt x="13" y="25"/>
                    </a:lnTo>
                    <a:lnTo>
                      <a:pt x="331" y="25"/>
                    </a:lnTo>
                    <a:lnTo>
                      <a:pt x="331" y="0"/>
                    </a:lnTo>
                    <a:lnTo>
                      <a:pt x="13" y="0"/>
                    </a:lnTo>
                    <a:lnTo>
                      <a:pt x="25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>
                <a:off x="1202760" y="3816720"/>
                <a:ext cx="338760" cy="2268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8" h="25">
                    <a:moveTo>
                      <a:pt x="318" y="12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18" y="12"/>
                    </a:lnTo>
                    <a:close/>
                  </a:path>
                </a:pathLst>
              </a:custGeom>
              <a:solidFill>
                <a:srgbClr val="6666cc"/>
              </a:solidFill>
              <a:ln w="28440">
                <a:solidFill>
                  <a:srgbClr val="66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19"/>
              <p:cNvGrpSpPr/>
              <p:nvPr/>
            </p:nvGrpSpPr>
            <p:grpSpPr>
              <a:xfrm>
                <a:off x="1174320" y="2666880"/>
                <a:ext cx="377280" cy="2138040"/>
                <a:chOff x="1174320" y="2666880"/>
                <a:chExt cx="377280" cy="2138040"/>
              </a:xfrm>
            </p:grpSpPr>
            <p:sp>
              <p:nvSpPr>
                <p:cNvPr id="283" name="Freeform 20"/>
                <p:cNvSpPr/>
                <p:nvPr/>
              </p:nvSpPr>
              <p:spPr>
                <a:xfrm>
                  <a:off x="1184400" y="3016080"/>
                  <a:ext cx="337320" cy="2448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5" h="27">
                      <a:moveTo>
                        <a:pt x="315" y="12"/>
                      </a:moveTo>
                      <a:lnTo>
                        <a:pt x="315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5" y="27"/>
                      </a:lnTo>
                      <a:lnTo>
                        <a:pt x="315" y="12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1"/>
                <p:cNvSpPr/>
                <p:nvPr/>
              </p:nvSpPr>
              <p:spPr>
                <a:xfrm>
                  <a:off x="1202760" y="3466440"/>
                  <a:ext cx="338760" cy="2448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8" h="27">
                      <a:moveTo>
                        <a:pt x="318" y="15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8" y="27"/>
                      </a:lnTo>
                      <a:lnTo>
                        <a:pt x="318" y="15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1184400" y="4543560"/>
                  <a:ext cx="367200" cy="0"/>
                </a:xfrm>
                <a:prstGeom prst="line">
                  <a:avLst/>
                </a:prstGeom>
                <a:ln w="63360">
                  <a:solidFill>
                    <a:srgbClr val="66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3"/>
                <p:cNvSpPr/>
                <p:nvPr/>
              </p:nvSpPr>
              <p:spPr>
                <a:xfrm>
                  <a:off x="1519920" y="2666880"/>
                  <a:ext cx="30240" cy="21380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8" h="2309">
                      <a:moveTo>
                        <a:pt x="16" y="2309"/>
                      </a:moveTo>
                      <a:lnTo>
                        <a:pt x="28" y="2296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2296"/>
                      </a:lnTo>
                      <a:lnTo>
                        <a:pt x="16" y="2284"/>
                      </a:lnTo>
                      <a:lnTo>
                        <a:pt x="16" y="2309"/>
                      </a:lnTo>
                      <a:lnTo>
                        <a:pt x="28" y="2309"/>
                      </a:lnTo>
                      <a:lnTo>
                        <a:pt x="28" y="2296"/>
                      </a:lnTo>
                      <a:lnTo>
                        <a:pt x="16" y="2309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4"/>
                <p:cNvSpPr/>
                <p:nvPr/>
              </p:nvSpPr>
              <p:spPr>
                <a:xfrm>
                  <a:off x="1184400" y="2666880"/>
                  <a:ext cx="27360" cy="2138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5" h="2309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0" y="2309"/>
                      </a:lnTo>
                      <a:lnTo>
                        <a:pt x="25" y="2309"/>
                      </a:lnTo>
                      <a:lnTo>
                        <a:pt x="25" y="13"/>
                      </a:lnTo>
                      <a:lnTo>
                        <a:pt x="13" y="2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5"/>
                <p:cNvSpPr/>
                <p:nvPr/>
              </p:nvSpPr>
              <p:spPr>
                <a:xfrm>
                  <a:off x="1174320" y="4243680"/>
                  <a:ext cx="338760" cy="2304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18" h="25">
                      <a:moveTo>
                        <a:pt x="318" y="12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318" y="25"/>
                      </a:lnTo>
                      <a:lnTo>
                        <a:pt x="318" y="1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2844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9" name="Object 26"/>
          <p:cNvGraphicFramePr/>
          <p:nvPr/>
        </p:nvGraphicFramePr>
        <p:xfrm>
          <a:off x="4357800" y="2173320"/>
          <a:ext cx="397980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2173320"/>
                    <a:ext cx="397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7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ubstrate reaction/colou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9" descr="LogoColour"/>
          <p:cNvPicPr/>
          <p:nvPr/>
        </p:nvPicPr>
        <p:blipFill>
          <a:blip r:embed="rId5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"/>
          <p:cNvPicPr/>
          <p:nvPr/>
        </p:nvPicPr>
        <p:blipFill>
          <a:blip r:embed="rId6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"/>
          <p:cNvPicPr/>
          <p:nvPr/>
        </p:nvPicPr>
        <p:blipFill>
          <a:blip r:embed="rId7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930920" y="1412640"/>
            <a:ext cx="352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WIC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ith 1 ml of sterile distilled water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) for 1 min on Twincubator to stop colour development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s or vacuum a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clean tweezers, remove strips from the tray and dry them between two layers of absorbent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3291120" cy="143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554040" y="3284640"/>
            <a:ext cx="849240" cy="143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8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unbound sub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992520" y="1895400"/>
            <a:ext cx="31248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TWICE with 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unbound SUB-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2556000" y="2708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9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pipettes, racks, instruments and the work area with freshly diluted 0.5% bleach (20 minutes), followed by 70% alcohol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strip trays, tweezers with freshly diluted 0.5% bleach (20 min), followed by sterile distilled water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take anything from this area either to reagent or specimen preparation ar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68360" y="1413000"/>
            <a:ext cx="81360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cannot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reagent or specimen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tips for aliquoting reagents into tr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UT ONLY after the STR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naturation solution can be aliquoted by Eppendorf repeat pip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re-use Falcon tubes for conjugate and substrate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 (use BSC only for DNA extr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decant content of the strip tray into sink or any other container. This could contaminate the work are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amplic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contaminate trays and tweezers (Stratalinker U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clean(ed) strip trays and tweezers in a clean and sealed plastic 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7924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 the instructions for Na-hyphochlorite as describ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to clean workplace and instruments after bleach instead of 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use sterile distilled water to rinse strip trays and tweezers after bleach de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xed susceptible/resistant pattern might be a result of cross-over or carry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properly clean work area after comple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s (floors, doors, 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7FF3-79D2-44E9-9F7B-F8AD52EA35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03" name="Oval 4"/>
          <p:cNvSpPr/>
          <p:nvPr/>
        </p:nvSpPr>
        <p:spPr>
          <a:xfrm rot="5400000">
            <a:off x="5435280" y="4221000"/>
            <a:ext cx="1800360" cy="2952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85960" y="285264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cycl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900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ce PCR tubes into thermocyc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gramme and run the following protocol for direct specim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naturation at 95 °C for 15 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 cycles of denaturation at 95 °C for 30 sec and elongation at 58 °C for 12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additional 30 cycles of denaturation at 95 °C for 25 sec, annealing at 53 °C for 40 sec, elongation at 70 °C for 40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extension at 70 °C for 8 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2"/>
          <p:cNvGrpSpPr/>
          <p:nvPr/>
        </p:nvGrpSpPr>
        <p:grpSpPr>
          <a:xfrm>
            <a:off x="639720" y="2298600"/>
            <a:ext cx="2779560" cy="2138400"/>
            <a:chOff x="639720" y="2298600"/>
            <a:chExt cx="2779560" cy="2138400"/>
          </a:xfrm>
        </p:grpSpPr>
        <p:pic>
          <p:nvPicPr>
            <p:cNvPr id="112" name="Picture 23" descr=""/>
            <p:cNvPicPr/>
            <p:nvPr/>
          </p:nvPicPr>
          <p:blipFill>
            <a:blip r:embed="rId2"/>
            <a:stretch/>
          </p:blipFill>
          <p:spPr>
            <a:xfrm>
              <a:off x="63972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4" descr=""/>
            <p:cNvPicPr/>
            <p:nvPr/>
          </p:nvPicPr>
          <p:blipFill>
            <a:blip r:embed="rId3"/>
            <a:stretch/>
          </p:blipFill>
          <p:spPr>
            <a:xfrm>
              <a:off x="122868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Picture 25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24000" y="1699920"/>
            <a:ext cx="4319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ke the beaker that was used to carry the PCR tubes to the autoclave room for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back to the specimen or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the cycles are complete, the tubes should be placed in a 4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refrigerator in this area; proceed directly to hybridization if refrigerator is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0"/>
          <p:cNvGrpSpPr/>
          <p:nvPr/>
        </p:nvGrpSpPr>
        <p:grpSpPr>
          <a:xfrm>
            <a:off x="755640" y="2298600"/>
            <a:ext cx="2779560" cy="2138400"/>
            <a:chOff x="755640" y="2298600"/>
            <a:chExt cx="2779560" cy="2138400"/>
          </a:xfrm>
        </p:grpSpPr>
        <p:pic>
          <p:nvPicPr>
            <p:cNvPr id="118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134460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ion control and amplicon storag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4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4920" y="115920"/>
            <a:ext cx="81374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verview of  reverse hybri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0920" y="3573360"/>
            <a:ext cx="2371680" cy="1008000"/>
          </a:xfrm>
          <a:prstGeom prst="wedgeRectCallout">
            <a:avLst>
              <a:gd name="adj1" fmla="val 56425"/>
              <a:gd name="adj2" fmla="val 100708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an enzyme-conjugated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6216480" y="4799160"/>
            <a:ext cx="2514600" cy="790560"/>
          </a:xfrm>
          <a:prstGeom prst="wedgeRectCallout">
            <a:avLst>
              <a:gd name="adj1" fmla="val -64078"/>
              <a:gd name="adj2" fmla="val 8835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atic conversion of 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3"/>
          <p:cNvSpPr/>
          <p:nvPr/>
        </p:nvSpPr>
        <p:spPr>
          <a:xfrm>
            <a:off x="228600" y="2120760"/>
            <a:ext cx="2286000" cy="1298880"/>
          </a:xfrm>
          <a:prstGeom prst="wedgeRectCallout">
            <a:avLst>
              <a:gd name="adj1" fmla="val 63055"/>
              <a:gd name="adj2" fmla="val -5929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amplicons in single-stranded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6216480" y="3298680"/>
            <a:ext cx="2514600" cy="1067040"/>
          </a:xfrm>
          <a:prstGeom prst="wedgeRectCallout">
            <a:avLst>
              <a:gd name="adj1" fmla="val -64648"/>
              <a:gd name="adj2" fmla="val 7736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unspecifically bound DNA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8"/>
          <p:cNvSpPr/>
          <p:nvPr/>
        </p:nvSpPr>
        <p:spPr>
          <a:xfrm flipV="1" rot="10800000">
            <a:off x="6516360" y="1700280"/>
            <a:ext cx="2336760" cy="1008000"/>
          </a:xfrm>
          <a:prstGeom prst="wedgeRectCallout">
            <a:avLst>
              <a:gd name="adj1" fmla="val 79777"/>
              <a:gd name="adj2" fmla="val 81976"/>
            </a:avLst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labelled amplicons to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2787480" y="575640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ubstr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2"/>
          <p:cNvSpPr/>
          <p:nvPr/>
        </p:nvSpPr>
        <p:spPr>
          <a:xfrm>
            <a:off x="2787480" y="185112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3"/>
          <p:cNvCxnSpPr>
            <a:stCxn id="132" idx="2"/>
            <a:endCxn id="134" idx="0"/>
          </p:cNvCxnSpPr>
          <p:nvPr/>
        </p:nvCxnSpPr>
        <p:spPr>
          <a:xfrm>
            <a:off x="4311360" y="250488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4" name="AutoShape 45"/>
          <p:cNvSpPr/>
          <p:nvPr/>
        </p:nvSpPr>
        <p:spPr>
          <a:xfrm>
            <a:off x="2787480" y="282744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46"/>
          <p:cNvCxnSpPr>
            <a:stCxn id="134" idx="2"/>
            <a:endCxn id="136" idx="0"/>
          </p:cNvCxnSpPr>
          <p:nvPr/>
        </p:nvCxnSpPr>
        <p:spPr>
          <a:xfrm>
            <a:off x="4311360" y="348120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6" name="AutoShape 48"/>
          <p:cNvSpPr/>
          <p:nvPr/>
        </p:nvSpPr>
        <p:spPr>
          <a:xfrm>
            <a:off x="2787480" y="380376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tringent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49"/>
          <p:cNvCxnSpPr>
            <a:stCxn id="136" idx="2"/>
            <a:endCxn id="138" idx="0"/>
          </p:cNvCxnSpPr>
          <p:nvPr/>
        </p:nvCxnSpPr>
        <p:spPr>
          <a:xfrm>
            <a:off x="4311360" y="445752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8" name="AutoShape 51"/>
          <p:cNvSpPr/>
          <p:nvPr/>
        </p:nvSpPr>
        <p:spPr>
          <a:xfrm>
            <a:off x="2787480" y="478008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Conjug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52"/>
          <p:cNvCxnSpPr>
            <a:stCxn id="138" idx="2"/>
            <a:endCxn id="131" idx="0"/>
          </p:cNvCxnSpPr>
          <p:nvPr/>
        </p:nvCxnSpPr>
        <p:spPr>
          <a:xfrm>
            <a:off x="4311360" y="543384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pic>
        <p:nvPicPr>
          <p:cNvPr id="140" name="Picture 55" descr="LogoColour"/>
          <p:cNvPicPr/>
          <p:nvPr/>
        </p:nvPicPr>
        <p:blipFill>
          <a:blip r:embed="rId1"/>
          <a:stretch/>
        </p:blipFill>
        <p:spPr>
          <a:xfrm>
            <a:off x="8604360" y="6513480"/>
            <a:ext cx="539640" cy="34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8" descr=""/>
          <p:cNvPicPr/>
          <p:nvPr/>
        </p:nvPicPr>
        <p:blipFill>
          <a:blip r:embed="rId2"/>
          <a:stretch/>
        </p:blipFill>
        <p:spPr>
          <a:xfrm>
            <a:off x="0" y="6505560"/>
            <a:ext cx="979560" cy="35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9" descr=""/>
          <p:cNvPicPr/>
          <p:nvPr/>
        </p:nvPicPr>
        <p:blipFill>
          <a:blip r:embed="rId3"/>
          <a:stretch/>
        </p:blipFill>
        <p:spPr>
          <a:xfrm>
            <a:off x="4284720" y="6518160"/>
            <a:ext cx="5032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work area with freshly diluted 0.5% bleach (20 minutes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0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4748040" y="1600200"/>
          <a:ext cx="368460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040" y="1600200"/>
                    <a:ext cx="3684600" cy="4419720"/>
                  </a:xfrm>
                  <a:prstGeom prst="rect">
                    <a:avLst/>
                  </a:prstGeom>
                  <a:ln w="2844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7" name="Picture 8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997360"/>
            <a:ext cx="8064360" cy="1800000"/>
          </a:xfrm>
          <a:prstGeom prst="rect">
            <a:avLst/>
          </a:pr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clean/new tweezers, place strips onto a clean sheet of paper and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-warm rinse solution and sterile distilled water to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a suitable tube (15 or 50 ml sterile Falcon), di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en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:100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jugate dil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a suitable tube (15 or 50 ml sterile Falcon) di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ubstrate concen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:100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ubstrate dilu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tect from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each strip, add 10 µl concentrate to 1 ml of the respective diluting buf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eep conjugate concentrate and substrate concentrate refrig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of reagents</a:t>
            </a: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 and reagent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11640" y="1599840"/>
            <a:ext cx="432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952720" cy="357192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sp>
        <p:nvSpPr>
          <p:cNvPr id="159" name="Text Box 7"/>
          <p:cNvSpPr/>
          <p:nvPr/>
        </p:nvSpPr>
        <p:spPr>
          <a:xfrm>
            <a:off x="5003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848040" y="1773360"/>
            <a:ext cx="41799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rn on TwinCubator and start the programme to enable it to warm to 45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-warm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ridization (HYB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ingent wash (STR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luti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37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5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gents must be free of precipitat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2:02Z</dcterms:modified>
  <cp:revision>357</cp:revision>
  <dc:subject/>
  <dc:title>PowerPoint Presentation</dc:title>
</cp:coreProperties>
</file>