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1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6E6B-48B1-4D6F-9212-DBB789509E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2EA9-3C06-48B8-B7C1-49BA22879C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CFDC-120A-4C72-9F5F-D3794875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4A9-A656-48BD-A27C-6E0E092E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F85-3CC1-4C33-8AB2-D13AE27A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83C4-0168-43AD-A874-C0954F0D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93F0-DDAC-48B0-A727-0BED2595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2D5E-86A2-41E2-A270-BB902A48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950B-BC6F-4D78-AD85-E27B7D91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8F19-F2B7-4B56-9715-171D5922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8A24-A023-441E-9988-18342DC8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388E-34DB-41D4-8142-3966FF0D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4597-C04A-4B9E-A408-1D5BCED4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9A1-1523-4AAC-B270-90835B20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A858-50D2-4228-9325-689FCABD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7082-6B62-4087-B15D-36357119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383F-E9AE-451E-9C44-FCFB4044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2934-3C37-44B2-8ADD-DFE025F2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940A-8C92-442A-80E5-2322BF5A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FDE-C4C6-4529-BD96-FB38ED1B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33D6-53EB-42D9-BF4C-993536E9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ED20-5039-4E60-A767-3E7A7438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FD27-F237-4AD9-9608-58C35336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BE9-A218-4C4F-B538-DAD4F67C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F5B9-97C3-4E7D-AFC0-4E01FBB9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1E7E-2271-48C8-A95F-3618BFE1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226C-4395-4B92-B5FC-D39FF3A905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E87E-A05B-48C7-BB3D-E35C1D7308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plus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agent preparation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ols and instruments that are used here have to be labelled accordingly and cannot be used els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CR tubes can only be taken to specimen preparation area in an aluminum foil-covered bea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bring back this beaker to reagent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0.5 ml or 0.2 ml individual PCR tubes instead of 0.2 ml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PCR hood with 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nge shoes or use shoe cover before entering clean room  Autoclave and calibrate pipettes regul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you have finished working in the specimen preparation area, do not come back and clean the reagent preparation area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648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epare fresh Na-hypochlorite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eck undiluted bleac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nal concentration of hypochlorite should not fall below 0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orking solutions of 5 g/l are necessary for dealing with biohazard sp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tainers containing bleach CANNOT be autoclav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instead of distilled water for clea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Keep master mix reagents in desktop cooler, especially Taq poly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iquot sterile molecular grade water into 15 ml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an Eppendorf repeat pipettor with individually wrapped sterile combitips for aliquoting, if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6948360" y="2565360"/>
            <a:ext cx="2033640" cy="2365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60" name="Picture 5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1DE0-6323-4665-A4A1-AC583065F68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746360"/>
            <a:ext cx="741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alculation of volume of master mix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Reagent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553080" cy="526716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 rot="5400000">
            <a:off x="1943640" y="224640"/>
            <a:ext cx="2592360" cy="4968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78640" y="2852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532720" y="6551640"/>
            <a:ext cx="611280" cy="30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1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959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heets used in Specimen Preparation area shoul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be brought over to this are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to calculate the volume master mix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8"/>
          <p:cNvGraphicFramePr/>
          <p:nvPr/>
        </p:nvGraphicFramePr>
        <p:xfrm>
          <a:off x="4776840" y="1484280"/>
          <a:ext cx="3537000" cy="453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6840" y="1484280"/>
                    <a:ext cx="3537000" cy="4535640"/>
                  </a:xfrm>
                  <a:prstGeom prst="rect">
                    <a:avLst/>
                  </a:prstGeom>
                  <a:ln w="2844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21" name="Picture 20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2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on of component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396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3520" indent="-173520">
              <a:lnSpc>
                <a:spcPct val="95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termine the number of specimens and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520"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95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this number plus 1 to calculate the volume of the different components of the master m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520"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95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volume of master mix is 45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 per spec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887640" cy="313668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27" name="Picture 8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3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t on gloves and laboratory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ntaminate work area with freshly diluted 0.5% bleach (20 min), followed by 70%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ver the work area with clean paper to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4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 mix prepa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3357720"/>
            <a:ext cx="79120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tore molecular grade water, and other reagents, in the DNA-free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mpletely thaw all reag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ipette calculated amount of different components of master mix into 1.5 ml conical screw-cap vial using 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tips between reag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use a new aliquot of molecular grade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epare master mix, beginning with the PNM and adding DNA polymerase 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open only one reagent vial at a time, and place vials back in mini cooler after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ently (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void breaking up primer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!) vortex master mix vial  and spin in Minispin for 2 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2556000" y="1413000"/>
            <a:ext cx="3744720" cy="180000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39" name="Picture 8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5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ensing master mix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abel PCR tubes in line with numbers of specimens and controls on your work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lace PCR tubes onto the PCR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pense 4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master mix into each PCR tube using filtered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of same sterile, molecular grade water used to prepare master mix into negative control PCR 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ose PCR tubes with PCR tube caps and place them in a sterile glass beaker covered with aluminum foil (make holes in the foil for via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048360" cy="2663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44" name="Picture 6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6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of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2104920"/>
            <a:ext cx="79246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each use, clean pipettes, racks, instruments and the BSC with freshly diluted 0.5% bleach (20 minutes), followed by 70% alcohol and UV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rea-dedicated spray flasks or beakers (separate beakers for surface cleaning and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</cp:lastModifiedBy>
  <dcterms:modified xsi:type="dcterms:W3CDTF">2012-01-26T09:51:43Z</dcterms:modified>
  <cp:revision>357</cp:revision>
  <dc:subject/>
  <dc:title>PowerPoint Presentation</dc:title>
</cp:coreProperties>
</file>