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wmf" ContentType="image/x-wmf"/>
  <Override PartName="/ppt/media/image18.wmf" ContentType="image/x-wmf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8CE4-B293-4D75-AFDF-2BFED53C8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06D1-8D7A-479D-9063-FF55D00E5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9746-1902-494C-B5E5-171BFAA82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7ADE-37F1-40A8-B613-F8971E9E4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58E9-D8AB-4F0A-A398-72E457893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A8B4-1B28-43C0-B0AA-21B36B24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2115-A15A-4FC5-81B9-8DB55042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45A7-EE23-4BFE-8161-169598838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03FF-EB66-4285-A7FC-AC1A28F6B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79C4-278C-4219-AEA3-F8657665A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C44E-8308-4FE1-8A26-25538195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B4EE-E310-4A61-A69E-3351ABF9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48DF-06F5-4C95-B477-1534699BC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36C2-191D-4F51-B11E-58AF70B9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4955-E43E-4B7E-88F6-6349403A4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CCEA-7E47-4FA8-8FB8-583E0E841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0A4F-9D9B-4F17-B7A7-B19B1A425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B167-896F-4604-9B23-16013C970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BD4C-F38A-4F02-9279-92232D899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B0D-DE05-4891-BAD1-9219F116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C01-B0B7-4733-B788-4775B1CC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967-F29B-45FB-8874-283F6DE1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AE0-FA2B-4963-97AF-B3E3226D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2B9E-0F80-49C6-AB59-7C068C04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6039-3057-40FF-A8BA-59D3216C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6594-6FDA-4618-BDF6-7054F682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2441-A587-4ADF-B708-5089698E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BF65-0021-4737-B4E9-E197F54E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63BC-1DC8-47C4-BE39-57E7E672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9A79-AC60-4B11-B870-BF6C8AA2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517-ECE2-4A46-AE71-5CB99B3D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F477-EF0B-454A-BD9D-1FBCB9C8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035F-3588-4428-893B-00DA7940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1C53-D3C6-4314-A71F-B993D8B1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D195-CA89-49BD-9DCF-D86DF626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6B87-1FE4-44B9-A359-6826CDBF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871-F7CF-464B-B170-30C53FF4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BB4-3F1B-40B3-ABC0-4308453B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5FD-6732-47F9-A6D9-4EDC61DF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E06-8BE0-4F75-ABEC-6E166A60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15C-5F31-44A3-822D-7C7DB888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E31-2063-4EC9-BAC2-7CB5956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98A-B6FD-419A-9C58-906121F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106A-30AA-43EA-B3B4-47EC3EA1A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6C0E-63D8-4579-806A-6C74FA845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13840" y="1481040"/>
            <a:ext cx="8472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6F01-2753-4C33-A4C2-53EF49E30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4200" y="1357200"/>
            <a:ext cx="8715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oimg_GC00289142_CA00289148.jpg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32" name="Title 2" descr=""/>
          <p:cNvPicPr/>
          <p:nvPr/>
        </p:nvPicPr>
        <p:blipFill>
          <a:blip r:embed="rId2"/>
          <a:stretch/>
        </p:blipFill>
        <p:spPr>
          <a:xfrm>
            <a:off x="487440" y="285912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214200" y="4000680"/>
            <a:ext cx="86439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activate vegetative bacte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waterbath.jpg"/>
          <p:cNvPicPr/>
          <p:nvPr/>
        </p:nvPicPr>
        <p:blipFill>
          <a:blip r:embed="rId3"/>
          <a:stretch/>
        </p:blipFill>
        <p:spPr>
          <a:xfrm>
            <a:off x="6072120" y="3225960"/>
            <a:ext cx="2857680" cy="346536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6350-87CF-4370-AF34-D6AAFE9E2C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13840" y="148104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E8D5-80BB-415D-96F1-E64333FBE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http://www.keison.co.uk/products/grant/qbd2.jpg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7ED5-F3FD-4DF8-9F0F-19BB8412C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0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EE9D-3F7A-4903-BD27-497F96372D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nic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sound waves agitate particles and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itation bubbles implode and generate powerful shockwaves that disrupt bacterial cel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Ultrasonic_Baths_Sonicator_.jpg"/>
          <p:cNvPicPr/>
          <p:nvPr/>
        </p:nvPicPr>
        <p:blipFill>
          <a:blip r:embed="rId1"/>
          <a:stretch/>
        </p:blipFill>
        <p:spPr>
          <a:xfrm>
            <a:off x="5334120" y="1143000"/>
            <a:ext cx="2438280" cy="23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onication_600.jpg"/>
          <p:cNvPicPr/>
          <p:nvPr/>
        </p:nvPicPr>
        <p:blipFill>
          <a:blip r:embed="rId2"/>
          <a:stretch/>
        </p:blipFill>
        <p:spPr>
          <a:xfrm>
            <a:off x="4800600" y="3657600"/>
            <a:ext cx="3489480" cy="2514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B4B1-58E1-425A-B23B-6A389EC74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85480" y="148104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l chamber with deionized water and de-gas to remove bub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place items directly on the bottom of the un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sure tubes are submerged in the water and the lids are floating on 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tenan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in water out of cha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n inside and outside chamber with a soft clo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touch coils on bot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 with deionized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nic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195A-8BD0-48C2-BCC6-05330E794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13840" y="1481040"/>
            <a:ext cx="8472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4" descr="205030.jpg"/>
          <p:cNvPicPr/>
          <p:nvPr/>
        </p:nvPicPr>
        <p:blipFill>
          <a:blip r:embed="rId1"/>
          <a:stretch/>
        </p:blipFill>
        <p:spPr>
          <a:xfrm>
            <a:off x="6307200" y="3276720"/>
            <a:ext cx="2479680" cy="322416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F6AA-9F3B-4322-9260-69F22F1BF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3840" y="148104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B32F-5733-4965-926C-08405E85D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481040"/>
            <a:ext cx="85726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Thermocycler_.jpg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26CA-A679-44E5-9744-E465FEBF4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D048-DA23-485A-A140-B2F7B20862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0722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13840" y="1481040"/>
            <a:ext cx="85726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twin-cubator.jpg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934320" y="4267080"/>
            <a:ext cx="1985760" cy="183384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D702-B506-4E5A-9E14-0AC99B303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13840" y="148104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before and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hain_twincubator.jpg"/>
          <p:cNvPicPr/>
          <p:nvPr/>
        </p:nvPicPr>
        <p:blipFill>
          <a:blip r:embed="rId1"/>
          <a:stretch/>
        </p:blipFill>
        <p:spPr>
          <a:xfrm>
            <a:off x="3276720" y="3657600"/>
            <a:ext cx="2514600" cy="245916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0C9D-9E60-4387-B506-4CEF2B201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384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T-Blot 20 and GT-Blot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gt-blot48.jpg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4786200" y="3852720"/>
            <a:ext cx="3857760" cy="2719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gt-blot20.jpg"/>
          <p:cNvPicPr/>
          <p:nvPr/>
        </p:nvPicPr>
        <p:blipFill>
          <a:blip r:embed="rId2"/>
          <a:srcRect l="6406" t="0" r="7817" b="0"/>
          <a:stretch/>
        </p:blipFill>
        <p:spPr>
          <a:xfrm>
            <a:off x="571680" y="3716280"/>
            <a:ext cx="3429000" cy="299880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4731-BC4D-40B8-998A-EAA70FA6C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-360"/>
            <a:ext cx="8400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Picture Scanner.JPG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795B-E52D-4404-AB09-8CDBD7A5D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13840" y="142884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before and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 the plastic tray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with bleach once a week an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tray in the bl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8032-C93C-4B61-9044-3B5CFFC109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A6C2-6566-4C0E-A4E8-239B57179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DD02-CB22-425C-99C6-D97E1D2BD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FA64-8935-4497-B529-B4BDEB7AEF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0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CE1D-7CB7-498E-B331-2E918B173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378C-634C-4702-BF25-6CE0E9288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0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Away removes nucleic acid contamination from pipettes and metal and plastic surf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CD24-B298-4586-B644-41160C172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 MTBDRplus equi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391B-A6AE-4680-B856-2A930F668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13840" y="121392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2508R58.jpg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74320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41m8yZAUWmL__Best-Laboratory-Equipment_.jpg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2C07-332B-4A90-8AAA-B1C5765A6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IRAGENA, Jean de Dieu</cp:lastModifiedBy>
  <dcterms:modified xsi:type="dcterms:W3CDTF">2012-10-23T09:18:43Z</dcterms:modified>
  <cp:revision>43</cp:revision>
  <dc:subject/>
  <dc:title>Slide 1</dc:title>
</cp:coreProperties>
</file>