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B863-928F-495B-9F65-E19B5957C2F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9BA8-6FFC-4C52-8715-29061C4273B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2104-8FF7-4B50-BCA7-E43AFA5EE9B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D569-D4DA-4BB3-A4BA-2F28F4F4B9D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DD3C-8BD0-44F9-A4E1-8243BA0C35D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F154-1480-4AF6-9C78-B837A174982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BABC-F884-472A-919C-C5BB0C35C26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60B2-83AE-4124-86D2-8EBE979AFB1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2EE5-F7D9-452E-8A61-F84AEB2E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16BF-6C5B-4A68-9809-D007C1AD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576-EA08-409B-B930-255B97CE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2EB-B264-4A10-925D-9D82DCC0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B293-AA44-4976-B33D-3CB67CD6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09AD-9338-4B54-9AE7-5887F9C0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FB63-4BEB-4410-ABAF-3C1DB982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1162-B5EF-485D-83D8-1E7B6722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F4E1-93A6-4CE0-8F0B-EECC6F1F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72A2-9127-4784-977B-6BF75D81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ABFB-756E-4421-BCFB-D5C9E3FE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CDF0-A469-4E98-AFAA-716FD778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1AD2-B078-454A-B251-B52162BF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802B-08BD-4E25-B009-03592B72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9F5A-C304-4A1F-9005-7CFD1F19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812F-3189-4C01-987D-AB0D4AE0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B623-FF5D-44DD-A999-8EF48C52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6AE-3B63-4DC2-B7DB-6A35A615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1676-2E6D-43A2-8EED-8283C3C1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162-74E7-4376-A01A-03C583E3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A711-0C6F-4E21-BA18-83E3C06A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86A-C568-4A76-8666-E0DBFFB3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470-7301-4229-96FF-27BECC1B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009-98D0-459F-82CB-F3DA38E0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B8CE-FA4F-4028-A04A-C2710D72DA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19FB-42EB-4F34-994C-AC2F11AA47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ing and reporting of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BA11-6F50-425F-A0C3-227FDBD203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95280" y="1484280"/>
            <a:ext cx="82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U values around 1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the drug-containing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olate can have a borderline resistance (typically a MIC near the test concen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will interpret strictly according to th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 = 99, interpretation is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=100, interpretation is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GU for drugs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history of DST results for patients and examine borderlin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715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8979-1C82-4A30-96E1-3722599967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00040" y="1571760"/>
            <a:ext cx="8001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atus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ubes that encounter any type of error 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indetermin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42960" y="2219400"/>
            <a:ext cx="8072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tube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not positive within 13 days (SIRE) or 21 days (PZ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under-inoc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positive too soon (&lt; 4 day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over-inoculated or conta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643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C420-358C-4EE7-9731-F0D2327F18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1593720"/>
            <a:ext cx="77724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ALWAYS calls the ENTIRE DST SET invalid, NEVER one tube within th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shows sub-codes (for the E92 DST set error) printed beneath the respective tube within a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0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al mi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2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sufficient growth in GC within 13 or 21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4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-inoculation or conta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e BACTEC MGIT 960 Systems User’s Manual for a complete list of error co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015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sets: What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int an Inventory Control report for the drawer(s) with errors before scanning out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control report prints GU for GC drug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tatus of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Growth Control GU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tubes GU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print inventory control if tubes are removed (unless epi centre is insta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D594-DAC2-4B35-8EC6-AA8272E95C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9640" y="1483920"/>
            <a:ext cx="7632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ll invalid 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ate new MGIT seed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GU for GC and drugs on failed D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C was not zero, look at age of MGIT tube when DST was set. A 1:5 dilution on day 3 may give a lower bacterial concentration. Consider resetting the DST set on Day 2 (undiluted) or wait for Day 5 (diluted) to have more bacteri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with GU = 0, may not be ino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A8D0-261E-4CC4-80F5-95C4689A33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3743-9DE1-4779-BBD0-7CA89F8159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76440" y="32544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 Reading MGIT 960 DST:  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76440" y="1357200"/>
            <a:ext cx="80388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monitors DST set [drugs and Growth Control (GC) tub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s susceptibility automatically (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rowth Control GU reaches 400, the instrument evaluates dru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≤100 = Suscep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&gt;100 =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around 100 = usually borderline (interpreted S or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utomatically interpreted:  S o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o heavy or too light inoculum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‘X’ (indetermin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4B9D-C83A-4746-84CA-14981CE03D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42960" y="1285920"/>
            <a:ext cx="7929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ure that the culture it is not contaminated by NTM or other bacteria (check the medium visually, look for turbidity, ZN smear, purity on blood agar and 7H10 pl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mono-resistance against RIF, PZA or E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 to verify resistance before repo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o-resistance to P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uncommon bu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. bovi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. bov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G, is naturally resistant to P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a new patient isolate found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nfirm the resistance by the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ame or different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un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EBF9-258E-4E6E-924C-B7D512A6D7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0008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42884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Rectangle 6" descr=""/>
          <p:cNvPicPr/>
          <p:nvPr/>
        </p:nvPicPr>
        <p:blipFill>
          <a:blip r:embed="rId1"/>
          <a:stretch/>
        </p:blipFill>
        <p:spPr>
          <a:xfrm>
            <a:off x="566640" y="1378080"/>
            <a:ext cx="8089920" cy="503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1071720" y="2357280"/>
          <a:ext cx="2428560" cy="1793880"/>
        </p:xfrm>
        <a:graphic>
          <a:graphicData uri="http://schemas.openxmlformats.org/drawingml/2006/table">
            <a:tbl>
              <a:tblPr/>
              <a:tblGrid>
                <a:gridCol w="571320"/>
                <a:gridCol w="928800"/>
                <a:gridCol w="928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ri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57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C6CC-4D62-4EDB-B941-064E4BCAE6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398600" y="1500120"/>
            <a:ext cx="538812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and identification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 culture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cultur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DST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log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/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st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of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857160" y="142920"/>
            <a:ext cx="745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97BA-15ED-4F27-B03D-C83A659AE6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57160" y="142920"/>
            <a:ext cx="70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71680" y="1743120"/>
            <a:ext cx="77724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results immediately on DST worksheet and 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ways check agreement between lab serial number on tube and number in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for clerical err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E221-D1C7-4626-BB91-63EF209BEE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utomatic quantitative read and qualitative interpretati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co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in the laboratory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. tuberculos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l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on WHO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14E3-B03E-43D3-9936-99F60A4F65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Report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00040" y="1500120"/>
            <a:ext cx="82868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have to specifically indic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of the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and concentration of the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ative result: “Susceptible” or “Resistan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1"/>
          <a:srcRect l="44150" t="819" r="20964" b="0"/>
          <a:stretch/>
        </p:blipFill>
        <p:spPr>
          <a:xfrm>
            <a:off x="4143240" y="5818320"/>
            <a:ext cx="3241800" cy="39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2"/>
          <a:srcRect l="0" t="0" r="22809" b="0"/>
          <a:stretch/>
        </p:blipFill>
        <p:spPr>
          <a:xfrm>
            <a:off x="932040" y="3571920"/>
            <a:ext cx="7140240" cy="2249280"/>
          </a:xfrm>
          <a:prstGeom prst="rect">
            <a:avLst/>
          </a:prstGeom>
          <a:ln w="28440">
            <a:solidFill>
              <a:srgbClr val="1f1f99"/>
            </a:solidFill>
            <a:miter/>
          </a:ln>
        </p:spPr>
      </p:pic>
      <p:pic>
        <p:nvPicPr>
          <p:cNvPr id="200" name="Picture 10" descr=""/>
          <p:cNvPicPr/>
          <p:nvPr/>
        </p:nvPicPr>
        <p:blipFill>
          <a:blip r:embed="rId3"/>
          <a:srcRect l="0" t="28649" r="74466" b="0"/>
          <a:stretch/>
        </p:blipFill>
        <p:spPr>
          <a:xfrm>
            <a:off x="1652760" y="5929200"/>
            <a:ext cx="2371680" cy="2858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2801520" y="321480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99"/>
                </a:solidFill>
                <a:latin typeface="Arial"/>
              </a:rPr>
              <a:t>DST final report on WH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791C-674E-471B-8EB7-0AF9C21929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 higher concentration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755640" y="3068640"/>
            <a:ext cx="70722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H resistant at low concentration, send a prelimin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 indicates the presence of low-level INH resistance.  Testing at the higher level of INH will be performed.  A specialist in the treatment of tuberculosis should be consulted concerning the appropriate therapeutic regimen and dosage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88720" y="1773360"/>
            <a:ext cx="838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– Laboratory dependent. Report only if a hig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INH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385E-C567-43D8-9A9B-92E270AB54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-around time for D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71680" y="2003400"/>
            <a:ext cx="792936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ays from specimen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days after isolation of MT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validated DST results as soon as they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elephone/fax/computer/messenger with a follow-up hard cop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questing physician, infection control staff, and the local tuberculosis contro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Assurance Indic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number of days for each final DST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41BE-200F-4816-9CA9-B915A786B16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15EE-D2DD-4AA2-AE6C-74E9C98608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017720" y="1357200"/>
            <a:ext cx="56260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MGIT 960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aded AST se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of D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xpected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oratory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8D2A-98FE-4418-9AFA-DB59C08741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000080" y="165744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TEC MGIT 960 instrument continuously monitors the fluorescence of tubes in terms of Growth Units (GU, quanti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285920" y="3143160"/>
            <a:ext cx="4500360" cy="2857680"/>
            <a:chOff x="1285920" y="3143160"/>
            <a:chExt cx="4500360" cy="285768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rcRect l="10814" t="17436" r="5521" b="17091"/>
            <a:stretch/>
          </p:blipFill>
          <p:spPr>
            <a:xfrm>
              <a:off x="1285920" y="3143160"/>
              <a:ext cx="450036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3"/>
            <p:cNvSpPr/>
            <p:nvPr/>
          </p:nvSpPr>
          <p:spPr>
            <a:xfrm>
              <a:off x="1863720" y="3444840"/>
              <a:ext cx="28083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"/>
            <p:cNvSpPr/>
            <p:nvPr/>
          </p:nvSpPr>
          <p:spPr>
            <a:xfrm>
              <a:off x="2035080" y="3666960"/>
              <a:ext cx="160308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4713120" y="4983120"/>
              <a:ext cx="66024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5"/>
          <p:cNvSpPr/>
          <p:nvPr/>
        </p:nvSpPr>
        <p:spPr>
          <a:xfrm>
            <a:off x="6357960" y="3936960"/>
            <a:ext cx="2000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7"/>
          <p:cNvSpPr/>
          <p:nvPr/>
        </p:nvSpPr>
        <p:spPr>
          <a:xfrm>
            <a:off x="6500880" y="4572000"/>
            <a:ext cx="428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4A01-F054-4312-8BF9-5F42594FC8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42960" y="171612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owth contr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es a GU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 4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 for SIRE and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days for PZ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efined algorithms compare the GU of drug containing tubes with the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0"/>
          <p:cNvGrpSpPr/>
          <p:nvPr/>
        </p:nvGrpSpPr>
        <p:grpSpPr>
          <a:xfrm>
            <a:off x="1928880" y="3500280"/>
            <a:ext cx="3857400" cy="2357640"/>
            <a:chOff x="1928880" y="3500280"/>
            <a:chExt cx="3857400" cy="235764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rcRect l="10817" t="17433" r="5522" b="17093"/>
            <a:stretch/>
          </p:blipFill>
          <p:spPr>
            <a:xfrm>
              <a:off x="1928880" y="3500280"/>
              <a:ext cx="3857400" cy="23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22"/>
            <p:cNvSpPr/>
            <p:nvPr/>
          </p:nvSpPr>
          <p:spPr>
            <a:xfrm>
              <a:off x="2422440" y="3747960"/>
              <a:ext cx="2408040" cy="128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3"/>
            <p:cNvSpPr/>
            <p:nvPr/>
          </p:nvSpPr>
          <p:spPr>
            <a:xfrm>
              <a:off x="2570040" y="3933720"/>
              <a:ext cx="1376280" cy="149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4"/>
            <p:cNvSpPr/>
            <p:nvPr/>
          </p:nvSpPr>
          <p:spPr>
            <a:xfrm>
              <a:off x="4865760" y="5018040"/>
              <a:ext cx="56664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5"/>
          <p:cNvSpPr/>
          <p:nvPr/>
        </p:nvSpPr>
        <p:spPr>
          <a:xfrm>
            <a:off x="6572160" y="4222800"/>
            <a:ext cx="200052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6"/>
          <p:cNvSpPr/>
          <p:nvPr/>
        </p:nvSpPr>
        <p:spPr>
          <a:xfrm>
            <a:off x="6715080" y="4857840"/>
            <a:ext cx="428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419D-8CBE-4BC0-AFD1-9069B97C9F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643800" y="3857760"/>
            <a:ext cx="1928880" cy="21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oniazi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eptomy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ifampi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hambut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10817" t="17441" r="5521" b="17467"/>
          <a:stretch/>
        </p:blipFill>
        <p:spPr>
          <a:xfrm>
            <a:off x="3143160" y="3916440"/>
            <a:ext cx="3214800" cy="210492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15"/>
          <p:cNvSpPr/>
          <p:nvPr/>
        </p:nvSpPr>
        <p:spPr>
          <a:xfrm>
            <a:off x="6715080" y="4680000"/>
            <a:ext cx="482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6"/>
          <p:cNvSpPr/>
          <p:nvPr/>
        </p:nvSpPr>
        <p:spPr>
          <a:xfrm>
            <a:off x="6715080" y="4929120"/>
            <a:ext cx="48276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7"/>
          <p:cNvSpPr/>
          <p:nvPr/>
        </p:nvSpPr>
        <p:spPr>
          <a:xfrm>
            <a:off x="6715080" y="5199120"/>
            <a:ext cx="48276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8"/>
          <p:cNvSpPr/>
          <p:nvPr/>
        </p:nvSpPr>
        <p:spPr>
          <a:xfrm>
            <a:off x="6715080" y="5429160"/>
            <a:ext cx="4827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>
            <a:off x="6715080" y="5715000"/>
            <a:ext cx="48276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11280" y="119700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Control GU reading is 400 for vali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qualitatively interpreted from the GU of the drug-containin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GU &lt; 10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d as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Susceptibl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”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U &gt;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terpreted as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357120" y="443376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MTBC 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ceptible to E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t to INH-RIF-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7"/>
          <p:cNvSpPr/>
          <p:nvPr/>
        </p:nvSpPr>
        <p:spPr>
          <a:xfrm>
            <a:off x="4510080" y="4103640"/>
            <a:ext cx="609480" cy="1282680"/>
          </a:xfrm>
          <a:custGeom>
            <a:avLst/>
            <a:gdLst>
              <a:gd name="textAreaLeft" fmla="*/ 0 w 609480"/>
              <a:gd name="textAreaRight" fmla="*/ 609840 w 60948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609600" h="1281113">
                <a:moveTo>
                  <a:pt x="609600" y="0"/>
                </a:moveTo>
                <a:cubicBezTo>
                  <a:pt x="607219" y="1588"/>
                  <a:pt x="604480" y="2739"/>
                  <a:pt x="602456" y="4763"/>
                </a:cubicBezTo>
                <a:cubicBezTo>
                  <a:pt x="593607" y="13612"/>
                  <a:pt x="597034" y="22804"/>
                  <a:pt x="595312" y="35719"/>
                </a:cubicBezTo>
                <a:cubicBezTo>
                  <a:pt x="594777" y="39731"/>
                  <a:pt x="593503" y="43618"/>
                  <a:pt x="592931" y="47625"/>
                </a:cubicBezTo>
                <a:cubicBezTo>
                  <a:pt x="591915" y="54741"/>
                  <a:pt x="591732" y="61967"/>
                  <a:pt x="590550" y="69057"/>
                </a:cubicBezTo>
                <a:cubicBezTo>
                  <a:pt x="590137" y="71533"/>
                  <a:pt x="588858" y="73787"/>
                  <a:pt x="588168" y="76200"/>
                </a:cubicBezTo>
                <a:cubicBezTo>
                  <a:pt x="587269" y="79347"/>
                  <a:pt x="586581" y="82550"/>
                  <a:pt x="585787" y="85725"/>
                </a:cubicBezTo>
                <a:cubicBezTo>
                  <a:pt x="584993" y="93663"/>
                  <a:pt x="584619" y="101653"/>
                  <a:pt x="583406" y="109538"/>
                </a:cubicBezTo>
                <a:cubicBezTo>
                  <a:pt x="582512" y="115348"/>
                  <a:pt x="578457" y="121086"/>
                  <a:pt x="576262" y="126207"/>
                </a:cubicBezTo>
                <a:cubicBezTo>
                  <a:pt x="573516" y="132613"/>
                  <a:pt x="572897" y="138269"/>
                  <a:pt x="571500" y="145257"/>
                </a:cubicBezTo>
                <a:cubicBezTo>
                  <a:pt x="570706" y="154782"/>
                  <a:pt x="570235" y="164339"/>
                  <a:pt x="569118" y="173832"/>
                </a:cubicBezTo>
                <a:cubicBezTo>
                  <a:pt x="568645" y="177852"/>
                  <a:pt x="567210" y="181718"/>
                  <a:pt x="566737" y="185738"/>
                </a:cubicBezTo>
                <a:cubicBezTo>
                  <a:pt x="565620" y="195231"/>
                  <a:pt x="566819" y="205078"/>
                  <a:pt x="564356" y="214313"/>
                </a:cubicBezTo>
                <a:cubicBezTo>
                  <a:pt x="563488" y="217567"/>
                  <a:pt x="559593" y="219076"/>
                  <a:pt x="557212" y="221457"/>
                </a:cubicBezTo>
                <a:cubicBezTo>
                  <a:pt x="556418" y="223838"/>
                  <a:pt x="554831" y="226090"/>
                  <a:pt x="554831" y="228600"/>
                </a:cubicBezTo>
                <a:cubicBezTo>
                  <a:pt x="554831" y="244581"/>
                  <a:pt x="560204" y="247022"/>
                  <a:pt x="554831" y="259557"/>
                </a:cubicBezTo>
                <a:cubicBezTo>
                  <a:pt x="553704" y="262187"/>
                  <a:pt x="552222" y="264816"/>
                  <a:pt x="550068" y="266700"/>
                </a:cubicBezTo>
                <a:cubicBezTo>
                  <a:pt x="545760" y="270469"/>
                  <a:pt x="535781" y="276225"/>
                  <a:pt x="535781" y="276225"/>
                </a:cubicBezTo>
                <a:cubicBezTo>
                  <a:pt x="536575" y="278606"/>
                  <a:pt x="536594" y="281409"/>
                  <a:pt x="538162" y="283369"/>
                </a:cubicBezTo>
                <a:cubicBezTo>
                  <a:pt x="539950" y="285604"/>
                  <a:pt x="545068" y="285280"/>
                  <a:pt x="545306" y="288132"/>
                </a:cubicBezTo>
                <a:cubicBezTo>
                  <a:pt x="546006" y="296536"/>
                  <a:pt x="541256" y="309806"/>
                  <a:pt x="538162" y="319088"/>
                </a:cubicBezTo>
                <a:cubicBezTo>
                  <a:pt x="537368" y="330200"/>
                  <a:pt x="537011" y="341352"/>
                  <a:pt x="535781" y="352425"/>
                </a:cubicBezTo>
                <a:cubicBezTo>
                  <a:pt x="535420" y="355678"/>
                  <a:pt x="533749" y="358696"/>
                  <a:pt x="533400" y="361950"/>
                </a:cubicBezTo>
                <a:cubicBezTo>
                  <a:pt x="531363" y="380957"/>
                  <a:pt x="530225" y="400050"/>
                  <a:pt x="528637" y="419100"/>
                </a:cubicBezTo>
                <a:cubicBezTo>
                  <a:pt x="528399" y="421952"/>
                  <a:pt x="525155" y="423684"/>
                  <a:pt x="523875" y="426244"/>
                </a:cubicBezTo>
                <a:cubicBezTo>
                  <a:pt x="514016" y="445962"/>
                  <a:pt x="530378" y="420059"/>
                  <a:pt x="516731" y="440532"/>
                </a:cubicBezTo>
                <a:cubicBezTo>
                  <a:pt x="515143" y="450057"/>
                  <a:pt x="515021" y="459946"/>
                  <a:pt x="511968" y="469107"/>
                </a:cubicBezTo>
                <a:cubicBezTo>
                  <a:pt x="510381" y="473869"/>
                  <a:pt x="508031" y="478442"/>
                  <a:pt x="507206" y="483394"/>
                </a:cubicBezTo>
                <a:cubicBezTo>
                  <a:pt x="506290" y="488891"/>
                  <a:pt x="505376" y="498959"/>
                  <a:pt x="502443" y="504825"/>
                </a:cubicBezTo>
                <a:cubicBezTo>
                  <a:pt x="493861" y="521988"/>
                  <a:pt x="501257" y="500646"/>
                  <a:pt x="492918" y="521494"/>
                </a:cubicBezTo>
                <a:cubicBezTo>
                  <a:pt x="491054" y="526155"/>
                  <a:pt x="489743" y="531019"/>
                  <a:pt x="488156" y="535782"/>
                </a:cubicBezTo>
                <a:lnTo>
                  <a:pt x="485775" y="542925"/>
                </a:lnTo>
                <a:cubicBezTo>
                  <a:pt x="484981" y="545306"/>
                  <a:pt x="484002" y="547634"/>
                  <a:pt x="483393" y="550069"/>
                </a:cubicBezTo>
                <a:cubicBezTo>
                  <a:pt x="476335" y="578304"/>
                  <a:pt x="487162" y="533604"/>
                  <a:pt x="478631" y="576263"/>
                </a:cubicBezTo>
                <a:cubicBezTo>
                  <a:pt x="478139" y="578724"/>
                  <a:pt x="476940" y="580993"/>
                  <a:pt x="476250" y="583407"/>
                </a:cubicBezTo>
                <a:cubicBezTo>
                  <a:pt x="475351" y="586554"/>
                  <a:pt x="474767" y="589785"/>
                  <a:pt x="473868" y="592932"/>
                </a:cubicBezTo>
                <a:cubicBezTo>
                  <a:pt x="473178" y="595345"/>
                  <a:pt x="472147" y="597654"/>
                  <a:pt x="471487" y="600075"/>
                </a:cubicBezTo>
                <a:cubicBezTo>
                  <a:pt x="469765" y="606390"/>
                  <a:pt x="468313" y="612775"/>
                  <a:pt x="466725" y="619125"/>
                </a:cubicBezTo>
                <a:cubicBezTo>
                  <a:pt x="465395" y="624445"/>
                  <a:pt x="461896" y="639466"/>
                  <a:pt x="459581" y="642938"/>
                </a:cubicBezTo>
                <a:lnTo>
                  <a:pt x="454818" y="650082"/>
                </a:lnTo>
                <a:cubicBezTo>
                  <a:pt x="454024" y="655638"/>
                  <a:pt x="453441" y="661228"/>
                  <a:pt x="452437" y="666750"/>
                </a:cubicBezTo>
                <a:cubicBezTo>
                  <a:pt x="449470" y="683067"/>
                  <a:pt x="451073" y="669828"/>
                  <a:pt x="447675" y="683419"/>
                </a:cubicBezTo>
                <a:cubicBezTo>
                  <a:pt x="444279" y="697003"/>
                  <a:pt x="446576" y="692636"/>
                  <a:pt x="442912" y="704850"/>
                </a:cubicBezTo>
                <a:cubicBezTo>
                  <a:pt x="441470" y="709659"/>
                  <a:pt x="439738" y="714375"/>
                  <a:pt x="438150" y="719138"/>
                </a:cubicBezTo>
                <a:cubicBezTo>
                  <a:pt x="437356" y="721519"/>
                  <a:pt x="437160" y="724193"/>
                  <a:pt x="435768" y="726282"/>
                </a:cubicBezTo>
                <a:lnTo>
                  <a:pt x="426243" y="740569"/>
                </a:lnTo>
                <a:cubicBezTo>
                  <a:pt x="425449" y="742950"/>
                  <a:pt x="425254" y="745624"/>
                  <a:pt x="423862" y="747713"/>
                </a:cubicBezTo>
                <a:cubicBezTo>
                  <a:pt x="411970" y="765552"/>
                  <a:pt x="419999" y="745015"/>
                  <a:pt x="414337" y="762000"/>
                </a:cubicBezTo>
                <a:cubicBezTo>
                  <a:pt x="413691" y="765875"/>
                  <a:pt x="412366" y="778408"/>
                  <a:pt x="409575" y="783432"/>
                </a:cubicBezTo>
                <a:cubicBezTo>
                  <a:pt x="406795" y="788435"/>
                  <a:pt x="401860" y="792289"/>
                  <a:pt x="400050" y="797719"/>
                </a:cubicBezTo>
                <a:cubicBezTo>
                  <a:pt x="399256" y="800100"/>
                  <a:pt x="398887" y="802669"/>
                  <a:pt x="397668" y="804863"/>
                </a:cubicBezTo>
                <a:cubicBezTo>
                  <a:pt x="394888" y="809866"/>
                  <a:pt x="391318" y="814388"/>
                  <a:pt x="388143" y="819150"/>
                </a:cubicBezTo>
                <a:lnTo>
                  <a:pt x="383381" y="826294"/>
                </a:lnTo>
                <a:cubicBezTo>
                  <a:pt x="382587" y="842963"/>
                  <a:pt x="385500" y="860231"/>
                  <a:pt x="381000" y="876300"/>
                </a:cubicBezTo>
                <a:cubicBezTo>
                  <a:pt x="379457" y="881812"/>
                  <a:pt x="366712" y="885825"/>
                  <a:pt x="366712" y="885825"/>
                </a:cubicBezTo>
                <a:cubicBezTo>
                  <a:pt x="365125" y="888206"/>
                  <a:pt x="363230" y="890409"/>
                  <a:pt x="361950" y="892969"/>
                </a:cubicBezTo>
                <a:cubicBezTo>
                  <a:pt x="352091" y="912687"/>
                  <a:pt x="368453" y="886784"/>
                  <a:pt x="354806" y="907257"/>
                </a:cubicBezTo>
                <a:cubicBezTo>
                  <a:pt x="351440" y="924089"/>
                  <a:pt x="353706" y="915319"/>
                  <a:pt x="347662" y="933450"/>
                </a:cubicBezTo>
                <a:cubicBezTo>
                  <a:pt x="346868" y="935831"/>
                  <a:pt x="347369" y="939202"/>
                  <a:pt x="345281" y="940594"/>
                </a:cubicBezTo>
                <a:cubicBezTo>
                  <a:pt x="331640" y="949689"/>
                  <a:pt x="344285" y="940114"/>
                  <a:pt x="330993" y="954882"/>
                </a:cubicBezTo>
                <a:cubicBezTo>
                  <a:pt x="326488" y="959888"/>
                  <a:pt x="316706" y="969169"/>
                  <a:pt x="316706" y="969169"/>
                </a:cubicBezTo>
                <a:cubicBezTo>
                  <a:pt x="315118" y="973932"/>
                  <a:pt x="314188" y="978967"/>
                  <a:pt x="311943" y="983457"/>
                </a:cubicBezTo>
                <a:cubicBezTo>
                  <a:pt x="310356" y="986632"/>
                  <a:pt x="308499" y="989686"/>
                  <a:pt x="307181" y="992982"/>
                </a:cubicBezTo>
                <a:cubicBezTo>
                  <a:pt x="298585" y="1014471"/>
                  <a:pt x="307468" y="1000535"/>
                  <a:pt x="295275" y="1016794"/>
                </a:cubicBezTo>
                <a:cubicBezTo>
                  <a:pt x="287837" y="1039101"/>
                  <a:pt x="300021" y="1006107"/>
                  <a:pt x="285750" y="1031082"/>
                </a:cubicBezTo>
                <a:cubicBezTo>
                  <a:pt x="284126" y="1033924"/>
                  <a:pt x="284657" y="1037599"/>
                  <a:pt x="283368" y="1040607"/>
                </a:cubicBezTo>
                <a:cubicBezTo>
                  <a:pt x="280193" y="1048015"/>
                  <a:pt x="277812" y="1048279"/>
                  <a:pt x="271462" y="1052513"/>
                </a:cubicBezTo>
                <a:cubicBezTo>
                  <a:pt x="269875" y="1054894"/>
                  <a:pt x="268532" y="1057458"/>
                  <a:pt x="266700" y="1059657"/>
                </a:cubicBezTo>
                <a:cubicBezTo>
                  <a:pt x="264544" y="1062244"/>
                  <a:pt x="261424" y="1063998"/>
                  <a:pt x="259556" y="1066800"/>
                </a:cubicBezTo>
                <a:cubicBezTo>
                  <a:pt x="258164" y="1068889"/>
                  <a:pt x="258164" y="1071637"/>
                  <a:pt x="257175" y="1073944"/>
                </a:cubicBezTo>
                <a:cubicBezTo>
                  <a:pt x="255777" y="1077207"/>
                  <a:pt x="253810" y="1080206"/>
                  <a:pt x="252412" y="1083469"/>
                </a:cubicBezTo>
                <a:cubicBezTo>
                  <a:pt x="249616" y="1089993"/>
                  <a:pt x="248243" y="1102320"/>
                  <a:pt x="240506" y="1104900"/>
                </a:cubicBezTo>
                <a:lnTo>
                  <a:pt x="233362" y="1107282"/>
                </a:lnTo>
                <a:cubicBezTo>
                  <a:pt x="231775" y="1109663"/>
                  <a:pt x="229762" y="1111810"/>
                  <a:pt x="228600" y="1114425"/>
                </a:cubicBezTo>
                <a:cubicBezTo>
                  <a:pt x="226561" y="1119013"/>
                  <a:pt x="228014" y="1125928"/>
                  <a:pt x="223837" y="1128713"/>
                </a:cubicBezTo>
                <a:cubicBezTo>
                  <a:pt x="217485" y="1132947"/>
                  <a:pt x="214488" y="1134270"/>
                  <a:pt x="209550" y="1140619"/>
                </a:cubicBezTo>
                <a:cubicBezTo>
                  <a:pt x="194593" y="1159851"/>
                  <a:pt x="206710" y="1150451"/>
                  <a:pt x="192881" y="1159669"/>
                </a:cubicBezTo>
                <a:cubicBezTo>
                  <a:pt x="181964" y="1176046"/>
                  <a:pt x="188786" y="1172147"/>
                  <a:pt x="176212" y="1176338"/>
                </a:cubicBezTo>
                <a:cubicBezTo>
                  <a:pt x="173831" y="1178719"/>
                  <a:pt x="171224" y="1180895"/>
                  <a:pt x="169068" y="1183482"/>
                </a:cubicBezTo>
                <a:cubicBezTo>
                  <a:pt x="164516" y="1188945"/>
                  <a:pt x="162679" y="1195246"/>
                  <a:pt x="157162" y="1200150"/>
                </a:cubicBezTo>
                <a:cubicBezTo>
                  <a:pt x="152884" y="1203953"/>
                  <a:pt x="142875" y="1209675"/>
                  <a:pt x="142875" y="1209675"/>
                </a:cubicBezTo>
                <a:cubicBezTo>
                  <a:pt x="134074" y="1222876"/>
                  <a:pt x="143148" y="1212434"/>
                  <a:pt x="130968" y="1219200"/>
                </a:cubicBezTo>
                <a:cubicBezTo>
                  <a:pt x="125965" y="1221980"/>
                  <a:pt x="122111" y="1226915"/>
                  <a:pt x="116681" y="1228725"/>
                </a:cubicBezTo>
                <a:lnTo>
                  <a:pt x="102393" y="1233488"/>
                </a:lnTo>
                <a:lnTo>
                  <a:pt x="88106" y="1243013"/>
                </a:lnTo>
                <a:cubicBezTo>
                  <a:pt x="85725" y="1244600"/>
                  <a:pt x="83677" y="1246870"/>
                  <a:pt x="80962" y="1247775"/>
                </a:cubicBezTo>
                <a:lnTo>
                  <a:pt x="73818" y="1250157"/>
                </a:lnTo>
                <a:cubicBezTo>
                  <a:pt x="71437" y="1252538"/>
                  <a:pt x="69619" y="1255665"/>
                  <a:pt x="66675" y="1257300"/>
                </a:cubicBezTo>
                <a:cubicBezTo>
                  <a:pt x="51194" y="1265900"/>
                  <a:pt x="22108" y="1263745"/>
                  <a:pt x="9525" y="1264444"/>
                </a:cubicBezTo>
                <a:cubicBezTo>
                  <a:pt x="27481" y="1270429"/>
                  <a:pt x="5345" y="1262354"/>
                  <a:pt x="23812" y="1271588"/>
                </a:cubicBezTo>
                <a:cubicBezTo>
                  <a:pt x="27227" y="1273296"/>
                  <a:pt x="37431" y="1275587"/>
                  <a:pt x="40481" y="1276350"/>
                </a:cubicBezTo>
                <a:cubicBezTo>
                  <a:pt x="41275" y="1273969"/>
                  <a:pt x="45323" y="1269699"/>
                  <a:pt x="42862" y="1269207"/>
                </a:cubicBezTo>
                <a:cubicBezTo>
                  <a:pt x="37940" y="1268223"/>
                  <a:pt x="33527" y="1273144"/>
                  <a:pt x="28575" y="1273969"/>
                </a:cubicBezTo>
                <a:lnTo>
                  <a:pt x="14287" y="1276350"/>
                </a:lnTo>
                <a:lnTo>
                  <a:pt x="0" y="128111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29"/>
          <p:cNvSpPr/>
          <p:nvPr/>
        </p:nvSpPr>
        <p:spPr>
          <a:xfrm flipH="1">
            <a:off x="3571920" y="5078520"/>
            <a:ext cx="2556000" cy="0"/>
          </a:xfrm>
          <a:prstGeom prst="line">
            <a:avLst/>
          </a:prstGeom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43"/>
          <p:cNvSpPr/>
          <p:nvPr/>
        </p:nvSpPr>
        <p:spPr>
          <a:xfrm>
            <a:off x="4468680" y="5391000"/>
            <a:ext cx="1643040" cy="0"/>
          </a:xfrm>
          <a:prstGeom prst="line">
            <a:avLst/>
          </a:prstGeom>
          <a:ln w="3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6553080" y="6275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0B7E-7626-4816-9D73-211E6DA164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00040" y="3211560"/>
            <a:ext cx="5572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move completed D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esired drawer and press the “remove completed AST sets” sof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completed DST set stations illuminate with FLASHING GREE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carrier and scan its barcode lab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6186600" y="3929040"/>
            <a:ext cx="2100240" cy="2157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6173640" y="3143160"/>
            <a:ext cx="2041560" cy="6429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500040" y="157176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test is complete, the instrument indicates that the results ar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3"/>
          <a:stretch/>
        </p:blipFill>
        <p:spPr>
          <a:xfrm>
            <a:off x="6033960" y="1928880"/>
            <a:ext cx="2538720" cy="4284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4A6E-47C5-4427-9429-DCE051841B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4"/>
          <p:cNvPicPr/>
          <p:nvPr/>
        </p:nvPicPr>
        <p:blipFill>
          <a:blip r:embed="rId1"/>
          <a:stretch/>
        </p:blipFill>
        <p:spPr>
          <a:xfrm>
            <a:off x="5857920" y="2286000"/>
            <a:ext cx="2386080" cy="2451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468360" y="1484280"/>
            <a:ext cx="50004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ck that the GC is left-most of the tube set, and that the placement of drug-containing tubes is in expected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the result in the Unloaded DST set   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o remove additional DST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re than one DST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all completed DSTs and print unloaded DS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3374-0E95-4C78-B8DE-D86D04AA65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785960" y="1643040"/>
            <a:ext cx="5581800" cy="4205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778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D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916360" y="3789360"/>
            <a:ext cx="5032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18120" y="5157720"/>
            <a:ext cx="3138840" cy="6426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s 400. GC for drug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&lt; 100 = Suscep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635280" y="3789360"/>
            <a:ext cx="2890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148360" y="3716280"/>
            <a:ext cx="936360" cy="13240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9:22Z</dcterms:modified>
  <cp:revision>333</cp:revision>
  <dc:subject/>
  <dc:title>PowerPoint Presentation</dc:title>
</cp:coreProperties>
</file>