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7.jpeg" ContentType="image/jpeg"/>
  <Override PartName="/ppt/media/image11.wmf" ContentType="image/x-wmf"/>
  <Override PartName="/ppt/media/image20.jpeg" ContentType="image/jpeg"/>
  <Override PartName="/ppt/media/image17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973-C609-4A25-979E-5F4424FA81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C643-F801-4766-B1AC-DDFF8EEA1C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A923-1C38-46C5-A2E3-400913027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419-A464-4117-872F-9F46E979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AF1-2276-4941-A3B0-8632476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AF8-BD22-40F6-A516-D93B4F74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503-63E3-44E8-9AC6-11844FB2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CFB-3D26-4B05-9874-34EE386F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9418-91E1-44D4-A7F4-64E2286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EC20-F3DD-4C79-81D8-E0C044E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C173-63BE-43C5-9D91-C12DEDC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329E-6F57-4522-9B9B-669D7C2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877E-255C-4301-953B-92448F0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1C1E-C395-4F7A-A9B0-75DE270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9C0-A868-4EF2-8728-B670DB2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390-39AC-4037-B2F4-A00038F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496-6E4D-4804-9013-BF0FA9F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73C7-DA13-47AD-8124-48AAC7C3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12B8-C2FC-4A14-8EBA-6F1C9EFB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EA8-193A-4B7F-8736-3A46B42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8A4-9D02-4D18-9DF9-486B233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5AC-37E3-4A52-A3C8-2B5F25D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D31-5D14-4739-AD25-71B136D7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765-830A-4BE6-A774-A4C10E4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174-CCD9-4C6D-89CA-59A3725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7F9-8DC9-4B54-B7AC-3B5BDD4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14A-599F-40F8-A0A8-20DF769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4AF0-3CD1-4F49-B0BE-AE07C59B6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9C25-2C95-4B74-93D5-6CC5150E0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23640" y="1465200"/>
            <a:ext cx="633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lecular grade water (pre-aliquoted in 15ml sterile tube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79" name="Group 17"/>
          <p:cNvGrpSpPr/>
          <p:nvPr/>
        </p:nvGrpSpPr>
        <p:grpSpPr>
          <a:xfrm>
            <a:off x="538920" y="1413000"/>
            <a:ext cx="8605080" cy="5445000"/>
            <a:chOff x="538920" y="1413000"/>
            <a:chExt cx="8605080" cy="5445000"/>
          </a:xfrm>
        </p:grpSpPr>
        <p:pic>
          <p:nvPicPr>
            <p:cNvPr id="180" name="Picture 4" descr=""/>
            <p:cNvPicPr/>
            <p:nvPr/>
          </p:nvPicPr>
          <p:blipFill>
            <a:blip r:embed="rId2"/>
            <a:stretch/>
          </p:blipFill>
          <p:spPr>
            <a:xfrm>
              <a:off x="539640" y="1413000"/>
              <a:ext cx="1173240" cy="4603680"/>
            </a:xfrm>
            <a:prstGeom prst="rect">
              <a:avLst/>
            </a:prstGeom>
            <a:ln w="28440">
              <a:solidFill>
                <a:srgbClr val="6666cc"/>
              </a:solidFill>
              <a:miter/>
            </a:ln>
          </p:spPr>
        </p:pic>
        <p:sp>
          <p:nvSpPr>
            <p:cNvPr id="181" name="Line 9"/>
            <p:cNvSpPr/>
            <p:nvPr/>
          </p:nvSpPr>
          <p:spPr>
            <a:xfrm>
              <a:off x="1258920" y="4221000"/>
              <a:ext cx="215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186920" y="422100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538920" y="3500280"/>
              <a:ext cx="11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na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 flipV="1">
              <a:off x="900000" y="3789000"/>
              <a:ext cx="2872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1187280" y="5445000"/>
              <a:ext cx="2160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1259280" y="521172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6" descr="LogoColour"/>
            <p:cNvPicPr/>
            <p:nvPr/>
          </p:nvPicPr>
          <p:blipFill>
            <a:blip r:embed="rId3"/>
            <a:stretch/>
          </p:blipFill>
          <p:spPr>
            <a:xfrm>
              <a:off x="8136000" y="6351480"/>
              <a:ext cx="1008000" cy="5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8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"/>
          <p:cNvPicPr/>
          <p:nvPr/>
        </p:nvPicPr>
        <p:blipFill>
          <a:blip r:embed="rId6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7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61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 for 20 min to kill MTBC and disrupt cell 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ean water bath with 0.5% freshly prepared bleach (20 min) followed by 70% alcoh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69880" y="1484280"/>
            <a:ext cx="2273400" cy="4273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1117800" y="42148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biohazardsign"/>
          <p:cNvPicPr/>
          <p:nvPr/>
        </p:nvPicPr>
        <p:blipFill>
          <a:blip r:embed="rId2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8" name="Picture 13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563640" y="1341000"/>
            <a:ext cx="511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ll sonicator with filtered 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urn on sonicator for 15 min and de-gas befo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ck function with a piece of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tubes into a floating rack, turn on sonicator and incubate tubes for 15 min at room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ter temperature in sonicator should not exceed 3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. Higher temperature (37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)  may activate DNAse and RNAse in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the sonicator tank with 5% freshly prepared bleach (20 min)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539640" y="2251080"/>
            <a:ext cx="2880000" cy="26179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203" name="Text Box 5"/>
          <p:cNvSpPr/>
          <p:nvPr/>
        </p:nvSpPr>
        <p:spPr>
          <a:xfrm>
            <a:off x="1407600" y="27748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214640" y="45086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elow 3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87480" y="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1413000"/>
            <a:ext cx="56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specimens for 15 min at 13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985760" cy="43178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212" name="Picture 1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5"/>
          <p:cNvSpPr/>
          <p:nvPr/>
        </p:nvSpPr>
        <p:spPr>
          <a:xfrm>
            <a:off x="2700360" y="256536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7"/>
          <p:cNvSpPr/>
          <p:nvPr/>
        </p:nvSpPr>
        <p:spPr>
          <a:xfrm>
            <a:off x="1692360" y="3429000"/>
            <a:ext cx="863640" cy="793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 and PCR 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0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spray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 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5760" y="792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7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1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22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in BSL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in samples in dry oven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llow the instructions for Na-hypochlorite as describ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334-1B4A-4DD3-982B-42FA2E8997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 (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316400" y="1413000"/>
          <a:ext cx="3965760" cy="47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0" y="1413000"/>
                    <a:ext cx="3965760" cy="4752720"/>
                  </a:xfrm>
                  <a:prstGeom prst="rect">
                    <a:avLst/>
                  </a:prstGeom>
                  <a:ln w="2844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0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spray it with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process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process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process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355760"/>
            <a:ext cx="547344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300 µl molecular biology grade water to each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-suspend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colonies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culture on solid medium; change loo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645000"/>
            <a:ext cx="1081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1:20Z</dcterms:modified>
  <cp:revision>365</cp:revision>
  <dc:subject/>
  <dc:title>PowerPoint Presentation</dc:title>
</cp:coreProperties>
</file>