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601D-016D-4636-8974-486FFC61CF4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73D1-49C6-4E01-B6A3-F200979D21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4C94-872B-4531-8804-AE9A5DAD40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D74C-CAA0-4214-BEBA-69076B4E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65FB-9CB6-4FBA-82CD-8E8A652C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48C8-4749-4653-982B-4CDAB966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0B93-A25E-42B8-B04F-4EF7F1ED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B75A-3F6C-486D-82DD-D11E22D4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AAC5-1ECB-4BB6-B12F-D9029AC7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5F79-84A4-4D7B-9A8C-64B46C27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D180-F749-4DEB-AC66-9868AE5D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DCC5-4628-4074-906E-AFBDAF3B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5A8F-1400-46BA-BD75-BB922A1D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C1B3-4C74-4C3E-99A0-A8E9EBBA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332-5E6B-4CB7-A97F-7A3432E2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F2ED-21F1-4A4E-A074-01024043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C914-CBFA-46B6-9DC0-3E002AFB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A4C7-228F-42E6-8699-C5BB8E5F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E37A-4D94-412E-9660-936DBE34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9C2D-C4DA-4A3B-A515-30729F2F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16B1-3CB6-4AA4-95A8-CEC8E981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3AB1-1382-4A9B-87ED-16D85E71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FED6-AF93-49A1-8E0F-4DAFC4C6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D2B1-72DA-4687-80E5-7E625A71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D583-2320-471D-AE75-6953BB08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8284-F09E-4542-9209-24A66B82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881C-A6BF-441D-9D6F-3C38D6D0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E8F1-C948-417E-8146-E40CB9388D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144C-2300-4FC1-AE2A-9BCDA791C3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500120"/>
            <a:ext cx="9001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for submission, acceptance and processing of isolates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guidance for all count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carriage of Category A infectious substances should be strictly prohibited on air c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packages containing infectious substances should not be consolidated with unrelated types of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pers of infectious substances should ensure that packages are prepared so they arrive in good condition and present no hazard during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8152-28BB-48CA-A8FD-F0085443AE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86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iteria for rejection of an isol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process; contact the submitter to resubmit isolate for the following rea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abel on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or leaking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 overgrown with conta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Opening tube with mould can contaminate BSC and other speci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may be processed if minor questions can be cla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pellings between tube and request s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submitter to clarify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97A8-E9BA-4DDA-85A5-13C9A9DB1C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paration of isolate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0040" y="1599840"/>
            <a:ext cx="8143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isolate as belonging 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the TB isolate is not conta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molecular or liquid medium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DST in liquid broth in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6C24-53CC-4464-A036-C097176904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14200" y="7632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solate must be identified as MTBC before performing D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5"/>
          <p:cNvSpPr/>
          <p:nvPr/>
        </p:nvSpPr>
        <p:spPr>
          <a:xfrm>
            <a:off x="565308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4"/>
          <p:cNvSpPr/>
          <p:nvPr/>
        </p:nvSpPr>
        <p:spPr>
          <a:xfrm>
            <a:off x="5940360" y="387504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5"/>
          <p:cNvSpPr/>
          <p:nvPr/>
        </p:nvSpPr>
        <p:spPr>
          <a:xfrm>
            <a:off x="5940360" y="459432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0"/>
          <p:cNvSpPr/>
          <p:nvPr/>
        </p:nvSpPr>
        <p:spPr>
          <a:xfrm>
            <a:off x="3276720" y="3514680"/>
            <a:ext cx="23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3"/>
          <p:cNvSpPr/>
          <p:nvPr/>
        </p:nvSpPr>
        <p:spPr>
          <a:xfrm>
            <a:off x="5005440" y="3154320"/>
            <a:ext cx="2303280" cy="43200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1"/>
          <p:cNvSpPr/>
          <p:nvPr/>
        </p:nvSpPr>
        <p:spPr>
          <a:xfrm>
            <a:off x="2629080" y="1785960"/>
            <a:ext cx="3600360" cy="720720"/>
          </a:xfrm>
          <a:prstGeom prst="ellipse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4"/>
          <p:cNvSpPr/>
          <p:nvPr/>
        </p:nvSpPr>
        <p:spPr>
          <a:xfrm>
            <a:off x="327672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0"/>
          <p:cNvSpPr/>
          <p:nvPr/>
        </p:nvSpPr>
        <p:spPr>
          <a:xfrm>
            <a:off x="1692360" y="3154320"/>
            <a:ext cx="2303280" cy="4320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9"/>
          <p:cNvSpPr/>
          <p:nvPr/>
        </p:nvSpPr>
        <p:spPr>
          <a:xfrm>
            <a:off x="971640" y="459432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8"/>
          <p:cNvSpPr/>
          <p:nvPr/>
        </p:nvSpPr>
        <p:spPr>
          <a:xfrm>
            <a:off x="971640" y="387504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2"/>
          <p:cNvSpPr/>
          <p:nvPr/>
        </p:nvSpPr>
        <p:spPr>
          <a:xfrm>
            <a:off x="2413080" y="5170320"/>
            <a:ext cx="587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0"/>
          <p:cNvSpPr/>
          <p:nvPr/>
        </p:nvSpPr>
        <p:spPr>
          <a:xfrm>
            <a:off x="3708360" y="3083040"/>
            <a:ext cx="720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8"/>
          <p:cNvSpPr/>
          <p:nvPr/>
        </p:nvSpPr>
        <p:spPr>
          <a:xfrm>
            <a:off x="2556000" y="19051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ulture positive for AF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4500720" y="2506680"/>
            <a:ext cx="0" cy="1008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1"/>
          <p:cNvSpPr/>
          <p:nvPr/>
        </p:nvSpPr>
        <p:spPr>
          <a:xfrm>
            <a:off x="3924360" y="2793960"/>
            <a:ext cx="1152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611280" y="26020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lony and Cellular morph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3"/>
          <p:cNvSpPr/>
          <p:nvPr/>
        </p:nvSpPr>
        <p:spPr>
          <a:xfrm>
            <a:off x="5076720" y="263376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owth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 flipH="1">
            <a:off x="291600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7"/>
          <p:cNvSpPr/>
          <p:nvPr/>
        </p:nvSpPr>
        <p:spPr>
          <a:xfrm flipH="1">
            <a:off x="291600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H="1">
            <a:off x="565272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 flipH="1">
            <a:off x="565272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973080" y="39402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Biochemical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971640" y="46674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ntigen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013440" y="39909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ne-probe 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300720" y="46674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NA 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1692360" y="31543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ventional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5221440" y="31543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olecula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9"/>
          <p:cNvSpPr/>
          <p:nvPr/>
        </p:nvSpPr>
        <p:spPr>
          <a:xfrm>
            <a:off x="1143000" y="5572080"/>
            <a:ext cx="6858000" cy="642600"/>
          </a:xfrm>
          <a:prstGeom prst="rect">
            <a:avLst/>
          </a:prstGeom>
          <a:noFill/>
          <a:ln w="19080">
            <a:solidFill>
              <a:srgbClr val="3d3d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uberculous mycobacteria can be resistant to anti-TB drugs, and testing can result in inappropriate patient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327C-035F-4EA6-BFE6-94DB4CA2770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on solid medi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6360" y="1447920"/>
            <a:ext cx="8239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J medium contains bacteriostatic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chite green inhibits most environmental and normal fl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remove liquid in bottom of LJ before inoculation. Loosen cap fo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ek of incub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exposure to malachite green, so contaminants may eventually grow in this liqu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ted LJ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ontamination is slight, attempt to isolate TB colonies; transfer to new L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tally contaminated, request a new spec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1D79-50EB-461B-ABD3-C69EBD9ECB5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in MGIT tub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2160" y="1447920"/>
            <a:ext cx="686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ed MGIT tubes usually become positive very ear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– 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growers such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-intracellul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(MAC) may be positive in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obser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ogeneous turb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cid-fast bacteria may be seen in AFB smear of MGIT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or without AF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lture to blood agar p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in 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rcRect l="0" t="0" r="50031" b="0"/>
          <a:stretch/>
        </p:blipFill>
        <p:spPr>
          <a:xfrm>
            <a:off x="7162920" y="2274840"/>
            <a:ext cx="761760" cy="2568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ST performed using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roblems with egg-based media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cy of drugs may be diminished during inspis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the eggs (phospholipids, proteins) affect som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agar with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DC i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-to-lot variations in quality have been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on solid media requires 3 to 4 weeks of incu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80FA-A8AC-483B-9DC5-BD6EBB7275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ld standard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r proportion method using Middlebrook 7H10 with quality assured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the standard method for TB DST in the USA and many Europe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first- and second-line drugs can be accurately tested for susceptibility or resistance using thi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because of the long turn-around time, the method is more appropriate for surveillance than for individual patient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6026-047F-4C71-BD37-12A9EFDB9C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5144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vantages of molecula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liquid medium DS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57120" y="1356840"/>
            <a:ext cx="84297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erformed within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TB is included in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MDR TB is quite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results may be obtained even with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not all drugs are current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dium DST using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ready within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validated for all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 including PZA and som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FF58-DFB2-4C0B-9318-11103E1681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cells for molecular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28400" y="1428480"/>
            <a:ext cx="84294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suspension of cells in steril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on solid medium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cells from slant with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suspension in 300 µl of steril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in liquid medium (MGIT bro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1 ml portion of the suspension to a micro-centrifug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ifuge for 15 min and resuspend pellet in 300 µl of sterile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2817-8168-4C0F-88F5-A4C6C09405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submission process for isolates receiv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criteria for acceptance or rejection of iso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how TB isolates are prepar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or molecular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99840"/>
            <a:ext cx="7429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20 min in a 9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water bath (kills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15 min in an ultrasonic water bath (optional for isol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 and use approximately 5 µl of the supernatant for PC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7272-DF2E-49C4-A579-10F36FA556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isolates for MGIT DST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can be grown either on solid or liquid media prior to being tested in the MGIT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healthy cells in logarithmic phase of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airly light inoculum so that drug concentrations are not overwhel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should be AFB-positive and identified as a pure culture of the MTB complex before furthe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226F-CC9A-4B3A-9489-BA563F2C41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oculum from the MGIT tu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ing to the following recommended timeframe is important for accu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ay a MGIT tube is positive by the instrument is consider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ube should be kept incubated for at least one more day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before D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be incubated in a separate incubator at 37 ºC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ositive tube may be used for DST up to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tube that has been positive for more than 5 days should be subcultured into a fresh MGIT tube and incubated until it is positive;  use this tube from 1 to 5 days of instrument positivity as described ab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n a tube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use the supernatant undiluted for inoculation of the drug s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3, 4 or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then dilute 1.0 ml of the positive broth with 4.0 ml of sterile saline.  This will be a 1:5 dilution.  Use this well-mixed diluted culture for inocul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0305-E5A8-444F-B9D5-C8FCAF0BB4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920" y="228600"/>
            <a:ext cx="8067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oculum from growth on solid medi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2920" y="1428480"/>
            <a:ext cx="8391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rowth on solid medium within 15 days of appearance of positive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a large amount of growth into a tube with broth or saline and glass beads; vortex the tube for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inutes to break the clumps – the turbidity should be &gt; McFarland #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suspension stand undisturbed for 20 minutes, then transfer the supernatant into another sterile tub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is tube stand undisturbed for another 15 minutes then transfer the supernatant into another sterile tube – the turbidity should &gt; McFarland #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the turbidity of this suspension down to McFarland #0.5 by adding sterile saline; do not make it below this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ute the above suspension 1:5 by adding 1.0 ml of the suspension to 4.0 ml of sterile saline;  mix well and use it as the inoculum for drug susceptibilit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8984-3CC7-40EA-9EEE-7F8100BF2E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: Isolates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13840" y="1481040"/>
            <a:ext cx="86439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can either be grown in the DST testing laboratory or referred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of isolates to the DST testing laboratory must be safe, timely, efficient and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should not be tested if they are unlabelled, leaked, or overgrown with m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using molecular or MGIT system methods have much shorter turn-around times than DST using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henotypic DST, growth should be AFB-positive, and identified as a pure culture of the MTB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5012-85A1-4F2C-B0C5-9354CCE5B3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643E-0D22-4CFF-BC9F-4D0ECF5E95A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499760"/>
            <a:ext cx="80010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of isol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red to DST testing laboratory from another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n in DST testing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o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for acceptance or rejection of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ling, lea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ing the isolate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lecular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qu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Ex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referred to DST testing laboratory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to process sputum specimens and perform culture in laboratories near to where specimen is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minants may overgrow TB in sputum specimens during transport time and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lates more likely to survive transportation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ever, biosafety requirements must be strictly followed to transport iso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identification and DST are best performed at National TB Reference Laboratory or other Quality Assured referral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time and need to re-grow isolate delays DST report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s and relevant and patient information must be accurately transcribed and transported to the NTRL for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976A-512B-45AF-808E-0FEC7E669C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In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grown in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on patient has already been documented when specimen received for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database or log books provide information on previous tests performed on this same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mear results on current iso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 on tests performed on specimens from this 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issues seen with previous specimens or isolates can be add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34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growth found only on either liquid or solid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er turn-around time for reporting DS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es contained within same laboratory; biosafety issues easier to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DAA2-917A-4E2A-B1E4-4AB739AD64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portation to DST testing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s suspected of being TB must be transported to the DST testing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ly – protect transport agents from risk of in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y – ensure viable isolates fo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ly – delivery to appropriate labora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ly – according to national and international transportatio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831C-D882-4B95-9C5D-1A31E5DF3C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portation guid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Guidance on Regulations for the Transport of Infectious Substances 2009-20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ycobacterium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lassified as Infectious substance, Category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causing life-threatening or fatal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name is UN2814 – INFECTIOUS SUBSTANCE AFFECTING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5F3A-004A-44FC-B58B-66CE64B461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000760" y="6357960"/>
            <a:ext cx="31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/HSE/EPR/2008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triple packaging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920" y="1571760"/>
            <a:ext cx="4929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recep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ly marked and labelled with appropriate shipping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57E1-3E84-4999-AE3C-4D7C6D0D3E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rcRect l="7491" t="12002" r="3884" b="0"/>
          <a:stretch/>
        </p:blipFill>
        <p:spPr>
          <a:xfrm>
            <a:off x="3714840" y="1714680"/>
            <a:ext cx="5286240" cy="3276360"/>
          </a:xfrm>
          <a:prstGeom prst="rect">
            <a:avLst/>
          </a:prstGeom>
          <a:ln w="9360">
            <a:solidFill>
              <a:srgbClr val="3d3dd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t all countries have adopted the United Nations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499760"/>
            <a:ext cx="792504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uidelines apply whenever the UN system for the transport of infectious substances has been ado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encourages all countries to adopt thi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e principles described are not intended to supersede national or loc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2A74-F5F6-46A7-BE69-07E1D3F3AE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7:48Z</dcterms:modified>
  <cp:revision>175</cp:revision>
  <dc:subject/>
  <dc:title>PowerPoint Presentation</dc:title>
</cp:coreProperties>
</file>