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63C3-1AAE-4052-8B8D-9C004B660C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0EC9-A448-4C50-8CCB-82C9AE0584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the laborato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3FC-9BD8-439E-B286-F2D751B4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4B1-5A68-4E53-B959-DE76E85A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665-F858-4EE3-AEB1-D54C5FD8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00A-8126-40B2-AC88-8D2A1683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3F4E-93AF-4129-B6BA-6CBB671D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515E-C581-49FB-A2AA-0C2BBEC8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581F-458D-40EA-9AB0-DE0382B1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611E-2F5B-4E2D-8EA2-1B9CE979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8B24-EA91-4FFE-BA3B-A1F8DA98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FEE2-9A0B-4975-8CF9-45704E2A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467E-C3B9-494A-A115-53D93A5D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9DF3-3511-420D-B183-888E3A87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0DC5-3126-4D74-B7C9-A15EC31A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D0A8-4D05-4DCC-B7C2-99479286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2552-1949-47D3-9F25-F8504AF1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A096-93B7-43D9-A99D-707B093B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AE3E-CD0E-422B-8A02-A0F5D615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B00-ACB5-4111-9427-352A515C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4AE-F058-4DDF-AD41-9D471C0D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A0B-125F-4F41-9B13-F2733D46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AC1-5076-426F-B5F2-18A71A35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1E2-9CE3-458D-986E-3C78F8F4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600-ED4F-4526-B4AB-6F0AA6D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ABD-8B30-49D4-89F8-F29D6739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ED40-2EFB-4A8D-A721-2D98451D6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4E11-025A-4966-A411-B5D0244003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1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MTBDRplus V2.0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Specimen Prep. Area. Decontaminat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are finished working in the Specimen Prep. Area, do not come back and clean the Reagent Prep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6264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bleach (sodium hypochlorite)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bleach should not fall below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eep master mix reagents in desktop cooler, especially Taq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quot sterile molecular grade water into 1.5 ml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6804000" y="2565360"/>
            <a:ext cx="2033640" cy="2365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-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 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B768-4107-458A-BB3A-D252CDEE88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746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1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48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ut on wall near work 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2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3715920"/>
            <a:ext cx="7634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5520" indent="-155520">
              <a:lnSpc>
                <a:spcPct val="95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 the number of specimens and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95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is number plus 1 to calculate the volume of the different components of the master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5520" indent="-155520">
              <a:lnSpc>
                <a:spcPct val="95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volume of master mix is 45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 per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55623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3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 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4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3933720"/>
            <a:ext cx="791208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lecular grade water, and other reagents, should be stored in the DNA free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fter thawing, mix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M-A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M-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care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aster mix must be prepared fresh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a new aliquot of molecular grade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ently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void breaking up primer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!) mix the master mix vial, do not vort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556236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5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 of same sterile, molecular grade water used to prepare master mix into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gative control PCR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glass beaker covered with aluminum foil (make holes in the foil for via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048360" cy="266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6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 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BSC with freshly diluted 1% bleach (20 min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spray flask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idi Albert</dc:creator>
  <dc:description/>
  <dc:language>en-US</dc:language>
  <cp:lastModifiedBy>Juan-Daniel</cp:lastModifiedBy>
  <dcterms:modified xsi:type="dcterms:W3CDTF">2012-02-01T15:57:46Z</dcterms:modified>
  <cp:revision>359</cp:revision>
  <dc:subject/>
  <dc:title>PowerPoint Presentation</dc:title>
</cp:coreProperties>
</file>