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13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7B92-8340-4CBF-83CB-BBA8AE561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DC81-B6D8-4C19-914A-F143CC84B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participants nucleotide mix (the colored labels representing A,T, G, and C) and the pri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at for this demonstration the polymerase will be represented by the zip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participants the original sequence of DNA (the zipper with the nucleotide labe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752E-70BE-41D1-8C32-CB16BAA42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o the participants that everything that we are about to do takes place inside the 0.2 mL tube in the pi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E20B-945E-47F9-86C7-AA3569E2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199D-7182-4A91-98AE-C6FC2EC5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7D5-015B-4175-9DA5-5B58165F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A3A-BA2A-4A8E-B5F6-484DE61A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10E7-45D1-4977-B557-CD9EB0AD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836B-40C3-40F8-8DD8-6067F119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3688-459C-49E7-9BC9-EFB5602B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50D1-AE24-4DB4-85B7-9580611C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3C8A-B78A-4C39-BD0E-3B7B384D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8399-C5E8-41CA-84A3-D42ED203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9BAA-4F28-4BD8-84B1-74F5473F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E4F1-9B13-44D0-A4DC-87CF1486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6BE5-1CC3-4EBB-85FB-BAD0D9F2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5D41-8B64-46A4-980E-B9F3CD29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2AF3-7337-419F-B44A-5B8059AC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85A5-DFFA-467F-B54B-E4C9CF33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5718-9237-4226-9E37-0ABDD3D4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522B-10B1-4E92-8112-36103353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2D7-E682-4406-9116-1F14B3C3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A497-4FD8-4EFD-B220-71498663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C46A-0BF6-4FDA-9FF6-21C9B608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476D-BF5A-42CF-8460-5AEFB968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84D1-C34E-445B-B423-F97089B7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523E-5B75-4C3B-ACFF-C3C1461F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8C41-3E5F-477E-8D79-862AC94DCE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45BE-AE99-4B67-869E-DFAB97F902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CR activit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zippers to demonstrate how PCR can take one segment of DNA and create eight cop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Cycle 3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- Step 3: Ext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ºC for 40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q polymerase adds nucleotides to the 3’ end of each pr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cate the complimentary nucleotide “label”, stick it on the edge of the zipper opposite the original nucleotide, and zip it together as each nucleotide is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extention"/>
          <p:cNvPicPr/>
          <p:nvPr/>
        </p:nvPicPr>
        <p:blipFill>
          <a:blip r:embed="rId1"/>
          <a:stretch/>
        </p:blipFill>
        <p:spPr>
          <a:xfrm>
            <a:off x="533520" y="4343400"/>
            <a:ext cx="44672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ter 2 cyc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cycle 2"/>
          <p:cNvPicPr/>
          <p:nvPr/>
        </p:nvPicPr>
        <p:blipFill>
          <a:blip r:embed="rId1"/>
          <a:stretch/>
        </p:blipFill>
        <p:spPr>
          <a:xfrm>
            <a:off x="1600200" y="1676520"/>
            <a:ext cx="39844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Cycle 3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- Step 1: Denatu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ºC for 25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9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C the double helix of DNA separates into two single 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Unzip the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Pass a copy to your neighb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denaturation"/>
          <p:cNvPicPr/>
          <p:nvPr/>
        </p:nvPicPr>
        <p:blipFill>
          <a:blip r:embed="rId1"/>
          <a:stretch/>
        </p:blipFill>
        <p:spPr>
          <a:xfrm>
            <a:off x="1447920" y="4572000"/>
            <a:ext cx="60958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Cycle 3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- Step 2: Anneal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3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ºC for 40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rs hybridize to complementary sequences of each DNA st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lace the primer label onto the edge of the zi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annealing"/>
          <p:cNvPicPr/>
          <p:nvPr/>
        </p:nvPicPr>
        <p:blipFill>
          <a:blip r:embed="rId1"/>
          <a:stretch/>
        </p:blipFill>
        <p:spPr>
          <a:xfrm>
            <a:off x="838080" y="4724280"/>
            <a:ext cx="579132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Cycle 3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- Step 3: Ext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ºC for 40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q polymerase adds nucleotides to the 3’ end of each pr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cate the complimentary nucleotide “label”, stick it on the edge of the zipper opposite the original nucleotide, and zip it together as each nucleotide is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extention"/>
          <p:cNvPicPr/>
          <p:nvPr/>
        </p:nvPicPr>
        <p:blipFill>
          <a:blip r:embed="rId1"/>
          <a:stretch/>
        </p:blipFill>
        <p:spPr>
          <a:xfrm>
            <a:off x="533520" y="4343400"/>
            <a:ext cx="44672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ter 3 cyc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cycle 3"/>
          <p:cNvPicPr/>
          <p:nvPr/>
        </p:nvPicPr>
        <p:blipFill>
          <a:blip r:embed="rId1"/>
          <a:stretch/>
        </p:blipFill>
        <p:spPr>
          <a:xfrm>
            <a:off x="1371600" y="1523880"/>
            <a:ext cx="510552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d result: Exponential amplification of a target sequenc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514440" y="1854360"/>
            <a:ext cx="805824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B468-EAD2-4F07-AD4F-F8B03B477EE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gredients needed for PC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-mix +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M (primer nucleotide m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x incubation buffer, Mg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terile molecular-grade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polymerase (HotStarTa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s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ere does PCR happen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ide small 0.2 ml reaction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ermocycler is a programmable instrument that will heat and cool the reaction tubes to the desired temperature for a designated amount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PA080004"/>
          <p:cNvPicPr/>
          <p:nvPr/>
        </p:nvPicPr>
        <p:blipFill>
          <a:blip r:embed="rId1"/>
          <a:stretch/>
        </p:blipFill>
        <p:spPr>
          <a:xfrm>
            <a:off x="4572000" y="1447920"/>
            <a:ext cx="34862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Cycle 1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- Step 1: Denatu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ºC for 25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9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C the double helix of DNA separates into two single 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Unzip the D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denaturation"/>
          <p:cNvPicPr/>
          <p:nvPr/>
        </p:nvPicPr>
        <p:blipFill>
          <a:blip r:embed="rId1"/>
          <a:stretch/>
        </p:blipFill>
        <p:spPr>
          <a:xfrm>
            <a:off x="609480" y="4114800"/>
            <a:ext cx="73152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Cycle 1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- Step 2: Anneal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3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ºC for 40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rs hybridize to complementary sequences of each DNA st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lace the primer label onto the edge of the zi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annealing"/>
          <p:cNvPicPr/>
          <p:nvPr/>
        </p:nvPicPr>
        <p:blipFill>
          <a:blip r:embed="rId1"/>
          <a:stretch/>
        </p:blipFill>
        <p:spPr>
          <a:xfrm>
            <a:off x="838080" y="4724280"/>
            <a:ext cx="579132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Cycle 1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- Step 3: Ext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ºC for 40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q polymerase adds nucleotides to the 3’ end of each pr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cate the complimentary nucleotide “label”, stick it on the edge of the zipper opposite the original nucleotide, and zip it together as each nucleotide is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s = A-T and G-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extention"/>
          <p:cNvPicPr/>
          <p:nvPr/>
        </p:nvPicPr>
        <p:blipFill>
          <a:blip r:embed="rId1"/>
          <a:stretch/>
        </p:blipFill>
        <p:spPr>
          <a:xfrm>
            <a:off x="533520" y="4343400"/>
            <a:ext cx="44672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ter 1 cyc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cycle 1"/>
          <p:cNvPicPr/>
          <p:nvPr/>
        </p:nvPicPr>
        <p:blipFill>
          <a:blip r:embed="rId1"/>
          <a:stretch/>
        </p:blipFill>
        <p:spPr>
          <a:xfrm>
            <a:off x="2133720" y="1447920"/>
            <a:ext cx="3225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Cycle 2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- Step 1: Denatu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ºC for 25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9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C the double helix of DNA separates into two single 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Unzip the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Pass a copy to your neighb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denaturation"/>
          <p:cNvPicPr/>
          <p:nvPr/>
        </p:nvPicPr>
        <p:blipFill>
          <a:blip r:embed="rId1"/>
          <a:stretch/>
        </p:blipFill>
        <p:spPr>
          <a:xfrm>
            <a:off x="1066680" y="4572000"/>
            <a:ext cx="65534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Cycle 2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- Step 2: Anneal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3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ºC for 40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rs hybridize to complementary sequences of each DNA st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lace the primer label onto the edge of the zi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annealing"/>
          <p:cNvPicPr/>
          <p:nvPr/>
        </p:nvPicPr>
        <p:blipFill>
          <a:blip r:embed="rId1"/>
          <a:stretch/>
        </p:blipFill>
        <p:spPr>
          <a:xfrm>
            <a:off x="838080" y="4724280"/>
            <a:ext cx="579132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9:16:47Z</dcterms:created>
  <dc:creator>kyle tholen</dc:creator>
  <dc:description/>
  <dc:language>en-US</dc:language>
  <cp:lastModifiedBy>Philip</cp:lastModifiedBy>
  <dcterms:modified xsi:type="dcterms:W3CDTF">2012-01-26T09:59:16Z</dcterms:modified>
  <cp:revision>12</cp:revision>
  <dc:subject/>
  <dc:title>PCR Activity</dc:title>
</cp:coreProperties>
</file>