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083-2010-4E43-BBDC-78F7E6BA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3FE-2386-4E91-939E-8D9FB58E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EB6-B023-4191-9A32-8DA423AB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2D9-2C23-4369-AD9A-7859754C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E2C3-15FA-414A-8AF2-F2C53E70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D7B5-3706-4192-A3E0-F2C1165B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28B4-6C28-4E5C-AEE3-571F9269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8AB4-CA9B-442A-91DD-6913EA69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7A7E-062E-4B50-B4A8-28D4F06A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A185-24DF-4FB5-B427-E15DE939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CCB3-1F9C-485D-8C98-C6B51851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ED84-BC0E-4DC3-B02A-30CCE1AA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F9AA-B249-464F-A4E8-31B67B73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4C81-22E6-44BA-B042-FD26E5F1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9A27-E7D1-4A4A-AD2B-1BE399BC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F25D-C6A0-4F54-BADB-2088BB4C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A093-6BBB-49C4-A0E2-8B1D332B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4768-4763-43F3-9805-A9A67A3D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E03-9E43-45A3-B512-4C2AC8B5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E9CC-A1C2-4675-9DE4-B9C7105B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ACD-BB72-4FDA-B1F1-0783325E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0FC0-73D8-4DFA-BAEF-F2D7CCBA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25B-4A4F-4C5C-923B-33D8DEF6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4BF-2A51-4726-A33C-0DF044F4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C641-C9C5-4F63-B094-E9BA6624C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9457-391A-4B66-97B4-D85723A2A3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GenoType MTBDRplus V2.0 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lide Number Placeholder 2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4743-CEA3-4189-90BB-5F7FC4D4CF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7231320" y="3500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304200" y="32004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ion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mple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648320" y="4129200"/>
            <a:ext cx="4093920" cy="2452680"/>
          </a:xfrm>
          <a:prstGeom prst="rect">
            <a:avLst/>
          </a:prstGeom>
          <a:ln w="0">
            <a:noFill/>
          </a:ln>
        </p:spPr>
      </p:pic>
      <p:cxnSp>
        <p:nvCxnSpPr>
          <p:cNvPr id="97" name="Shape 14"/>
          <p:cNvCxnSpPr>
            <a:stCxn id="98" idx="4"/>
          </p:cNvCxnSpPr>
          <p:nvPr/>
        </p:nvCxnSpPr>
        <p:spPr>
          <a:xfrm rot="5400000">
            <a:off x="3926880" y="4220640"/>
            <a:ext cx="1856520" cy="415080"/>
          </a:xfrm>
          <a:prstGeom prst="bentConnector4">
            <a:avLst>
              <a:gd name="adj1" fmla="val 16931"/>
              <a:gd name="adj2" fmla="val 155208"/>
            </a:avLst>
          </a:prstGeom>
          <a:ln w="28440">
            <a:solidFill>
              <a:srgbClr val="93c7fc"/>
            </a:solidFill>
            <a:miter/>
            <a:tailEnd len="med" type="arrow" w="med"/>
          </a:ln>
        </p:spPr>
      </p:cxnSp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3505320" y="1066680"/>
            <a:ext cx="3709800" cy="2295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6"/>
          <p:cNvSpPr/>
          <p:nvPr/>
        </p:nvSpPr>
        <p:spPr>
          <a:xfrm>
            <a:off x="907920" y="1557360"/>
            <a:ext cx="20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1.0 and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728640" y="3657600"/>
            <a:ext cx="2928960" cy="3009960"/>
          </a:xfrm>
          <a:prstGeom prst="rect">
            <a:avLst/>
          </a:prstGeom>
          <a:ln w="0">
            <a:noFill/>
          </a:ln>
        </p:spPr>
      </p:pic>
      <p:cxnSp>
        <p:nvCxnSpPr>
          <p:cNvPr id="102" name="Shape 21"/>
          <p:cNvCxnSpPr/>
          <p:nvPr/>
        </p:nvCxnSpPr>
        <p:spPr>
          <a:xfrm flipV="1" rot="10800000">
            <a:off x="2191680" y="3427920"/>
            <a:ext cx="2346840" cy="229320"/>
          </a:xfrm>
          <a:prstGeom prst="bentConnector2">
            <a:avLst/>
          </a:prstGeom>
          <a:ln w="28440">
            <a:solidFill>
              <a:srgbClr val="93c7fc"/>
            </a:solidFill>
            <a:miter/>
            <a:tailEnd len="med" type="arrow" w="med"/>
          </a:ln>
        </p:spPr>
      </p:cxnSp>
      <p:sp>
        <p:nvSpPr>
          <p:cNvPr id="98" name="Oval 23"/>
          <p:cNvSpPr/>
          <p:nvPr/>
        </p:nvSpPr>
        <p:spPr>
          <a:xfrm>
            <a:off x="2700360" y="909720"/>
            <a:ext cx="4724280" cy="2590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4"/>
          <p:cNvSpPr/>
          <p:nvPr/>
        </p:nvSpPr>
        <p:spPr>
          <a:xfrm>
            <a:off x="4419720" y="3809880"/>
            <a:ext cx="4724280" cy="3048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A368-8142-474D-80F0-C447DD8A7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reagent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80880" y="1413000"/>
            <a:ext cx="5551560" cy="26272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5942880" y="35164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ion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5942880" y="579132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ersion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380880" y="4130640"/>
            <a:ext cx="5562720" cy="2075040"/>
          </a:xfrm>
          <a:prstGeom prst="rect">
            <a:avLst/>
          </a:prstGeom>
          <a:ln w="0">
            <a:noFill/>
          </a:ln>
        </p:spPr>
      </p:pic>
      <p:sp>
        <p:nvSpPr>
          <p:cNvPr id="110" name="Oval 8"/>
          <p:cNvSpPr/>
          <p:nvPr/>
        </p:nvSpPr>
        <p:spPr>
          <a:xfrm>
            <a:off x="152280" y="4191120"/>
            <a:ext cx="6172200" cy="2209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3AEB-2D68-427F-AD43-1337D4950A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Master mix aliquots and addition of DN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for version 1.0 and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5392800" cy="205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4130640" cy="205740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D300-A353-4980-8B2C-20AC43AF44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mplification and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600200" y="4343400"/>
            <a:ext cx="533412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1057320" y="1676520"/>
            <a:ext cx="6459480" cy="2286000"/>
          </a:xfrm>
          <a:prstGeom prst="rect">
            <a:avLst/>
          </a:prstGeom>
          <a:ln w="0">
            <a:noFill/>
          </a:ln>
        </p:spPr>
      </p:pic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E422-440A-41AD-B184-17D1A1F169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idi Albert</dc:creator>
  <dc:description/>
  <dc:language>en-US</dc:language>
  <cp:lastModifiedBy>heidialb</cp:lastModifiedBy>
  <dcterms:modified xsi:type="dcterms:W3CDTF">2012-01-16T08:58:25Z</dcterms:modified>
  <cp:revision>381</cp:revision>
  <dc:subject/>
  <dc:title>PowerPoint Presentation</dc:title>
</cp:coreProperties>
</file>