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1F4-02CB-4AFC-9B69-6E0CA289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A95-292A-47DE-8161-2CEDDF00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A35-708B-4A33-AF98-CB9A8894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389-9400-4F50-B60A-1287AEF2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E8A3-FE58-4EAC-BE63-D48D5855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9533-B821-4EF9-8EF5-1C179B83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62C8-D0DD-4D43-9960-2C49893C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169E-0D81-420A-9999-209D4E61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57A-F250-46BD-A8DC-A7789ED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48BF-00FF-43FA-BA9D-25295B0D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53D-2E26-4C4C-A688-5C742404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90E-609B-4CDB-BA19-FBEB44D0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C18-9FA0-4857-8107-4E1B490A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2276-BC0A-4331-9B9B-FE2B6FF4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C179-F056-4971-81A7-DA34DDA3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AED3-34A6-487B-B715-0FBDE53F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21E9-FDFB-4A5F-8912-0B78E9AB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DF0-B2C3-4CC9-ACD5-44771F62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AB5-7C66-4E62-9112-2FAF8501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309-E9CF-4CCD-B88F-BC77632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C08-9F9A-4BD3-BF9E-472C274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A3A-504C-4B61-BCF4-3658FD9D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733-E452-4CE5-A87D-3AA8C5F2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610-AFB1-4D79-AD72-EB76AD0D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B974-6958-49F9-824A-18B05939C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AB60-71CC-4A9E-A52C-CB12018D3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4000"/>
            </a:b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9966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oubleshoo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66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139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5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ls and instruments that are used here must be labelled accordingly and cannot be used else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ever take anything from this site to reagent or specimen preparation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 not re-use Falcon tubes for conjugate and substrate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5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the following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dd DNA extract to PCR tubes in a PCR hood; use BSC only for 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f applicable dedicate a BSC only for molecular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o not decant the content of the strip tray into sink or any other container during the HYB and STR steps; this will contaminate the work are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hange gloves if they get contaminated with ampl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econtaminate trays and tweezers (Stratalinker U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5000"/>
              </a:lnSpc>
              <a:spcBef>
                <a:spcPts val="6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ep clean(ed) strip trays and tweezers in a clean, sealed plastic b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5000"/>
              </a:lnSpc>
              <a:spcBef>
                <a:spcPts val="6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924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 the instructions for sodium hypochlorite as describ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to clean workplace and instruments after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use sterile distilled water to rinse strip trays and tweezers after bleach de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quot sterile molecular-grade water into 1.5 ml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xed susceptible/resistant pattern might be a result of cross-over or carry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clean the work area properly after completing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s (floors, doors, 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Positive and negative contro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control(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add DNA of positive control at specimen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susceptible and/or MDR heat-kille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egative strips with this control indicate unsuccessful a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xed (susceptible/resistant) pattern with positive control may indicate carry-over or cross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control(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e FIRST negative control at reagent preparation area using same molecular-grade water as was used for the Master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open this tube at specimen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pare a SECOND negative control at specimen preparation area using the same molecular-grade water as was used for specimen preparation at the very end of th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egative control strip must have CC and AC bands, but no other bands should be vi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sitive results with other bands of these controls may indicate carry-over or cross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Quality control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0760" y="1412640"/>
            <a:ext cx="7923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 the number (%) of unsuccessful amplifications for AC/TUB/rpoB/katG/in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 the number (%) of weak amplifications for AC/ TUB/rpoB/katG/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 the number (%) of different mutation “types” (common and uncom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 the number (%) of tests with mixed pattern (rpoB/katG/in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rd specimens tested in one batch and technician who performed the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nitor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1817280"/>
            <a:ext cx="8066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and drug susceptibility testing of all specimens with resistan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10% of specimens with susceptibl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firm discrepant results (molecular vs conventional) by another molecular method,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form lot-to-lot runs with well-characterized DNA ex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Quality control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60200"/>
            <a:ext cx="80661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velop and follow SOPs for procedure and instrument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Summary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03120"/>
            <a:ext cx="79246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mpare all molecular results with other laboratory results, i.e. culture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dentific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conventional drug susceptibility testing and, if possible, with clinical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E2A-AF2B-4687-B04B-BB814CC6B85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539640" y="1413000"/>
            <a:ext cx="799308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roubleshooting (1)</a:t>
            </a:r>
            <a:br>
              <a:rPr sz="3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414440"/>
            <a:ext cx="482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weak or no signals, including Conjugate Control z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eck instruments, reagents and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om temperature was too low or reagents were not properly pre-warmed to room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ubation temperature too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o, or insufficient, CON-C and/or SUB-C wa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gent exp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ain kit Addis"/>
          <p:cNvPicPr/>
          <p:nvPr/>
        </p:nvPicPr>
        <p:blipFill>
          <a:blip r:embed="rId1"/>
          <a:stretch/>
        </p:blipFill>
        <p:spPr>
          <a:xfrm>
            <a:off x="5292720" y="2349360"/>
            <a:ext cx="3719520" cy="27910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roubleshooting (2)</a:t>
            </a:r>
            <a:br>
              <a:rPr sz="3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ak or no signals, except for Conjugate Control z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ck instruments, reagents and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MN and Taq were frozen and thawed too many times (optimal 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ti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MN, Taq and other Master Mix components were exposed to heat during reagent preparation; use table-top coo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ubation temperature too high or too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ck purity of processed specimen (contaminated parallel culture, Gram or AFB sm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Quality (presence of inhibitors) and/or quantity of extracted DNA do not allow an efficient a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ck Amplified Product for presence of amplicons on 2% agarose g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 case of no visible amplicons, repeat DNA extraction and amplifi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 case of weak band, increase the amount of DNA added from 5 to 8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 case of intense and smeared bands, dilut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roubleshooting (3)</a:t>
            </a:r>
            <a:br>
              <a:rPr sz="3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20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homogeneous staining of ba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ps were not completely immersed by reagents during incubation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y was not shaken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ackground colo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eck instruments, reagents and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-C and/or SUB-C were too concent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ing steps were not thorough en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olutions were too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pending on the amount of amplified DNA used and on the specific reaction conditions, a strong and fast colour development may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such cases, discontinue incubation with SUB-D as soon as signals are clearly visible, so as to prevent development of smeared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rd specimens that were processed (NALC/ NaOH) and tested (GenoType MTBDRplus) in the same b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cord which technician performed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individual PCR tubes instead of 0.2 ml strips (Stratalink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s before entering specimen preparation area.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are finished working in the specimen preparation area;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62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sodium 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bleach should not fall below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master mix reagents in desktop cooler, especially Taq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quot sterile molecular-grade water into 1.5 ml tubes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2565360"/>
            <a:ext cx="2033640" cy="2365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5556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CR tubes can only be taken to amplification/detection area in an aluminum foil- covered beak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back this beaker to specimen or reagent preparation 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,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for molecular work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 (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8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14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 the instructions for sodium hypochlorite as describ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quot sterile molecular-grade water into 1.5 ml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0">
              <a:lnSpc>
                <a:spcPct val="9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7:16Z</dcterms:modified>
  <cp:revision>368</cp:revision>
  <dc:subject/>
  <dc:title>PowerPoint Presentation</dc:title>
</cp:coreProperties>
</file>