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B02-F4A5-4677-9F07-89C8DB78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4E-A70A-42E7-9BEB-434C5971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320-2C37-48D0-BB39-CEABDF87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B6F-8A63-4200-BFF8-21A0298E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0F72-E9C9-4D7D-B8C0-B8C9B8A6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5669-7154-45DD-9F14-8A56E949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513B-0146-4A5C-B465-FEEBC01D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3EA7-A243-4482-A313-48314BE4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E8A6-B3B3-45B1-9A7E-D9BF8040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10CC-07BF-4FF5-A692-9EEDF63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CC8B-4546-4245-B004-50E22909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D21-B4FF-4DA1-87D9-B819A469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9980-D3EE-46CA-8783-7E0D1DC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220B-F8AE-4082-9A4A-684D5E12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C65E-0B93-4FD9-8B85-F76E085A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BCD5-506C-414F-89CB-83652C1A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83CC-DF4A-43EE-8CAF-DCC6B62F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3749B-392A-4500-BA65-B2CAA790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04F01-BF78-4BED-979E-31BC4133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7C5D-350B-49C2-AF38-45D82983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3CCB-D3A7-4A06-B6B2-7BA0C8A9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D689-9019-4D0C-9ACE-BF76D253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7FE-02CF-4DD3-AA65-755AE97D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B0AD-355A-425C-8029-2A1CF87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5AF11-16AE-45D6-B9BA-521B2C8C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AC37-E41C-409C-B061-E282982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8383B-1F18-4A5F-9485-14832AA0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2DB41-0CF9-4A3A-AABF-532DCA89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57DA5-D850-41FB-9455-9AE2EC2A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B4388-870D-43E7-AFF2-1C91165F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9975-0628-4983-A227-D34808A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8188-BF89-4AA0-94AC-D6BC15A9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487-45E3-42DA-AE70-14D413D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75C-7745-4BCA-9A92-90999A7F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6775-A343-4100-9063-2A691415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E48-5A33-40D0-9C62-A5AE356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4702-9038-47B4-B9FE-1D4C70305A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214200" y="6353280"/>
            <a:ext cx="1403640" cy="5047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8" descr=""/>
          <p:cNvPicPr/>
          <p:nvPr/>
        </p:nvPicPr>
        <p:blipFill>
          <a:blip r:embed="rId3"/>
          <a:stretch/>
        </p:blipFill>
        <p:spPr>
          <a:xfrm>
            <a:off x="4284720" y="632772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6" descr="LogoColour"/>
          <p:cNvPicPr/>
          <p:nvPr/>
        </p:nvPicPr>
        <p:blipFill>
          <a:blip r:embed="rId4"/>
          <a:stretch/>
        </p:blipFill>
        <p:spPr>
          <a:xfrm>
            <a:off x="6858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2947-7C25-40F0-BE74-06E23444A5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923-F691-407A-8151-B298825424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Line-Probe Assay CM interpre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78A4-777C-40EF-ADD0-CF284D01B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the principle of reverse hybrid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DB4E-66D8-4259-BB22-84A7142BD5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182600" y="1600200"/>
            <a:ext cx="6778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 internal controls on each str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bands must be present for a valid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1 - Conjugate Control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the binding of substrate to the conjugate  during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ization 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 2 - Universal Control (U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mycobacteria and other gram-positive bacteria with a high G + C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fication control – PCR work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0790-7562-4A37-B5C6-91A5D8ADD7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pretation of CM str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us Control band –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cobacteria species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weak or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s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pecies if species-specific bands are present and GC is abs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es-specific b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F540-BC0E-4FF6-A6D2-1550A75408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55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dentification with species specific ban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number corresponding to the species-specific bands on work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bands on the interpretation ch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pecies are closely related and CM cannot distinguish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dentification as indicated on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94BB-A83F-4023-A936-FCB61B85FB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pretation of results (C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rcRect l="78848" t="0" r="0" b="0"/>
          <a:stretch/>
        </p:blipFill>
        <p:spPr>
          <a:xfrm>
            <a:off x="2500200" y="1643040"/>
            <a:ext cx="1676520" cy="4419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4214880" y="2428920"/>
            <a:ext cx="4214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pretation of b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ycobacter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, 4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avi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nds 1, 2, 3, 10, 16 = MTB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, 14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peregr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s 1, 2, 3, 17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. xeno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rcRect l="0" t="0" r="77047" b="0"/>
          <a:stretch/>
        </p:blipFill>
        <p:spPr>
          <a:xfrm>
            <a:off x="609480" y="1652760"/>
            <a:ext cx="1819440" cy="4419360"/>
          </a:xfrm>
          <a:prstGeom prst="rect">
            <a:avLst/>
          </a:prstGeom>
          <a:ln w="0">
            <a:noFill/>
          </a:ln>
        </p:spPr>
      </p:pic>
      <p:sp>
        <p:nvSpPr>
          <p:cNvPr id="154" name="Oval 7"/>
          <p:cNvSpPr/>
          <p:nvPr/>
        </p:nvSpPr>
        <p:spPr>
          <a:xfrm>
            <a:off x="2643120" y="4357800"/>
            <a:ext cx="285840" cy="214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2643120" y="3071880"/>
            <a:ext cx="285840" cy="500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2643120" y="5286240"/>
            <a:ext cx="285840" cy="142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3F52-FCF9-4839-A603-31CE959E3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M: ID of 14 species + MTB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: ID of 16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576360" y="1500120"/>
            <a:ext cx="7924680" cy="441972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4D5-5C56-4A8C-ABFC-3E4DFA84F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5EE5-0576-46FD-AD5D-FD5A01FC1A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10:59:53Z</dcterms:modified>
  <cp:revision>437</cp:revision>
  <dc:subject/>
  <dc:title>PowerPoint Presentation</dc:title>
</cp:coreProperties>
</file>