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WHOOSH.WAV" ContentType="audio/x-wav"/>
  <Override PartName="/ppt/media/image6.wmf" ContentType="image/x-wmf"/>
  <Override PartName="/ppt/media/image7.jpeg" ContentType="image/jpeg"/>
  <Override PartName="/ppt/media/image9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02AA2C-8CBE-44F0-B7FD-31B54F44E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904685-36A5-4686-881E-19479FB87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386E68-4CA3-4482-8C2A-BE4ED453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375DFD-0299-48E6-86DF-F07AF4E4E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64322E-A9AD-4185-B394-3A10494AC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3C66-0B6B-48C5-A6F2-12646FBE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2D0-B0F5-45C0-8FD7-879D1D07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392-ECF5-4896-B55B-BA7D6913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6C8-7A2C-42B6-9B9A-C01FDEEB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50AC-191E-4140-85C4-ED418C5A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0B78-E84F-4C89-A90D-D0D8925C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D69-84D0-4966-85FC-9E1B450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4277-1FC9-4CE8-85F5-D4039C66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DF5A-9DA5-4229-83F9-C4A8C2C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C56-8CBC-4C5A-9146-76090229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572F-7F8A-4FEA-ADAB-817A6AD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29A-8823-40FD-B1C3-16005860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E18D-AE65-41B8-AD89-7F8E2ADA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B905-75F9-43C6-AD7B-9619CAF5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7C5A-68D5-43BA-AA46-FB5158DB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AEF4-C691-4C99-8767-832C20B0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E0B2-3D9F-4423-A5C4-0209F2E0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045-D37A-4077-851E-FFBFCC7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7C8-BC8F-4A6E-ABB5-6984D310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44F-B30A-4BEB-92D7-C7DA9ECA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0EA-4B2C-4F5C-B6D4-9AE300FD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9E6-765D-4BDD-B27E-E2A7EE3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438-F2F3-47AF-A536-E593C6EE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2DF-7C19-480D-B605-5667DBB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561-FEDB-447C-9B16-2479EC62B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2969-67B3-4686-9522-95DD09EFA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of the current epide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the method of staining, the use of a concentration step and the experience of the laboratory staff may increa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 (most are acid-f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 (appropriate organisms, organized workflow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, and a model of logic in application of the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naturally occurring, spontaneous mutations in genes that encode either the target of the drug, or enzymes that are involved in drug acti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 and streptomy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430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0% of high INH-resistant clinical iso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609480" y="1523880"/>
          <a:ext cx="350532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50532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Isoniazid resistance and virulen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results in an enzyme without the ability to activate INH, but retains approximately 50% of its catalase-peroxid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 resistance and catalase-peroxid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8"/>
          <p:cNvSpPr/>
          <p:nvPr/>
        </p:nvSpPr>
        <p:spPr>
          <a:xfrm>
            <a:off x="44132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Global Burden of TB (2009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8DB-570D-4CEA-A438-1AB0F5289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868400" y="1785960"/>
            <a:ext cx="54072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 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-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62120" y="2971800"/>
            <a:ext cx="78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 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LIPA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9"/>
                </a:solidFill>
                <a:latin typeface="Arial"/>
              </a:rPr>
              <a:t>Rapid molecular detection of INH and RMP resistance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–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62120" y="1155600"/>
            <a:ext cx="7488000" cy="5702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b9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5FE8-C32A-47DD-9F2E-40ABFEBF9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57200" y="76320"/>
            <a:ext cx="7696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3800"/>
            </a:b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57200" y="1523880"/>
            <a:ext cx="81532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ded treatment with multiple anti-TB drugs needed for effective c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ifampin (RMP), Isoniazid (INH), Pyrazinamide (PZA), Ethambutol (EMB) or Streptomycin (S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itial two months with RMP, INH, PZA, and EMB or S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other four months with RMP and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s regime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ombines anti-TB activ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uts down on development of resistan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Eliminates persisting organisms that can lead to relap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uses of drug resistance in T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ack of understanding of why long-term therapy with multiple drugs i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n-adherence to therapy by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correct drug prescribing by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or qualit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rratic supply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labsorption of drugs primarily due to symptoms of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152280"/>
            <a:ext cx="86868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long-term therapy with multiple drugs?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1523880"/>
            <a:ext cx="83055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rugs eliminate the actively growing bacterial population of ce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However, TB can become dormant in the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drugs act on semi-dormant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However, some dormant non-replicating bacteria survive during 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eriodically leave dormant state and resume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Stopping anti-TB therapy will lead to relapse of dis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B therapy must be continued until all actively growing and dormant cells are kil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-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52280" y="0"/>
          <a:ext cx="876312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876312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8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i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5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5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5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Drug susceptibil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6:31Z</dcterms:modified>
  <cp:revision>93</cp:revision>
  <dc:subject/>
  <dc:title>Slide 1</dc:title>
</cp:coreProperties>
</file>