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FCA9-8DD3-47BA-ACFE-9D35D5D82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D25E-251F-4E5D-894E-0EEA45AD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6CD5-4F9A-4332-AB57-8B259F46C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00F5-425B-4DF2-A6B3-47F6F814F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51F8-4702-482D-9465-AF18811D0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31AF-57B5-4F4B-B0B6-959C68D6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7A20-05B0-4994-A189-84466232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6D38-217A-4A84-928E-DD9F2482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5B17-85C1-4021-AC85-CE7AE10F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4F5C-92E2-4F6C-908C-7A190FAF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1051-5C66-46EA-A51B-8C395FD1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D28B-C1F3-4BCD-A9DC-9C7D661C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6D34-61E9-4BB9-A786-D173A1E9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DC907-DAAD-4691-A317-947183BD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A140-EA58-44FD-AA41-55406D4A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F0F6-1362-4EE9-893A-90A827EDC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796C9-3BB0-44F0-AC98-1894F6621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6049-808F-4B63-ADEA-EBD05EC4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4460-DD57-430C-919F-2CA7A101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5A31-7CFA-475B-99E7-1B5013DC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A41E-9689-43E3-8C93-D447C6BD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9B6F-4C46-42D4-9A5C-07553512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75EF-11B5-4216-8822-9E9BB5DE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41F4-6BFD-421E-BD65-71153874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2FA8-008C-482B-807D-34F30DC2D6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16BF-93F8-43AB-92D0-A87F45DB9B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PCR laboratory layou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practices for placing laboratory equipment for molecula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How would you designate each space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6" descr="0 PCR Laboratory with Answers empty"/>
          <p:cNvPicPr/>
          <p:nvPr/>
        </p:nvPicPr>
        <p:blipFill>
          <a:blip r:embed="rId1"/>
          <a:stretch/>
        </p:blipFill>
        <p:spPr>
          <a:xfrm>
            <a:off x="1676520" y="1523880"/>
            <a:ext cx="55213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rea 1: Reagent preparation room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6" descr="0 a PCR Laboratory with Answers w defines spaces"/>
          <p:cNvPicPr/>
          <p:nvPr/>
        </p:nvPicPr>
        <p:blipFill>
          <a:blip r:embed="rId1"/>
          <a:stretch/>
        </p:blipFill>
        <p:spPr>
          <a:xfrm>
            <a:off x="1905120" y="1523880"/>
            <a:ext cx="563868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a 2: Specimen preparation room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12" descr="Area 1 reagent prep"/>
          <p:cNvPicPr/>
          <p:nvPr/>
        </p:nvPicPr>
        <p:blipFill>
          <a:blip r:embed="rId1"/>
          <a:stretch/>
        </p:blipFill>
        <p:spPr>
          <a:xfrm>
            <a:off x="1600200" y="1432080"/>
            <a:ext cx="5943600" cy="47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a 3: Amplification/detection room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7" descr="Area 2 specimen prep"/>
          <p:cNvPicPr/>
          <p:nvPr/>
        </p:nvPicPr>
        <p:blipFill>
          <a:blip r:embed="rId1"/>
          <a:stretch/>
        </p:blipFill>
        <p:spPr>
          <a:xfrm>
            <a:off x="1523880" y="1447920"/>
            <a:ext cx="586764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nteroom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9" descr="Area 3 amplification-detection"/>
          <p:cNvPicPr/>
          <p:nvPr/>
        </p:nvPicPr>
        <p:blipFill>
          <a:blip r:embed="rId1"/>
          <a:stretch/>
        </p:blipFill>
        <p:spPr>
          <a:xfrm>
            <a:off x="1600200" y="1371600"/>
            <a:ext cx="594360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e are the major pieces of laboratory equipment necessary to run molecular assays for TB ident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7" descr="Anteroom"/>
          <p:cNvPicPr/>
          <p:nvPr/>
        </p:nvPicPr>
        <p:blipFill>
          <a:blip r:embed="rId1"/>
          <a:stretch/>
        </p:blipFill>
        <p:spPr>
          <a:xfrm>
            <a:off x="1676520" y="1447920"/>
            <a:ext cx="586728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E4B3-3972-4E6F-A0A7-0D3A7082EE8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19:10:40Z</dcterms:created>
  <dc:creator>kyle tholen</dc:creator>
  <dc:description/>
  <dc:language>en-US</dc:language>
  <cp:lastModifiedBy>Philip</cp:lastModifiedBy>
  <dcterms:modified xsi:type="dcterms:W3CDTF">2012-01-26T09:58:56Z</dcterms:modified>
  <cp:revision>9</cp:revision>
  <dc:subject/>
  <dc:title>PCR Laboratory Layout</dc:title>
</cp:coreProperties>
</file>