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0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12.png" ContentType="image/png"/>
  <Override PartName="/ppt/media/image11.png" ContentType="image/pn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2466-A895-41CA-BD50-B14C0CB3B36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354E-20B7-42E7-866D-BD12C7C6658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23AA-0D8E-4624-8DAE-850E2B41C77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7CF5-E1F5-4B8C-A975-A51BE997E7D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D8A7-4FD7-40A7-8087-8763976356E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1798-6796-4788-A3A0-082FE6D0265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9C75-13F0-4E11-9943-C7A696805C2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4DA8-1E0F-4634-B80D-39E0822D7AF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DD76-80DC-4256-95AF-319182D9DBB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BE38-5F1E-4413-8310-54AAB294047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5C40-B977-42F1-9472-B1F83093179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37D3-00F8-4E2C-993D-63495004FBF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1B1E-ACAA-4544-A5E5-185634C5651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EC1A-857C-4B19-8E6E-F319C98FA22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FB1E-95F3-459C-8AF9-9BB5A579FBC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2312-FC3E-48F4-A8F4-19ED3D10407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Place absorbent paper towelling on the work surface to minimize the potential of exposure to infectious material or cross contamination in case of a s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cking the grill disrupts the integrity of the cabinet air barrier and  can compromise both staff and product prot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ing clean materials at least 12 cm away from aerosol-generating activities will minimise the potential for cross-contam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8CCD-6332-4F17-AE67-FDB3D9FC131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the laborator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9DFA-0F67-4CA4-9142-E950A303F14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6AED-3D34-4E2B-A76A-8E1E1872346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1F7-F46D-4FF8-8100-E105FDB6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AE59-76E5-44BE-B5AA-4B150C45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090-8271-42EF-ACF0-0768428A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CECF-6EDD-4160-8054-6CFA32C2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C4B3-2415-4220-B62C-3AE72631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8116-D9B4-454B-978F-E7CB00AC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6CF0-5F01-40A8-B9FD-B7887D94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0B97-D082-4DBF-B34E-057CE75F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CD4E-CC72-4D68-A85C-EA2BD625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37C6-136B-438A-926F-D2082BB6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0507-59EA-4895-8E60-964E869F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CB8-9022-4D33-B390-1EF2A06B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9D1E-C896-4475-B103-8DD4D451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E5CD-5B70-4476-B5FA-B7AADF3F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A84E-228E-4B68-B996-46577867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15F0-CD64-4F22-9813-2747000A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0BA8-13B5-43A4-89C6-3085A7BB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6AC-7AEB-4238-8B2D-D7B01FC9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783A-1460-4C48-AD58-8AC1665A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E3B-BEDC-40A1-B1ED-7624221E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2FAD-A543-4F61-88BC-CACC483C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108A-2715-48DA-810B-094A03DF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7978-78A1-4387-9AD6-428DBA99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9874-983F-4E9B-AE3B-8FFA647F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A4BD-7961-418B-A2CB-E1E3185DD1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ED8C-533E-40F2-A766-EE5859A7BE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MTBDRplus V2.0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pecimen prepar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282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ation of liquid cultur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914560" y="1413000"/>
            <a:ext cx="5473800" cy="53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ork in sets equivalent to one centrifuge load (8-16 specimens at a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bel 1.5 ml screw-cap conical tubes (both tubes and caps) for each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liquid culture to break up clumps for 1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ansfer 1 ml of liquid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. tuberculosis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ulture into 1.5 ml conical tubes. Change transfer pipettes or filtered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suspension for 1 min to completely break up flakes and clu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869040" y="5732640"/>
            <a:ext cx="733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biohazardsign"/>
          <p:cNvPicPr/>
          <p:nvPr/>
        </p:nvPicPr>
        <p:blipFill>
          <a:blip r:embed="rId1"/>
          <a:stretch/>
        </p:blipFill>
        <p:spPr>
          <a:xfrm>
            <a:off x="7596360" y="26028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8" name="Picture 12" descr=""/>
          <p:cNvPicPr/>
          <p:nvPr/>
        </p:nvPicPr>
        <p:blipFill>
          <a:blip r:embed="rId2"/>
          <a:stretch/>
        </p:blipFill>
        <p:spPr>
          <a:xfrm>
            <a:off x="971640" y="1989000"/>
            <a:ext cx="1222200" cy="318960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7480" y="13824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cimen prepara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3789360"/>
            <a:ext cx="7920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140760" indent="-14076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llet bacteria by centrifuging specimen for 15 min at 10,000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0760" indent="-14076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 table top centrifuge with an aerosol tight ro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en rotor in the B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0760" indent="-14076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rk the cap of the tubes to make visualization of pellet easier when removing the superna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0760" indent="-14076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t the vials stand in the rack for 1-2 min to avoid aerosol generation when opening the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0760" indent="-14076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ing a 1 ml pipette with filtered tips, carefully aspirate the supernatant without removing the pellet.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07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5" descr="biohazardsign"/>
          <p:cNvPicPr/>
          <p:nvPr/>
        </p:nvPicPr>
        <p:blipFill>
          <a:blip r:embed="rId1"/>
          <a:stretch/>
        </p:blipFill>
        <p:spPr>
          <a:xfrm>
            <a:off x="752472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2411280" y="1484280"/>
            <a:ext cx="3710160" cy="22957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511920" y="6229440"/>
            <a:ext cx="81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3300"/>
                </a:solidFill>
                <a:latin typeface="Arial"/>
              </a:rPr>
              <a:t>Infectious material: all manipulations have to be performed in a BSC at BSL3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9640" y="3789360"/>
            <a:ext cx="8136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100µl Lysis buffer (A-LYS) to the sediment and suspend using vortex mi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cubate for 5 minutes at 95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, preferably in a hot air oven (monitor temperature using calibrated thermome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100µl  Neutralisation buffer (A-NB) and vort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If the procedure was properly carried out, sample can be considered non-infectious after this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527760" y="5661000"/>
            <a:ext cx="810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3300"/>
                </a:solidFill>
                <a:latin typeface="Arial"/>
              </a:rPr>
              <a:t>Infectious material: all manipulations have to be performed in a BSC at BSL3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28600" y="209520"/>
            <a:ext cx="80154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pecimen prepara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NA extraction with Geno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biohazardsign"/>
          <p:cNvPicPr/>
          <p:nvPr/>
        </p:nvPicPr>
        <p:blipFill>
          <a:blip r:embed="rId1"/>
          <a:stretch/>
        </p:blipFill>
        <p:spPr>
          <a:xfrm>
            <a:off x="7451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2349360" y="1341360"/>
            <a:ext cx="40942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916000" y="1413000"/>
            <a:ext cx="5616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4240" indent="-1742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ifuge specimens for 5 min at 13,000 x g (maximum spe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 table top centrifuge with an aerosol tight ro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open rotor in the B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24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ansfer supernatant containing DNA to new 1.5 ml screw-cap vials using a 1 ml pipette with filtered tips.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tir up pe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reeze leftover specimens at -2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240" indent="-1742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Specimens may be kept at 4°C for not more than 7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cimen prepara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985760" cy="43178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52" name="Text Box 15"/>
          <p:cNvSpPr/>
          <p:nvPr/>
        </p:nvSpPr>
        <p:spPr>
          <a:xfrm>
            <a:off x="2700360" y="2924280"/>
            <a:ext cx="2232000" cy="763560"/>
          </a:xfrm>
          <a:prstGeom prst="rect">
            <a:avLst/>
          </a:prstGeom>
          <a:solidFill>
            <a:srgbClr val="d9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 Always use screw-cap, not flip-cap, vials in order to avoid cont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7"/>
          <p:cNvSpPr/>
          <p:nvPr/>
        </p:nvSpPr>
        <p:spPr>
          <a:xfrm>
            <a:off x="1692360" y="3429000"/>
            <a:ext cx="863640" cy="7938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4211640" y="1484280"/>
            <a:ext cx="475308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211640" y="1557360"/>
            <a:ext cx="432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ork in a PCR hood (optional) in DNA-”dirty are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thaw superna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ipette up and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5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 of each DNA sample to the corresponding tube containing the 45µl master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nge filtered pipette tips between each addition and dispose of them in 1% bleach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 PCR tubes with new PCR tube caps and place them in a sterile glass beaker covered with aluminum f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468360" y="3716280"/>
            <a:ext cx="3332160" cy="2678040"/>
          </a:xfrm>
          <a:prstGeom prst="rect">
            <a:avLst/>
          </a:prstGeom>
          <a:ln w="0">
            <a:noFill/>
          </a:ln>
        </p:spPr>
      </p:pic>
      <p:sp>
        <p:nvSpPr>
          <p:cNvPr id="157" name="Oval 6"/>
          <p:cNvSpPr/>
          <p:nvPr/>
        </p:nvSpPr>
        <p:spPr>
          <a:xfrm>
            <a:off x="1979640" y="5229360"/>
            <a:ext cx="647640" cy="1268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cimen preparation 5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38292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9640" y="1555920"/>
            <a:ext cx="734544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Decontaminate any materials (vials, tubes etc.) before removal from the BSC and PCR 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ean pipettes, racks, instruments and the BSC with freshly diluted 1% bleach (20 min), followed by 70% alcoh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area-dedicated spray flasks or beakers (separate beakers for surface cleaning and instru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 not take anything from this area to Reagent Preparation 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sider performing specimen preparation on a separate day to enable unidirectional work flow between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cimen preparation 6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biohazardsign"/>
          <p:cNvPicPr/>
          <p:nvPr/>
        </p:nvPicPr>
        <p:blipFill>
          <a:blip r:embed="rId1"/>
          <a:stretch/>
        </p:blipFill>
        <p:spPr>
          <a:xfrm>
            <a:off x="7524720" y="27936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used here have to be labeled accordingly and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should no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the Reagent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ou may only take the PCR tubes in an aluminum foil-covered beaker to Amplification/Detec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bring this beaker back to Specimen or Reagent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use 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try to put cotton plugs into un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Do not use flip-cap tubes, always use screw-cap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 detection 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, use BSC only for DNA ex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only for molecula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by speci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llow the instructions for bleach solutio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70% alcohol instead of distilled water for cleaning to avoid contamination of distilled water st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iquot sterile molecular grade water into 1.5 ml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tablish a regular 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weekly) and thorough laboratory cleaning protocol (floors, doors, wa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-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 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7742-5EFB-438A-ADCF-37696DBD9CD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Working in a Biological Safety Cabinet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Specimen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553080" cy="5267520"/>
          </a:xfrm>
          <a:prstGeom prst="rect">
            <a:avLst/>
          </a:prstGeom>
          <a:ln w="0">
            <a:noFill/>
          </a:ln>
        </p:spPr>
      </p:pic>
      <p:sp>
        <p:nvSpPr>
          <p:cNvPr id="104" name="Oval 4"/>
          <p:cNvSpPr/>
          <p:nvPr/>
        </p:nvSpPr>
        <p:spPr>
          <a:xfrm>
            <a:off x="1116000" y="4581360"/>
            <a:ext cx="1224000" cy="216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844640" y="27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Use appropriate BSL3 PPE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have solid front and can be tied in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ng-sleeved with elastic c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be either autoclavable/washable (soak in bleach) or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pi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5154480" y="1434960"/>
            <a:ext cx="3430440" cy="2590920"/>
            <a:chOff x="5154480" y="1434960"/>
            <a:chExt cx="3430440" cy="2590920"/>
          </a:xfrm>
        </p:grpSpPr>
        <p:pic>
          <p:nvPicPr>
            <p:cNvPr id="111" name="Picture 5" descr="camice"/>
            <p:cNvPicPr/>
            <p:nvPr/>
          </p:nvPicPr>
          <p:blipFill>
            <a:blip r:embed="rId1"/>
            <a:srcRect l="15999" t="0" r="10264" b="0"/>
            <a:stretch/>
          </p:blipFill>
          <p:spPr>
            <a:xfrm>
              <a:off x="5154480" y="1752120"/>
              <a:ext cx="1541160" cy="19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6" descr="surgical gown2"/>
            <p:cNvPicPr/>
            <p:nvPr/>
          </p:nvPicPr>
          <p:blipFill>
            <a:blip r:embed="rId2"/>
            <a:stretch/>
          </p:blipFill>
          <p:spPr>
            <a:xfrm>
              <a:off x="6854760" y="1434960"/>
              <a:ext cx="173016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Picture 7" descr="masks"/>
          <p:cNvPicPr/>
          <p:nvPr/>
        </p:nvPicPr>
        <p:blipFill>
          <a:blip r:embed="rId3"/>
          <a:srcRect l="14273" t="20464" r="14538" b="14125"/>
          <a:stretch/>
        </p:blipFill>
        <p:spPr>
          <a:xfrm>
            <a:off x="5003640" y="3932280"/>
            <a:ext cx="26812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2760" y="228600"/>
            <a:ext cx="696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BSL 3 PPE is suitable fo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ipulating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ntrifu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oculation of D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smears from cultures and processed speci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ochemical testing to identify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aring samples for PCR (before heat or chemical k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Working in BSC I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360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ntaminate the BSC with freshly diluted 1% bleach (20 min), followed by 70%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he working area with paper towels and spray it with suitable disinfe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discard container with a plastic bag and freshly diluted 1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O NOT block the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erform all operations at least 12 cm away from the front grill on the work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lace all materials and aerosol-generating equipment away from the front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IMG_4028"/>
          <p:cNvPicPr/>
          <p:nvPr/>
        </p:nvPicPr>
        <p:blipFill>
          <a:blip r:embed="rId1"/>
          <a:stretch/>
        </p:blipFill>
        <p:spPr>
          <a:xfrm>
            <a:off x="4140360" y="1916280"/>
            <a:ext cx="4392360" cy="329544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Working in BSC 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3456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3760" y="43920"/>
            <a:ext cx="8337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ation of clinical specimens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5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1360440" cy="3211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23" name="Text Box 16"/>
          <p:cNvSpPr/>
          <p:nvPr/>
        </p:nvSpPr>
        <p:spPr>
          <a:xfrm>
            <a:off x="2914560" y="1989000"/>
            <a:ext cx="547380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ork in sets equivalent to one centrifuge load (8-16 specimens at a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bel 1.5 ml screw-cap conical tubes (both tubes and caps) for each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thaw frozen and processed clinical sed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processed clinical specimen for 1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only one specimen at a time; do not leave open containers or centrifuge tubes in the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ansfer 50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 processed clinical specimen into 1.5 ml conical screw-capped vial.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033560" y="558972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at least in an appropriate BSL2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9"/>
          <p:cNvSpPr/>
          <p:nvPr/>
        </p:nvSpPr>
        <p:spPr>
          <a:xfrm flipH="1">
            <a:off x="1835280" y="3068640"/>
            <a:ext cx="107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682560" y="134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nical specimens have to be processed by N-acetyl-L-cystein/NaOH method before specimen preparation for L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2" descr="biohazardsign"/>
          <p:cNvPicPr/>
          <p:nvPr/>
        </p:nvPicPr>
        <p:blipFill>
          <a:blip r:embed="rId2"/>
          <a:stretch/>
        </p:blipFill>
        <p:spPr>
          <a:xfrm>
            <a:off x="7596360" y="33336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9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176480" cy="2933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7320" y="189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 of isolates on solid cul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916360" y="1484280"/>
            <a:ext cx="547344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ork in sets equivalent to one centrifuge load (8-16 specimens at a t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abel 1.5 mL screw cap conical tubes (both tubes and caps) for  each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e-suspend a half loopful but representative no. of colonies of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. tuberculosi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culture on solid medium. Change loop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scrape the surface of the medium since components of egg-based medium can be PCR inhib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Vortex suspension for 1 min to completely break up colonies and clu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866520" y="5796000"/>
            <a:ext cx="733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1834920" y="3645000"/>
            <a:ext cx="1081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biohazardsign"/>
          <p:cNvPicPr/>
          <p:nvPr/>
        </p:nvPicPr>
        <p:blipFill>
          <a:blip r:embed="rId2"/>
          <a:stretch/>
        </p:blipFill>
        <p:spPr>
          <a:xfrm>
            <a:off x="7667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eidi Albert</dc:creator>
  <dc:description/>
  <dc:language>en-US</dc:language>
  <cp:lastModifiedBy>iragenaj</cp:lastModifiedBy>
  <dcterms:modified xsi:type="dcterms:W3CDTF">2012-02-03T07:13:09Z</dcterms:modified>
  <cp:revision>380</cp:revision>
  <dc:subject/>
  <dc:title>PowerPoint Presentation</dc:title>
</cp:coreProperties>
</file>