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104-D597-4B72-8CF1-6FFFAE91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F29-FA0E-4669-8B6E-2CE4ECF6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03A-FBC6-4C81-B49A-C15B544D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137-1A39-4FAA-A3B7-6E45C864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508B-ABA9-4E1B-8181-05B43DA1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EF93-1440-488F-BB1B-0849A30F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D7E8-2A46-4AA8-8235-3BED6F1D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8010-C51A-4446-BFCB-540E277F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C537-4760-4AE2-AB12-C6F3051F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DBF6-C2ED-4D0E-8716-DB648EFD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5667-B9C5-411C-BCD9-6CB776E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EC2-19AC-4F88-AA73-102B5638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C229-7045-476F-B1C6-216B6F82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3AE7-5AF2-4515-AA52-42AE46C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BE6C-467A-43C9-BA2A-2A7CDC3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E87D-A8F7-4D23-ACA3-24F3B055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D025-0302-4E90-979E-5D96DBA1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79219-8921-4666-987F-341878F6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4879-9A96-4747-8750-0D43FC81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98A4-E7F5-40BC-A40A-84B36618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35F10-FF15-4677-ADC8-F0B14120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28BE-3412-4381-8174-6CA5421E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E86-1B18-452C-A398-EE17A63C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D3B9-B334-47C8-95BE-4CEB5129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258C2-BFD9-4CAD-9711-56D41FC8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9F28-97FC-4AE7-AEE1-595F36D4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2A26-27DE-41D1-B847-CC5710F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FD22-B2EB-4B30-ACC5-3C4C2E47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3C8D5-1E7B-46FB-92C3-56DD1460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F1CC5-A9D2-4704-8A71-B393F9B5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78E-B9C6-45DA-B5D8-7369F8A6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9AD-0A28-47E6-906D-0BE657F0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4D5-1BE7-4992-8AE6-38ACB9B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FF3-DD56-4534-A0DF-50F4F324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2BC-5D85-4B51-9EE0-3B794FD7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06F-9AAD-4C08-A50B-D941952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65CE-DC76-45B6-91BD-B9F5A747BB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214200" y="6353280"/>
            <a:ext cx="1403640" cy="504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8" descr=""/>
          <p:cNvPicPr/>
          <p:nvPr/>
        </p:nvPicPr>
        <p:blipFill>
          <a:blip r:embed="rId3"/>
          <a:stretch/>
        </p:blipFill>
        <p:spPr>
          <a:xfrm>
            <a:off x="4284720" y="632772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6" descr="LogoColour"/>
          <p:cNvPicPr/>
          <p:nvPr/>
        </p:nvPicPr>
        <p:blipFill>
          <a:blip r:embed="rId4"/>
          <a:stretch/>
        </p:blipFill>
        <p:spPr>
          <a:xfrm>
            <a:off x="6858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B54C-2907-41B7-86C1-D64487EEA5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E528-FD55-42E6-AD59-0AE7BCB05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EA9F-BD12-4179-AB88-19E40154F9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code is read as it passes over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with differ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866A2-986D-4DDA-9389-D3204391D1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894E-2033-4D81-9CD3-69B0FA8DA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 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9651-5D41-472A-889F-A937812B7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9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AF6B-9271-46AB-8AF5-5438DA2BF3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4741-568F-4D07-9A3A-FED4A78E3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”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4D7C-8E09-4DC8-9A66-84A2B8C8D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CD38-C95A-4F0B-8F93-8CA85FF9D8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 – target 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20CE-D992-4021-83CB-2C152F87D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ACCC-ACAD-4D00-A9ED-A1731BE30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5FFF-1B3D-4C25-85A0-AF320F1DF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49B5-654F-412F-9E16-F0BC4073C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-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is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170-05CC-40C5-85A9-0BEA0197E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17D4-B9C8-4643-807B-9756A3CB5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, and are composed of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3326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3326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 – Adenine (A), Cytosine (C), Guanine (G)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3326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3326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: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303E-0611-4677-8724-C37217621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4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DDC-8AE4-4999-AC9A-CC3B0A500A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Straight Arrow Connector 11"/>
          <p:cNvCxnSpPr>
            <a:stCxn id="160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22D0-8CD6-450C-87E0-5295B9A26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7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of three nucleotide letters (triplets) for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 –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ies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4EF3-DA97-452F-8036-CD2862163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11:00:46Z</dcterms:modified>
  <cp:revision>630</cp:revision>
  <dc:subject/>
  <dc:title>PowerPoint Presentation</dc:title>
</cp:coreProperties>
</file>