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4.jpeg" ContentType="image/jpeg"/>
  <Override PartName="/ppt/media/image8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1ACC-4681-4D4A-B0DE-6257467F71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B9D5-94C8-4B16-AEF0-3A711AC0E8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the laborato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0C5-AB72-48A1-A949-426D3F5D0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D81-9DB1-456F-8EB4-4A8E6CFB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D2D-BD1C-4233-8716-BF11C548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F601-1723-4424-A7E3-4695A041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978-F2A8-45AA-8F62-0DA3A96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949C-2DC3-410C-84A2-49DB4FF9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9416-D08B-431B-9A12-11CEDD8E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7AF2-7110-4620-B473-306285B4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D0F9-FF95-4358-898D-F0401B4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5FA8-ED1F-45FE-AC0D-1768E3DB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F2E-93B7-4931-A78D-F1DC64B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0E1-E2BB-4A8E-84C8-D4A4677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3D5-D40B-472E-87B0-984CCFAF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912D-6B13-4143-9C29-B6340BB7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E18C-79B5-423D-B22E-4B007604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D09-6AF8-45C2-87F7-1905B8F8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F222-ED4A-469E-9748-8070D49F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1863-AB70-4AB1-98AA-7CA1406B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C1B-C2B8-4632-BCB4-832DDBCD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7E3-7444-4DD2-B007-ACBCEDF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353-3F5B-4C1C-AF72-BF333223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259-B084-48DD-B68D-4AB35A28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39E-E2D9-4E53-B7CE-92C6541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F9D-F8A8-41D1-AAEF-FA86792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54D-D794-4325-BBF8-7056736C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A6BD-A5BF-4CC7-BC28-C9682CE5E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B52A-525E-4D26-8ABB-E2517B5BD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44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ample preparation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16360" y="1700280"/>
            <a:ext cx="547344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rk in sets equivalent to one centrifuge load (8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6 specimens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both tubes and caps) for each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liquid culture for 1 min to break up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or filtered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suspension for 1 min to completely break up flakes an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2680" y="782640"/>
            <a:ext cx="83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a TB contai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0" name="Picture 1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(1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table-top centrifuge with an aerosol-tight ro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pen rotor in the BS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rk the cap of the tubes to make visualization of pellet easier when removing the superna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in to avoid aerosol generation when opening the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a 1 ml pipette with filtered tips, carefully aspirate the supernatant without removing the pellet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molecular grade water (pre-aliquoted in 1.5 ml sterile tubes) to pellet using a 2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tubes until pellet is completely re-suspended. This may take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680" y="785880"/>
            <a:ext cx="83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a TB contai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58920" y="1412640"/>
            <a:ext cx="561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tubes in an dry heat block for 30 min to kill MTB and disrupt cell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TB in drops on vial caps may remain viable in heat blocks or water bath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se of a small oven may be the best and safes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heat-kill was properly carried out, specimen may be considered non-infectious after thi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569880" y="1484280"/>
            <a:ext cx="2273400" cy="4273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7" name="Text Box 5"/>
          <p:cNvSpPr/>
          <p:nvPr/>
        </p:nvSpPr>
        <p:spPr>
          <a:xfrm>
            <a:off x="1117800" y="42148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680" y="76500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a TB contai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1" descr="biohazardsign"/>
          <p:cNvPicPr/>
          <p:nvPr/>
        </p:nvPicPr>
        <p:blipFill>
          <a:blip r:embed="rId2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563640" y="1557000"/>
            <a:ext cx="5111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ll sonicator with (filtered) distill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rn on sonicator for 15 min before use and check efficacy with a piece of aluminum f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ce tubes into a floating rack, turn on sonicator and incubate tubes for 15 min at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ean the sonicator tank with 1% freshly prepared bleach (20 min) followed by 70%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39640" y="2251080"/>
            <a:ext cx="2880000" cy="26179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3" name="Text Box 5"/>
          <p:cNvSpPr/>
          <p:nvPr/>
        </p:nvSpPr>
        <p:spPr>
          <a:xfrm>
            <a:off x="1407600" y="27748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87480" y="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916000" y="1413000"/>
            <a:ext cx="5616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specimens for 5 min at 13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en rotor in the B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,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tir up pel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not more than 7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985760" cy="43178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8" name="Text Box 15"/>
          <p:cNvSpPr/>
          <p:nvPr/>
        </p:nvSpPr>
        <p:spPr>
          <a:xfrm>
            <a:off x="2700360" y="292428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1692360" y="3429000"/>
            <a:ext cx="863640" cy="7938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211640" y="1484280"/>
            <a:ext cx="475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211640" y="1557360"/>
            <a:ext cx="4322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k in a PCR hood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thaw superna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pette up an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of each sample to the corresponding tube containing the master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filtered pipette tips between each addition and dispose in 1% bleach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 PCR tubes with new PCR tube caps and place them in a sterile glass beaker covered with aluminum foil (make holes in the foil for v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3168360" cy="2311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3600360" cy="2894040"/>
          </a:xfrm>
          <a:prstGeom prst="rect">
            <a:avLst/>
          </a:prstGeom>
          <a:ln w="0">
            <a:noFill/>
          </a:ln>
        </p:spPr>
      </p:pic>
      <p:sp>
        <p:nvSpPr>
          <p:cNvPr id="164" name="Oval 6"/>
          <p:cNvSpPr/>
          <p:nvPr/>
        </p:nvSpPr>
        <p:spPr>
          <a:xfrm>
            <a:off x="2124000" y="5516640"/>
            <a:ext cx="647640" cy="1268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pecimen preparation (5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 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for molecular work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llow the instructions for sodium hypochlorite, as describ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, in order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.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clean the work area properly after completing the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BEC2-1522-4B4A-A8C1-77CEEA51B5F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Working in BSC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9"/>
          <p:cNvGraphicFramePr/>
          <p:nvPr/>
        </p:nvGraphicFramePr>
        <p:xfrm>
          <a:off x="4316400" y="1413000"/>
          <a:ext cx="3965760" cy="475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0" y="1413000"/>
                    <a:ext cx="3965760" cy="4752720"/>
                  </a:xfrm>
                  <a:prstGeom prst="rect">
                    <a:avLst/>
                  </a:prstGeom>
                  <a:ln w="2844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Use appropriate TB containment  laboratory PPE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at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15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B containment  laboratory PPE is suitable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Working in BSC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spray it with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reparation of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25" name="Text Box 16"/>
          <p:cNvSpPr/>
          <p:nvPr/>
        </p:nvSpPr>
        <p:spPr>
          <a:xfrm>
            <a:off x="2916360" y="2492280"/>
            <a:ext cx="547344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k in sets equivalent to one centrifuge load (8 - 16 specimens at a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-cap conical tubes (both tubes and caps) for each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thaw frozen and processed clinical sedi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processed clinical specimen for 1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en only one specimen at a time; do not leave open containers or centrifuge tubes in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rocessed clinical specimen into 1.5 ml conical screw-capped vial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0" y="64764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at least in an appropriate moderate TB risk precaution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684360" y="162864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process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ample preparation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987640" y="1700280"/>
            <a:ext cx="54738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rk in sets equivalent to one centrifuge load (8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6 specimens at a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 cap conical tubes (both tubes and caps) for  each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-suspend a half loopful (but representative of a no. of colonies)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ulture on solid medium; change loo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be PCR inhib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suspension for 1 min to completely break up colonies an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12680" y="714240"/>
            <a:ext cx="836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a TB contai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1834920" y="3645000"/>
            <a:ext cx="1081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j</cp:lastModifiedBy>
  <dcterms:modified xsi:type="dcterms:W3CDTF">2012-02-03T07:13:52Z</dcterms:modified>
  <cp:revision>382</cp:revision>
  <dc:subject/>
  <dc:title>PowerPoint Presentation</dc:title>
</cp:coreProperties>
</file>