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15.jpeg" ContentType="image/jpeg"/>
  <Override PartName="/ppt/media/image26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6.png" ContentType="image/png"/>
  <Override PartName="/ppt/media/image14.wmf" ContentType="image/x-wmf"/>
  <Override PartName="/ppt/media/image24.wmf" ContentType="image/x-wmf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439-8A41-4B23-8D11-0567EF6F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EB6-FD86-4D1C-A74F-7698B849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C17-5BD4-4A58-BAE1-E27942B1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FAB-09BC-41C0-A68E-401F8F7A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C1E7-EB64-4057-9CAC-76919A4D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02BD-4377-4F36-97E2-9A8513B8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E3E6-07FC-4BC5-9115-9A49CEC9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45C7-0651-4C73-992B-3F1B69CC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494E-EC15-467F-8EC4-5579B7D3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8EA6-51FF-4C54-9926-4F70D34A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2A29-E02E-40B3-8ACA-C1BF2348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56E3-09DB-4A13-8A10-767065EA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8C40-CD9E-4908-B4FA-641E792F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FB1E-DD43-49A0-AC27-DB7C5633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38A9-26C8-4F0E-87B0-63DBA52F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FA8F-779D-4658-AB2C-75170D6C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4277-3E85-4CE0-8DDF-FBA8386C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67A-4FF0-472A-BEF4-0FAAAFA6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3D6-8130-493F-8D5D-F9B3E4DC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F9D-5780-4A12-920C-134CE6DF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D16-04C4-4FF0-8930-E3571905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AD96-8FCB-45BB-98EF-14FE1671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4B9-6117-4C57-899F-7AC565B7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53C-1417-43C0-A97C-7D424FD1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A46D-93DA-498F-A50F-168C38D459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0864-C941-4B89-AB90-15BB73AB8E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1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MTBDRplus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mplification and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539640" y="1484280"/>
            <a:ext cx="7920000" cy="424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2d5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6"/>
          <p:cNvGraphicFramePr/>
          <p:nvPr/>
        </p:nvGraphicFramePr>
        <p:xfrm>
          <a:off x="1476360" y="1693800"/>
          <a:ext cx="625968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693800"/>
                    <a:ext cx="625968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5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of denatu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6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brid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284360" y="1785600"/>
            <a:ext cx="43196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60920" indent="-16092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arefully add 1 ml of pre-war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Y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buffer to each trough using filtered tips; change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ut the necessary amount of reagents (HYB, STR, RIN) into a 50 ml tube and use this as stock; use long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ently shake trough to homogenously mi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Y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ampl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920" indent="-16092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o not make any spills into neighbouring troug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611280" y="2637000"/>
            <a:ext cx="3527280" cy="1663560"/>
            <a:chOff x="611280" y="2637000"/>
            <a:chExt cx="3527280" cy="1663560"/>
          </a:xfrm>
        </p:grpSpPr>
        <p:pic>
          <p:nvPicPr>
            <p:cNvPr id="145" name="Picture 6" descr=""/>
            <p:cNvPicPr/>
            <p:nvPr/>
          </p:nvPicPr>
          <p:blipFill>
            <a:blip r:embed="rId1"/>
            <a:stretch/>
          </p:blipFill>
          <p:spPr>
            <a:xfrm>
              <a:off x="1474920" y="2637000"/>
              <a:ext cx="2663640" cy="166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7" descr=""/>
            <p:cNvPicPr/>
            <p:nvPr/>
          </p:nvPicPr>
          <p:blipFill>
            <a:blip r:embed="rId2"/>
            <a:stretch/>
          </p:blipFill>
          <p:spPr>
            <a:xfrm>
              <a:off x="611280" y="2637000"/>
              <a:ext cx="901800" cy="165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425480" y="1412640"/>
            <a:ext cx="39625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lace numbered strips face side up u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ean/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lastic tweez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rips must be completely covered 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HYB.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strips turn over, re-position them with a fresh pipette t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lace tray onto Twincubator and press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cubate tray at 45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 for 30 m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alarm goes off, press right arrow to 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aspi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HYB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ing transfer pipettes; change pipet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 not decant the contents of the tray into a sink or jar; this could contaminate the work ar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7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ing the strip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3672000" cy="1489320"/>
          </a:xfrm>
          <a:prstGeom prst="rect">
            <a:avLst/>
          </a:prstGeom>
          <a:ln w="28440">
            <a:solidFill>
              <a:srgbClr val="9999ff"/>
            </a:solidFill>
            <a:miter/>
          </a:ln>
        </p:spPr>
      </p:pic>
      <p:sp>
        <p:nvSpPr>
          <p:cNvPr id="150" name="Oval 7"/>
          <p:cNvSpPr/>
          <p:nvPr/>
        </p:nvSpPr>
        <p:spPr>
          <a:xfrm rot="2248800">
            <a:off x="1258560" y="3102120"/>
            <a:ext cx="450720" cy="1223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8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of hybrid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187280" y="1916280"/>
            <a:ext cx="6264360" cy="3774960"/>
          </a:xfrm>
          <a:prstGeom prst="rect">
            <a:avLst/>
          </a:prstGeom>
          <a:solidFill>
            <a:srgbClr val="dddddd"/>
          </a:solidFill>
          <a:ln w="2844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1692360" y="2133720"/>
          <a:ext cx="540072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33720"/>
                    <a:ext cx="540072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697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9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ngent wash of non-hybridized amplicon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00360" y="1557360"/>
            <a:ext cx="3816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ipe off condensation that forms on lid before every incubation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 ml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each trough using a repeat pip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ss right arrow and incubate tray for 15 min at 45 °C on Twincub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alarm goes off, press right arrow to 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aspi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TR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olution by transfer pipette; change pip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 not decant the content of the tray into a sink or jar; this could contaminate the work ar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1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863640" cy="1512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"/>
          <p:cNvPicPr/>
          <p:nvPr/>
        </p:nvPicPr>
        <p:blipFill>
          <a:blip r:embed="rId2"/>
          <a:stretch/>
        </p:blipFill>
        <p:spPr>
          <a:xfrm>
            <a:off x="1619280" y="3068640"/>
            <a:ext cx="24480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4"/>
          <p:cNvSpPr/>
          <p:nvPr/>
        </p:nvSpPr>
        <p:spPr>
          <a:xfrm>
            <a:off x="6804000" y="3789360"/>
            <a:ext cx="1008000" cy="287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2627280" y="2637000"/>
            <a:ext cx="1152720" cy="287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900000" y="1968480"/>
          <a:ext cx="338472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68480"/>
                    <a:ext cx="338472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5"/>
          <p:cNvGraphicFramePr/>
          <p:nvPr/>
        </p:nvGraphicFramePr>
        <p:xfrm>
          <a:off x="4859280" y="3284640"/>
          <a:ext cx="3584520" cy="24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284640"/>
                    <a:ext cx="358452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10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of stringent wa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555480" y="1468440"/>
            <a:ext cx="3970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092560" y="2513160"/>
            <a:ext cx="3970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427640" y="1989000"/>
            <a:ext cx="4248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3520" indent="-17352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ash each strip once with 1 ml of Rinse (RIN) solution for 1 min on Twincubator; no need to change tip between troug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en alarm goes off, press right arrow to 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pletely aspirate the RIN solution by transfer pipette; no need to change pipettes between troug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520" indent="-17352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ntent  of the tray may be decanted into a container with 1% bleach from thi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5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824040" y="1483200"/>
            <a:ext cx="73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 at room temperature from this step 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2808360" cy="1440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684360" y="3068640"/>
            <a:ext cx="718920" cy="1440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11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al of stringent wash solu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12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ju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88000" y="1628640"/>
            <a:ext cx="374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 ml of 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Diluted Conjugate (CON-D)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solution to each trough; no need to change t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ss right arrow and incubate for 30 min on TwinCub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alarm goes off, press right arrow to 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aspirate 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CON-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solution by transfer pipette; no need to change pipettes between troug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ent  of the tray may be decanted into a container with 1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468360" y="2952720"/>
            <a:ext cx="4032360" cy="2060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76" name="Text Box 5"/>
          <p:cNvSpPr/>
          <p:nvPr/>
        </p:nvSpPr>
        <p:spPr>
          <a:xfrm>
            <a:off x="468360" y="2060640"/>
            <a:ext cx="3997440" cy="368280"/>
          </a:xfrm>
          <a:prstGeom prst="rect">
            <a:avLst/>
          </a:prstGeom>
          <a:noFill/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L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Diluted Conjug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 t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2411280" y="256536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4"/>
          <p:cNvGraphicFramePr/>
          <p:nvPr/>
        </p:nvGraphicFramePr>
        <p:xfrm>
          <a:off x="609480" y="2205000"/>
          <a:ext cx="7925040" cy="32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5000"/>
                    <a:ext cx="7925040" cy="32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13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of conjugation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859280" y="1557360"/>
            <a:ext cx="360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sh each strip once with 1 ml of sterile distilled water for 1 min on Twincubator, no need to change t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alarm goes off, press right arrow to 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aspirate 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 by transfer pipette; no need to change pip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ent  of the tray may be decanted into a container with 1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3291120" cy="1440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2"/>
          <a:stretch/>
        </p:blipFill>
        <p:spPr>
          <a:xfrm>
            <a:off x="554040" y="3429000"/>
            <a:ext cx="849240" cy="1440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15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al of rins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08760" y="1844640"/>
            <a:ext cx="3922200" cy="680040"/>
          </a:xfrm>
          <a:prstGeom prst="rect">
            <a:avLst/>
          </a:prstGeom>
          <a:noFill/>
          <a:ln w="2844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sh strips ONCE with 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remove RIN and unbound 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CON-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2411280" y="2781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2468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A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713120" y="1628280"/>
            <a:ext cx="381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 ml of 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Diluted Substrate (SUB-D)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o each trough; no need to change t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ess right arrow and incubate for 30 min on TwinCub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alarm goes off, press right arrow to 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ray with aluminum f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aspirate 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SUB-D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olution by transfer pipette; no need to change pip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ent  of the tray may be decanted into a container with 1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563040" y="1670040"/>
            <a:ext cx="3884040" cy="642600"/>
          </a:xfrm>
          <a:prstGeom prst="rect">
            <a:avLst/>
          </a:prstGeom>
          <a:solidFill>
            <a:srgbClr val="6666cc"/>
          </a:solidFill>
          <a:ln w="3816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Diluted Subst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 t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ap SUB-D tube with aluminum f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2411280" y="242100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16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ur development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611280" y="3114720"/>
            <a:ext cx="3889440" cy="196992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684360" y="1989000"/>
            <a:ext cx="7416720" cy="3745080"/>
          </a:xfrm>
          <a:prstGeom prst="rect">
            <a:avLst/>
          </a:prstGeom>
          <a:solidFill>
            <a:srgbClr val="ffffff"/>
          </a:solidFill>
          <a:ln w="38160">
            <a:solidFill>
              <a:srgbClr val="2d5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DIN-Medium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282920" y="2057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027760" y="402444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2818800" y="4024440"/>
            <a:ext cx="1207800" cy="642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d0b158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d0b158"/>
                </a:solidFill>
                <a:latin typeface="Arial"/>
              </a:rPr>
              <a:t>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8"/>
          <p:cNvSpPr/>
          <p:nvPr/>
        </p:nvSpPr>
        <p:spPr>
          <a:xfrm>
            <a:off x="1041480" y="3933720"/>
            <a:ext cx="734760" cy="351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9"/>
          <p:cNvGraphicFramePr/>
          <p:nvPr/>
        </p:nvGraphicFramePr>
        <p:xfrm>
          <a:off x="3349800" y="3309840"/>
          <a:ext cx="187164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9800" y="3309840"/>
                    <a:ext cx="18716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AutoShape 10"/>
          <p:cNvSpPr/>
          <p:nvPr/>
        </p:nvSpPr>
        <p:spPr>
          <a:xfrm>
            <a:off x="3578400" y="4932360"/>
            <a:ext cx="969840" cy="69840"/>
          </a:xfrm>
          <a:prstGeom prst="rightArrow">
            <a:avLst>
              <a:gd name="adj1" fmla="val 50000"/>
              <a:gd name="adj2" fmla="val 3471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 rot="10800000">
            <a:off x="1977840" y="4037040"/>
            <a:ext cx="623880" cy="156960"/>
          </a:xfrm>
          <a:prstGeom prst="rightArrow">
            <a:avLst>
              <a:gd name="adj1" fmla="val 50000"/>
              <a:gd name="adj2" fmla="val 993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1216080" y="3706920"/>
            <a:ext cx="3459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3"/>
          <p:cNvGrpSpPr/>
          <p:nvPr/>
        </p:nvGrpSpPr>
        <p:grpSpPr>
          <a:xfrm>
            <a:off x="763920" y="2666880"/>
            <a:ext cx="1686600" cy="2607120"/>
            <a:chOff x="763920" y="2666880"/>
            <a:chExt cx="1686600" cy="2607120"/>
          </a:xfrm>
        </p:grpSpPr>
        <p:sp>
          <p:nvSpPr>
            <p:cNvPr id="203" name="Text Box 14"/>
            <p:cNvSpPr/>
            <p:nvPr/>
          </p:nvSpPr>
          <p:spPr>
            <a:xfrm>
              <a:off x="763920" y="4875120"/>
              <a:ext cx="168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BankGothic Md BT"/>
                </a:rPr>
                <a:t>DNA</a:t>
              </a:r>
              <a:r>
                <a:rPr b="1" lang="de-DE" sz="2000" spc="-1" strike="noStrike">
                  <a:solidFill>
                    <a:srgbClr val="000000"/>
                  </a:solidFill>
                  <a:latin typeface="BankGothic Md BT"/>
                  <a:ea typeface="Times New Roman"/>
                </a:rPr>
                <a:t>•</a:t>
              </a:r>
              <a:r>
                <a:rPr b="1" lang="de-DE" sz="2000" spc="-1" strike="noStrike">
                  <a:solidFill>
                    <a:srgbClr val="000000"/>
                  </a:solidFill>
                  <a:latin typeface="BankGothic Md BT"/>
                </a:rPr>
                <a:t>STRIP</a:t>
              </a:r>
              <a:r>
                <a:rPr b="1" lang="de-DE" sz="2000" spc="-1" strike="noStrike" baseline="30000">
                  <a:solidFill>
                    <a:srgbClr val="000000"/>
                  </a:solidFill>
                  <a:latin typeface="BankGothic Md BT"/>
                  <a:ea typeface="Times New Roman"/>
                </a:rPr>
                <a:t>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5"/>
            <p:cNvGrpSpPr/>
            <p:nvPr/>
          </p:nvGrpSpPr>
          <p:grpSpPr>
            <a:xfrm>
              <a:off x="1174320" y="2666880"/>
              <a:ext cx="380520" cy="2150280"/>
              <a:chOff x="1174320" y="2666880"/>
              <a:chExt cx="380520" cy="2150280"/>
            </a:xfrm>
          </p:grpSpPr>
          <p:sp>
            <p:nvSpPr>
              <p:cNvPr id="205" name="Freeform 16"/>
              <p:cNvSpPr/>
              <p:nvPr/>
            </p:nvSpPr>
            <p:spPr>
              <a:xfrm>
                <a:off x="1202760" y="2666880"/>
                <a:ext cx="352080" cy="219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30" h="25">
                    <a:moveTo>
                      <a:pt x="330" y="13"/>
                    </a:moveTo>
                    <a:lnTo>
                      <a:pt x="318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318" y="25"/>
                    </a:lnTo>
                    <a:lnTo>
                      <a:pt x="302" y="13"/>
                    </a:lnTo>
                    <a:lnTo>
                      <a:pt x="330" y="13"/>
                    </a:lnTo>
                    <a:lnTo>
                      <a:pt x="330" y="0"/>
                    </a:lnTo>
                    <a:lnTo>
                      <a:pt x="318" y="0"/>
                    </a:lnTo>
                    <a:lnTo>
                      <a:pt x="330" y="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"/>
              <p:cNvSpPr/>
              <p:nvPr/>
            </p:nvSpPr>
            <p:spPr>
              <a:xfrm>
                <a:off x="1188360" y="4794120"/>
                <a:ext cx="353160" cy="2304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331" h="25">
                    <a:moveTo>
                      <a:pt x="0" y="12"/>
                    </a:moveTo>
                    <a:lnTo>
                      <a:pt x="13" y="25"/>
                    </a:lnTo>
                    <a:lnTo>
                      <a:pt x="331" y="25"/>
                    </a:lnTo>
                    <a:lnTo>
                      <a:pt x="331" y="0"/>
                    </a:lnTo>
                    <a:lnTo>
                      <a:pt x="13" y="0"/>
                    </a:lnTo>
                    <a:lnTo>
                      <a:pt x="25" y="12"/>
                    </a:lnTo>
                    <a:lnTo>
                      <a:pt x="0" y="12"/>
                    </a:lnTo>
                    <a:lnTo>
                      <a:pt x="0" y="25"/>
                    </a:lnTo>
                    <a:lnTo>
                      <a:pt x="13" y="2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8"/>
              <p:cNvSpPr/>
              <p:nvPr/>
            </p:nvSpPr>
            <p:spPr>
              <a:xfrm>
                <a:off x="1202760" y="3816720"/>
                <a:ext cx="338760" cy="22680"/>
              </a:xfrm>
              <a:custGeom>
                <a:avLst/>
                <a:gdLst>
                  <a:gd name="textAreaLeft" fmla="*/ 0 w 338760"/>
                  <a:gd name="textAreaRight" fmla="*/ 339120 w 3387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318" h="25">
                    <a:moveTo>
                      <a:pt x="318" y="12"/>
                    </a:moveTo>
                    <a:lnTo>
                      <a:pt x="318" y="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318" y="25"/>
                    </a:lnTo>
                    <a:lnTo>
                      <a:pt x="318" y="12"/>
                    </a:lnTo>
                    <a:close/>
                  </a:path>
                </a:pathLst>
              </a:custGeom>
              <a:solidFill>
                <a:srgbClr val="6666cc"/>
              </a:solidFill>
              <a:ln w="28440">
                <a:solidFill>
                  <a:srgbClr val="66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" name="Group 19"/>
              <p:cNvGrpSpPr/>
              <p:nvPr/>
            </p:nvGrpSpPr>
            <p:grpSpPr>
              <a:xfrm>
                <a:off x="1174320" y="2666880"/>
                <a:ext cx="377280" cy="2138040"/>
                <a:chOff x="1174320" y="2666880"/>
                <a:chExt cx="377280" cy="2138040"/>
              </a:xfrm>
            </p:grpSpPr>
            <p:sp>
              <p:nvSpPr>
                <p:cNvPr id="209" name="Freeform 20"/>
                <p:cNvSpPr/>
                <p:nvPr/>
              </p:nvSpPr>
              <p:spPr>
                <a:xfrm>
                  <a:off x="1184400" y="3016080"/>
                  <a:ext cx="337320" cy="24480"/>
                </a:xfrm>
                <a:custGeom>
                  <a:avLst/>
                  <a:gdLst>
                    <a:gd name="textAreaLeft" fmla="*/ 0 w 337320"/>
                    <a:gd name="textAreaRight" fmla="*/ 337680 w 33732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315" h="27">
                      <a:moveTo>
                        <a:pt x="315" y="12"/>
                      </a:moveTo>
                      <a:lnTo>
                        <a:pt x="315" y="0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315" y="27"/>
                      </a:lnTo>
                      <a:lnTo>
                        <a:pt x="315" y="12"/>
                      </a:lnTo>
                      <a:close/>
                    </a:path>
                  </a:pathLst>
                </a:custGeom>
                <a:solidFill>
                  <a:srgbClr val="6666cc"/>
                </a:solidFill>
                <a:ln w="28440">
                  <a:solidFill>
                    <a:srgbClr val="66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1202760" y="3466440"/>
                  <a:ext cx="338760" cy="24480"/>
                </a:xfrm>
                <a:custGeom>
                  <a:avLst/>
                  <a:gdLst>
                    <a:gd name="textAreaLeft" fmla="*/ 0 w 338760"/>
                    <a:gd name="textAreaRight" fmla="*/ 339120 w 33876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318" h="27">
                      <a:moveTo>
                        <a:pt x="318" y="15"/>
                      </a:moveTo>
                      <a:lnTo>
                        <a:pt x="318" y="0"/>
                      </a:ln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318" y="27"/>
                      </a:lnTo>
                      <a:lnTo>
                        <a:pt x="318" y="15"/>
                      </a:lnTo>
                      <a:close/>
                    </a:path>
                  </a:pathLst>
                </a:custGeom>
                <a:solidFill>
                  <a:srgbClr val="6666cc"/>
                </a:solidFill>
                <a:ln w="28440">
                  <a:solidFill>
                    <a:srgbClr val="66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Line 22"/>
                <p:cNvSpPr/>
                <p:nvPr/>
              </p:nvSpPr>
              <p:spPr>
                <a:xfrm>
                  <a:off x="1184400" y="4543560"/>
                  <a:ext cx="367200" cy="0"/>
                </a:xfrm>
                <a:prstGeom prst="line">
                  <a:avLst/>
                </a:prstGeom>
                <a:ln w="63360">
                  <a:solidFill>
                    <a:srgbClr val="66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1519920" y="2666880"/>
                  <a:ext cx="30240" cy="213804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2138040"/>
                    <a:gd name="textAreaBottom" fmla="*/ 2138400 h 2138040"/>
                  </a:gdLst>
                  <a:ahLst/>
                  <a:rect l="textAreaLeft" t="textAreaTop" r="textAreaRight" b="textAreaBottom"/>
                  <a:pathLst>
                    <a:path w="28" h="2309">
                      <a:moveTo>
                        <a:pt x="16" y="2309"/>
                      </a:moveTo>
                      <a:lnTo>
                        <a:pt x="28" y="2296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2296"/>
                      </a:lnTo>
                      <a:lnTo>
                        <a:pt x="16" y="2284"/>
                      </a:lnTo>
                      <a:lnTo>
                        <a:pt x="16" y="2309"/>
                      </a:lnTo>
                      <a:lnTo>
                        <a:pt x="28" y="2309"/>
                      </a:lnTo>
                      <a:lnTo>
                        <a:pt x="28" y="2296"/>
                      </a:lnTo>
                      <a:lnTo>
                        <a:pt x="16" y="2309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1184400" y="2666880"/>
                  <a:ext cx="27360" cy="2138040"/>
                </a:xfrm>
                <a:custGeom>
                  <a:avLst/>
                  <a:gdLst>
                    <a:gd name="textAreaLeft" fmla="*/ 0 w 27360"/>
                    <a:gd name="textAreaRight" fmla="*/ 27720 w 27360"/>
                    <a:gd name="textAreaTop" fmla="*/ 0 h 2138040"/>
                    <a:gd name="textAreaBottom" fmla="*/ 2138400 h 2138040"/>
                  </a:gdLst>
                  <a:ahLst/>
                  <a:rect l="textAreaLeft" t="textAreaTop" r="textAreaRight" b="textAreaBottom"/>
                  <a:pathLst>
                    <a:path w="25" h="2309">
                      <a:moveTo>
                        <a:pt x="13" y="0"/>
                      </a:moveTo>
                      <a:lnTo>
                        <a:pt x="0" y="13"/>
                      </a:lnTo>
                      <a:lnTo>
                        <a:pt x="0" y="2309"/>
                      </a:lnTo>
                      <a:lnTo>
                        <a:pt x="25" y="2309"/>
                      </a:lnTo>
                      <a:lnTo>
                        <a:pt x="25" y="13"/>
                      </a:lnTo>
                      <a:lnTo>
                        <a:pt x="13" y="25"/>
                      </a:ln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1174320" y="4243680"/>
                  <a:ext cx="338760" cy="23040"/>
                </a:xfrm>
                <a:custGeom>
                  <a:avLst/>
                  <a:gdLst>
                    <a:gd name="textAreaLeft" fmla="*/ 0 w 338760"/>
                    <a:gd name="textAreaRight" fmla="*/ 339120 w 33876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318" h="25">
                      <a:moveTo>
                        <a:pt x="318" y="12"/>
                      </a:moveTo>
                      <a:lnTo>
                        <a:pt x="318" y="0"/>
                      </a:lnTo>
                      <a:lnTo>
                        <a:pt x="0" y="0"/>
                      </a:lnTo>
                      <a:lnTo>
                        <a:pt x="0" y="25"/>
                      </a:lnTo>
                      <a:lnTo>
                        <a:pt x="318" y="25"/>
                      </a:lnTo>
                      <a:lnTo>
                        <a:pt x="318" y="12"/>
                      </a:lnTo>
                      <a:close/>
                    </a:path>
                  </a:pathLst>
                </a:custGeom>
                <a:solidFill>
                  <a:srgbClr val="996633"/>
                </a:solidFill>
                <a:ln w="28440">
                  <a:solidFill>
                    <a:srgbClr val="9966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15" name="Object 26"/>
          <p:cNvGraphicFramePr/>
          <p:nvPr/>
        </p:nvGraphicFramePr>
        <p:xfrm>
          <a:off x="4357800" y="2173320"/>
          <a:ext cx="3979800" cy="20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7800" y="2173320"/>
                    <a:ext cx="397980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3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17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of substrate reaction/colou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930920" y="1412640"/>
            <a:ext cx="352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sh each strip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WIC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with 1 ml of sterile distilled water (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) for 1 min on Twincubator to stop colour development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ly aspirate 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 by transfer pip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ray content  may be decanted into a container with 1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ing clean tweezers, remove strips from the tray and dry them between two layers of absorbent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3291120" cy="1439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554040" y="3284640"/>
            <a:ext cx="849240" cy="14396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18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al of unbound subst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992520" y="1895400"/>
            <a:ext cx="3124800" cy="680040"/>
          </a:xfrm>
          <a:prstGeom prst="rect">
            <a:avLst/>
          </a:prstGeom>
          <a:noFill/>
          <a:ln w="28440">
            <a:solidFill>
              <a:srgbClr val="66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sh strips TWICE with H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remove unbound SUB-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2556000" y="2708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19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of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ean pipettes, racks, instruments and the work area with freshly diluted 1% bleach (20 min), followed by 70% alcohol after eve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ean strip trays and tweezers with freshly diluted 1% bleach (20 min), followed by sterile distilled water after eve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rea-dedicated spray flasks or beakers (separate beakers for surface cleaning and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 not take anything from this area either to reagent or specimen preparation are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68360" y="1413000"/>
            <a:ext cx="81360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used here need to be labelled accordingly and cannot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reagent or specimen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re-use Falcon tubes for conjugate and substrate prep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detection 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 (use BSC only for DNA extr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for molecular work on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decant content of the strip tray into sink or any other container during the HYB and STR steps; this will contaminate the work are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with amplic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econtaminate trays and tweezers (Stratalinker U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Keep clean(ed) strip trays and tweezers in a clean and sealed plastic b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fication/detec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79246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llow the instructions for sodium hypochlorite as described ear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to clean workplace and instruments after bleach, instead of distilled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owever, use sterile distilled water to rinse strip trays and tweezers after bleach decontam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iquot sterile molecular-grade water into 1.5 ml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ixed susceptible/resistant pattern might be a result of cross-over or carry-over cont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lways properly clean work area after comple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s (floors, doors, w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plification/detec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F5D3-8EBA-4070-8690-48BA5C95221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553080" cy="5267160"/>
          </a:xfrm>
          <a:prstGeom prst="rect">
            <a:avLst/>
          </a:prstGeom>
          <a:ln w="0">
            <a:noFill/>
          </a:ln>
        </p:spPr>
      </p:pic>
      <p:sp>
        <p:nvSpPr>
          <p:cNvPr id="97" name="Oval 4"/>
          <p:cNvSpPr/>
          <p:nvPr/>
        </p:nvSpPr>
        <p:spPr>
          <a:xfrm rot="5400000">
            <a:off x="5435280" y="4221000"/>
            <a:ext cx="1800360" cy="2952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785960" y="2852640"/>
            <a:ext cx="178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Amplification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cycler 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34920" y="1483920"/>
            <a:ext cx="49006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ace PCR tubes into thermocyc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gramme and run the following protocol for direct specime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naturation at 95 °C for 15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 cycles of denaturation at 95 °C for 30 sec and elongation at 58 °C for 120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n additional 30 cycles of denaturation at 95 °C for 25 sec, annealing at 53 °C for 40 sec, elongation at 70 °C for 40 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nal extension at 70 °C for 8 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2"/>
          <p:cNvGrpSpPr/>
          <p:nvPr/>
        </p:nvGrpSpPr>
        <p:grpSpPr>
          <a:xfrm>
            <a:off x="639720" y="2298600"/>
            <a:ext cx="2779560" cy="2138400"/>
            <a:chOff x="639720" y="2298600"/>
            <a:chExt cx="2779560" cy="2138400"/>
          </a:xfrm>
        </p:grpSpPr>
        <p:pic>
          <p:nvPicPr>
            <p:cNvPr id="104" name="Picture 23" descr=""/>
            <p:cNvPicPr/>
            <p:nvPr/>
          </p:nvPicPr>
          <p:blipFill>
            <a:blip r:embed="rId1"/>
            <a:stretch/>
          </p:blipFill>
          <p:spPr>
            <a:xfrm>
              <a:off x="639720" y="2301840"/>
              <a:ext cx="907920" cy="21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24" descr=""/>
            <p:cNvPicPr/>
            <p:nvPr/>
          </p:nvPicPr>
          <p:blipFill>
            <a:blip r:embed="rId2"/>
            <a:stretch/>
          </p:blipFill>
          <p:spPr>
            <a:xfrm>
              <a:off x="1228680" y="2298600"/>
              <a:ext cx="2190600" cy="213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24000" y="1466640"/>
            <a:ext cx="431964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ake the beaker that was used to carry the PCR tubes to the autoclave room for dis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take anything from this area back to the specimen or reagent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the cycles are complete, the tubes should be placed in a 4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  (maximum of 1 week) household refrigerator in this area if one is not proceeding directly to hybri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void overnight P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755640" y="2298600"/>
            <a:ext cx="2779560" cy="2138400"/>
            <a:chOff x="755640" y="2298600"/>
            <a:chExt cx="2779560" cy="2138400"/>
          </a:xfrm>
        </p:grpSpPr>
        <p:pic>
          <p:nvPicPr>
            <p:cNvPr id="108" name="Picture 5" descr=""/>
            <p:cNvPicPr/>
            <p:nvPr/>
          </p:nvPicPr>
          <p:blipFill>
            <a:blip r:embed="rId1"/>
            <a:stretch/>
          </p:blipFill>
          <p:spPr>
            <a:xfrm>
              <a:off x="755640" y="2301840"/>
              <a:ext cx="907920" cy="21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6" descr=""/>
            <p:cNvPicPr/>
            <p:nvPr/>
          </p:nvPicPr>
          <p:blipFill>
            <a:blip r:embed="rId2"/>
            <a:stretch/>
          </p:blipFill>
          <p:spPr>
            <a:xfrm>
              <a:off x="1344600" y="2298600"/>
              <a:ext cx="2190600" cy="213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0" y="157320"/>
            <a:ext cx="9144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Amplification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mination control and amplicon storag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4"/>
          <p:cNvSpPr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4920" y="115920"/>
            <a:ext cx="77724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verview of  reverse hybrid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6"/>
          <p:cNvSpPr/>
          <p:nvPr/>
        </p:nvSpPr>
        <p:spPr>
          <a:xfrm>
            <a:off x="250920" y="3573360"/>
            <a:ext cx="2371680" cy="1008000"/>
          </a:xfrm>
          <a:prstGeom prst="wedgeRectCallout">
            <a:avLst>
              <a:gd name="adj1" fmla="val 56425"/>
              <a:gd name="adj2" fmla="val 100708"/>
            </a:avLst>
          </a:prstGeom>
          <a:noFill/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 of an enzyme-conjugated pro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0"/>
          <p:cNvSpPr/>
          <p:nvPr/>
        </p:nvSpPr>
        <p:spPr>
          <a:xfrm>
            <a:off x="6227640" y="5086440"/>
            <a:ext cx="2514600" cy="790560"/>
          </a:xfrm>
          <a:prstGeom prst="wedgeRectCallout">
            <a:avLst>
              <a:gd name="adj1" fmla="val -64078"/>
              <a:gd name="adj2" fmla="val 88351"/>
            </a:avLst>
          </a:prstGeom>
          <a:noFill/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zymatic conversion of 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3"/>
          <p:cNvSpPr/>
          <p:nvPr/>
        </p:nvSpPr>
        <p:spPr>
          <a:xfrm>
            <a:off x="228600" y="2120760"/>
            <a:ext cx="2286000" cy="1298880"/>
          </a:xfrm>
          <a:prstGeom prst="wedgeRectCallout">
            <a:avLst>
              <a:gd name="adj1" fmla="val 63055"/>
              <a:gd name="adj2" fmla="val -59291"/>
            </a:avLst>
          </a:prstGeom>
          <a:noFill/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 of amplicons in single-stranded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5"/>
          <p:cNvSpPr/>
          <p:nvPr/>
        </p:nvSpPr>
        <p:spPr>
          <a:xfrm>
            <a:off x="6227640" y="3657600"/>
            <a:ext cx="2514600" cy="1066680"/>
          </a:xfrm>
          <a:prstGeom prst="wedgeRectCallout">
            <a:avLst>
              <a:gd name="adj1" fmla="val -64648"/>
              <a:gd name="adj2" fmla="val 7736"/>
            </a:avLst>
          </a:prstGeom>
          <a:noFill/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unspecifically bound DNA pro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8"/>
          <p:cNvSpPr/>
          <p:nvPr/>
        </p:nvSpPr>
        <p:spPr>
          <a:xfrm flipV="1" rot="10800000">
            <a:off x="6516360" y="2348280"/>
            <a:ext cx="2336760" cy="1008360"/>
          </a:xfrm>
          <a:prstGeom prst="wedgeRectCallout">
            <a:avLst>
              <a:gd name="adj1" fmla="val 76222"/>
              <a:gd name="adj2" fmla="val -4018"/>
            </a:avLst>
          </a:prstGeom>
          <a:solidFill>
            <a:srgbClr val="ffffff"/>
          </a:solidFill>
          <a:ln w="381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 of labelled amplicons to pro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0"/>
          <p:cNvSpPr/>
          <p:nvPr/>
        </p:nvSpPr>
        <p:spPr>
          <a:xfrm>
            <a:off x="2787480" y="5756400"/>
            <a:ext cx="3048120" cy="653760"/>
          </a:xfrm>
          <a:prstGeom prst="flowChartAlternateProcess">
            <a:avLst/>
          </a:prstGeom>
          <a:gradFill rotWithShape="0">
            <a:gsLst>
              <a:gs pos="0">
                <a:srgbClr val="5d7b91"/>
              </a:gs>
              <a:gs pos="50000">
                <a:srgbClr val="80a9c8"/>
              </a:gs>
              <a:gs pos="100000">
                <a:srgbClr val="5d7b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b6e"/>
                </a:solidFill>
                <a:latin typeface="Arial"/>
              </a:rPr>
              <a:t>Substrat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2"/>
          <p:cNvSpPr/>
          <p:nvPr/>
        </p:nvSpPr>
        <p:spPr>
          <a:xfrm>
            <a:off x="2787480" y="1851120"/>
            <a:ext cx="3048120" cy="654120"/>
          </a:xfrm>
          <a:prstGeom prst="flowChartAlternateProcess">
            <a:avLst/>
          </a:prstGeom>
          <a:gradFill rotWithShape="0">
            <a:gsLst>
              <a:gs pos="0">
                <a:srgbClr val="5d7b91"/>
              </a:gs>
              <a:gs pos="50000">
                <a:srgbClr val="80a9c8"/>
              </a:gs>
              <a:gs pos="100000">
                <a:srgbClr val="5d7b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b6e"/>
                </a:solidFill>
                <a:latin typeface="Arial"/>
              </a:rPr>
              <a:t>Den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AutoShape 43"/>
          <p:cNvCxnSpPr>
            <a:stCxn id="119" idx="2"/>
            <a:endCxn id="121" idx="0"/>
          </p:cNvCxnSpPr>
          <p:nvPr/>
        </p:nvCxnSpPr>
        <p:spPr>
          <a:xfrm>
            <a:off x="4311360" y="2504880"/>
            <a:ext cx="1080" cy="322920"/>
          </a:xfrm>
          <a:prstGeom prst="straightConnector1">
            <a:avLst/>
          </a:prstGeom>
          <a:ln w="38160">
            <a:solidFill>
              <a:srgbClr val="183b6e"/>
            </a:solidFill>
            <a:miter/>
            <a:tailEnd len="med" type="triangle" w="med"/>
          </a:ln>
        </p:spPr>
      </p:cxnSp>
      <p:sp>
        <p:nvSpPr>
          <p:cNvPr id="121" name="AutoShape 45"/>
          <p:cNvSpPr/>
          <p:nvPr/>
        </p:nvSpPr>
        <p:spPr>
          <a:xfrm>
            <a:off x="2787480" y="2827440"/>
            <a:ext cx="3048120" cy="654120"/>
          </a:xfrm>
          <a:prstGeom prst="flowChartAlternateProcess">
            <a:avLst/>
          </a:prstGeom>
          <a:gradFill rotWithShape="0">
            <a:gsLst>
              <a:gs pos="0">
                <a:srgbClr val="5d7b91"/>
              </a:gs>
              <a:gs pos="50000">
                <a:srgbClr val="80a9c8"/>
              </a:gs>
              <a:gs pos="100000">
                <a:srgbClr val="5d7b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b6e"/>
                </a:solidFill>
                <a:latin typeface="Arial"/>
              </a:rPr>
              <a:t>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AutoShape 46"/>
          <p:cNvCxnSpPr>
            <a:stCxn id="121" idx="2"/>
            <a:endCxn id="123" idx="0"/>
          </p:cNvCxnSpPr>
          <p:nvPr/>
        </p:nvCxnSpPr>
        <p:spPr>
          <a:xfrm>
            <a:off x="4311360" y="3481200"/>
            <a:ext cx="1080" cy="322920"/>
          </a:xfrm>
          <a:prstGeom prst="straightConnector1">
            <a:avLst/>
          </a:prstGeom>
          <a:ln w="38160">
            <a:solidFill>
              <a:srgbClr val="183b6e"/>
            </a:solidFill>
            <a:miter/>
            <a:tailEnd len="med" type="triangle" w="med"/>
          </a:ln>
        </p:spPr>
      </p:cxnSp>
      <p:sp>
        <p:nvSpPr>
          <p:cNvPr id="123" name="AutoShape 48"/>
          <p:cNvSpPr/>
          <p:nvPr/>
        </p:nvSpPr>
        <p:spPr>
          <a:xfrm>
            <a:off x="2787480" y="3803760"/>
            <a:ext cx="3048120" cy="654120"/>
          </a:xfrm>
          <a:prstGeom prst="flowChartAlternateProcess">
            <a:avLst/>
          </a:prstGeom>
          <a:gradFill rotWithShape="0">
            <a:gsLst>
              <a:gs pos="0">
                <a:srgbClr val="5d7b91"/>
              </a:gs>
              <a:gs pos="50000">
                <a:srgbClr val="80a9c8"/>
              </a:gs>
              <a:gs pos="100000">
                <a:srgbClr val="5d7b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b6e"/>
                </a:solidFill>
                <a:latin typeface="Arial"/>
              </a:rPr>
              <a:t>Stringent w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49"/>
          <p:cNvCxnSpPr>
            <a:stCxn id="123" idx="2"/>
            <a:endCxn id="125" idx="0"/>
          </p:cNvCxnSpPr>
          <p:nvPr/>
        </p:nvCxnSpPr>
        <p:spPr>
          <a:xfrm>
            <a:off x="4311360" y="4457520"/>
            <a:ext cx="1080" cy="322920"/>
          </a:xfrm>
          <a:prstGeom prst="straightConnector1">
            <a:avLst/>
          </a:prstGeom>
          <a:ln w="38160">
            <a:solidFill>
              <a:srgbClr val="183b6e"/>
            </a:solidFill>
            <a:miter/>
            <a:tailEnd len="med" type="triangle" w="med"/>
          </a:ln>
        </p:spPr>
      </p:cxnSp>
      <p:sp>
        <p:nvSpPr>
          <p:cNvPr id="125" name="AutoShape 51"/>
          <p:cNvSpPr/>
          <p:nvPr/>
        </p:nvSpPr>
        <p:spPr>
          <a:xfrm>
            <a:off x="2787480" y="4780080"/>
            <a:ext cx="3048120" cy="653760"/>
          </a:xfrm>
          <a:prstGeom prst="flowChartAlternateProcess">
            <a:avLst/>
          </a:prstGeom>
          <a:gradFill rotWithShape="0">
            <a:gsLst>
              <a:gs pos="0">
                <a:srgbClr val="5d7b91"/>
              </a:gs>
              <a:gs pos="50000">
                <a:srgbClr val="80a9c8"/>
              </a:gs>
              <a:gs pos="100000">
                <a:srgbClr val="5d7b9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b6e"/>
                </a:solidFill>
                <a:latin typeface="Arial"/>
              </a:rPr>
              <a:t>Conjugat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AutoShape 52"/>
          <p:cNvCxnSpPr>
            <a:stCxn id="125" idx="2"/>
            <a:endCxn id="118" idx="0"/>
          </p:cNvCxnSpPr>
          <p:nvPr/>
        </p:nvCxnSpPr>
        <p:spPr>
          <a:xfrm>
            <a:off x="4311360" y="5433840"/>
            <a:ext cx="1080" cy="322920"/>
          </a:xfrm>
          <a:prstGeom prst="straightConnector1">
            <a:avLst/>
          </a:prstGeom>
          <a:ln w="38160">
            <a:solidFill>
              <a:srgbClr val="183b6e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468360" y="2997360"/>
            <a:ext cx="8064360" cy="1800000"/>
          </a:xfrm>
          <a:prstGeom prst="rect">
            <a:avLst/>
          </a:prstGeom>
          <a:solidFill>
            <a:srgbClr val="66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28400" y="1428840"/>
            <a:ext cx="831996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ing clean/new tweezers place strips onto a clean sheet of paper and label th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-warm rinse solution and sterile distilled water to room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a suitable tube (15 or 50 ml sterile Falcon), dil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njugate concent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:100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njugate dilu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a suitable tube (15 or 50 ml sterile Falcon) dil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substrate concent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:100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substrate diluent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card empty vial after each r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 each strip, add 10 µl concentrate to 1 ml of the respective diluting buff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eep conjugate concentrate and substrate concentrate refrig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2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 of reagents</a:t>
            </a:r>
            <a:r>
              <a:rPr b="0" lang="en-US" sz="3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3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rument and reagent prepa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211640" y="1599840"/>
            <a:ext cx="432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2952720" cy="3571920"/>
          </a:xfrm>
          <a:prstGeom prst="rect">
            <a:avLst/>
          </a:prstGeom>
          <a:ln w="38160">
            <a:solidFill>
              <a:srgbClr val="6666cc"/>
            </a:solidFill>
            <a:miter/>
          </a:ln>
        </p:spPr>
      </p:pic>
      <p:sp>
        <p:nvSpPr>
          <p:cNvPr id="133" name="Text Box 7"/>
          <p:cNvSpPr/>
          <p:nvPr/>
        </p:nvSpPr>
        <p:spPr>
          <a:xfrm>
            <a:off x="5003640" y="198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3848040" y="1773360"/>
            <a:ext cx="41799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urn on Twincubator and start the program to enable it to warm to 45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eck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-warm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ybridization (HYB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buffer an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ringent wash (STR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solution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o 37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45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Reagents must be free of precipitat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Detection (4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atu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4149360"/>
            <a:ext cx="7124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ean/ne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pense 2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Denaturation (DEN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 a corner of each trough; no need to change t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2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amplic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D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nd carefully mix by pipetting up and down 5 times; change t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plash mixture and contaminate neighbouring troug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1042920" y="1486080"/>
            <a:ext cx="6769080" cy="251928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hilip</cp:lastModifiedBy>
  <dcterms:modified xsi:type="dcterms:W3CDTF">2012-01-26T09:56:14Z</dcterms:modified>
  <cp:revision>373</cp:revision>
  <dc:subject/>
  <dc:title>PowerPoint Presentation</dc:title>
</cp:coreProperties>
</file>