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4431-868F-482B-9E9F-B6164076D8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8550-E7B1-463C-97F1-7432046C3A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the laboratori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D4C-C5AD-41D5-9C02-E4C7B79D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607-6A74-4176-BA05-1409027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1DB-B298-4A57-AFD7-132D2023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961-4E13-4BFE-BC60-2DB132BA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4E57-8229-4312-AEE6-F09EEAD0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6BA8-B3AF-4895-A1DD-B8E2A00B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0E8-FA6C-4548-8FB5-AA9EB9D0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BDF3-E1B7-443D-AFBB-BBDC929C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EAF5-C2CA-41D9-836F-719FE2E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2A03-6DE5-425A-B1E9-AFD25724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9993-0567-4860-9216-B6D16EE8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AF4-2446-46FC-B464-EEACC90F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0EC6-ADCE-4A8C-B71F-3CBABDEB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2654-D757-47BB-83C0-928C31CF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0F9A-3413-49D5-982F-8767E1F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37D8-CC99-414A-BA0A-64E0AF36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B2F-F301-4222-91DF-574B5FE6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F1B-658A-45E6-9C28-88E0839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F17-BA9F-46AA-BC17-C6C032BE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94A-914C-4888-B9A8-EA1A831F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EE5-4CE5-4E79-8B38-A0B90F67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92D-004C-45FC-9677-5099BDEC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8FC-A7CC-437A-B05C-70309943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437F-268A-4B29-83C4-8005D49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5678-A042-4C42-BE1E-7FA0D7DF3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123-E815-43A2-AF3B-B07778B29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1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s before entering specimen preparation area.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6264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10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sodium 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bleach should not fall below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master mix reagents in desktop cooler, especially Taq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quot sterile molecular-grade water into 1.5 ml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804000" y="2565360"/>
            <a:ext cx="2033640" cy="2365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87F-836F-42AC-8671-36202878BF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746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of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8"/>
          <p:cNvGraphicFramePr/>
          <p:nvPr/>
        </p:nvGraphicFramePr>
        <p:xfrm>
          <a:off x="4776840" y="1484280"/>
          <a:ext cx="3537000" cy="453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6840" y="1484280"/>
                    <a:ext cx="3537000" cy="4535640"/>
                  </a:xfrm>
                  <a:prstGeom prst="rect">
                    <a:avLst/>
                  </a:prstGeom>
                  <a:ln w="2844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termine the number of specimens and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this number plus 1 to calculate the volume of the different components of the master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volume of master mix is 45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 per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7640" cy="31366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560" y="4211280"/>
            <a:ext cx="7912080" cy="20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olecular grade water, and other reagents, should be stored in the DNA-fre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ways use a new aliquot of molecular-grade 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epare master mix beginning with the PNM, adding DNA polymerase l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tly (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void breaking up primer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!) vortex master mix vial and spin in Minispin for 10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5 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824360" cy="27381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the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 of same sterile, molecular-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glass beaker covered with aluminum foil (make holes in the foil for vi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048360" cy="266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BSC with freshly diluted 1% bleach (20 min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5:03Z</dcterms:modified>
  <cp:revision>359</cp:revision>
  <dc:subject/>
  <dc:title>PowerPoint Presentation</dc:title>
</cp:coreProperties>
</file>