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402-0BE2-4B74-854E-672B3114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7C9-7FEC-4D8D-941C-B01308B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08C-3B57-483C-A754-AA3E08C1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03B-C2B4-4985-B3FA-FF09987B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96DF-0294-4D75-AD32-C668733A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2929-A460-4778-82A0-074765A7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EA1F-667E-4775-9AEA-01D5A59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74E0-A65F-4C77-8504-3EC74199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3E37-A981-43EA-8C3F-22A75E4A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39A9-B740-4CE0-923A-A9FEC0A9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1F69-8592-42E0-B9FC-86684E77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785-183C-432E-A3D3-1AC766DE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5FE0-B577-4BCE-BEF4-20D091C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BBC5-D7DE-4B45-89EB-FD7690D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64F3-7667-4508-856E-FE188D5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62E-2B0B-4FF6-AA49-CA2F4797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2510-A900-484F-9D41-C83DF35B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166-7973-4F70-BA63-6BE7A80D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6B3-84D4-4A3B-98B0-F85B675A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4E5-4542-40F5-9455-89D76DE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226-0C69-4028-B9EA-708DE1D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D22-E2BB-413D-851F-C3025D1B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62F-B5DB-4FE4-9554-4757E90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4EFF-2B4C-407C-824B-8AE5727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3AF-AFEE-483E-BCF3-90F39E379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0393-61C7-4A9C-8E7B-FD50EAC7B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 V2.0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plification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4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124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clean/new 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pense 20 ml Denaturation (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DE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solution in a corner of each trough, no need to change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20 µl amplicon to DEN and carefully mix by pipetting up and down 5 times, change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plash mixture and contaminate neighbouring t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042920" y="1486080"/>
            <a:ext cx="6769080" cy="2519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539640" y="1484280"/>
            <a:ext cx="792000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1476360" y="1693800"/>
          <a:ext cx="62596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93800"/>
                    <a:ext cx="6259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5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6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4360" y="1785600"/>
            <a:ext cx="4319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refully add 1 mL of pre-wa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to each trough using filtered tips.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t the necessary amount of reagents (HYB, STR, RIN) into a 50 mL tube and use this as stock. Use long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tly shake trough to homogenously m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amp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 not make any spills into neighboring troug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611280" y="2637000"/>
            <a:ext cx="3527280" cy="1663560"/>
            <a:chOff x="611280" y="2637000"/>
            <a:chExt cx="3527280" cy="1663560"/>
          </a:xfrm>
        </p:grpSpPr>
        <p:pic>
          <p:nvPicPr>
            <p:cNvPr id="151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637000"/>
              <a:ext cx="266364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611280" y="2637000"/>
              <a:ext cx="90180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425480" y="1412640"/>
            <a:ext cx="3962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numbered strips face side up 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/new plastic twee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ps must be completely covered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.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strips turn over, re-position them with a fresh pipett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tray onto Twincubator and press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ubate tray at 45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for 30 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transfer pipettes, change pip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s of the tray into a sink or jar; this can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7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ing the strip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72000" cy="14893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sp>
        <p:nvSpPr>
          <p:cNvPr id="156" name="Oval 7"/>
          <p:cNvSpPr/>
          <p:nvPr/>
        </p:nvSpPr>
        <p:spPr>
          <a:xfrm rot="2248800">
            <a:off x="1258560" y="3102120"/>
            <a:ext cx="450720" cy="1223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8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87280" y="1916280"/>
            <a:ext cx="6264360" cy="3774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5"/>
          <p:cNvGraphicFramePr/>
          <p:nvPr/>
        </p:nvGraphicFramePr>
        <p:xfrm>
          <a:off x="1692360" y="2133720"/>
          <a:ext cx="540072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4007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9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ent wash of non-hybridized amplic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pe off condensation that forms on lid before every incub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each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tray for 15 min at 45°C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,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, that can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1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63640" cy="151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2448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4"/>
          <p:cNvSpPr/>
          <p:nvPr/>
        </p:nvSpPr>
        <p:spPr>
          <a:xfrm>
            <a:off x="6804000" y="3789360"/>
            <a:ext cx="100800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2627280" y="2637000"/>
            <a:ext cx="115272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900000" y="1968480"/>
          <a:ext cx="33847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68480"/>
                    <a:ext cx="3384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5"/>
          <p:cNvGraphicFramePr/>
          <p:nvPr/>
        </p:nvGraphicFramePr>
        <p:xfrm>
          <a:off x="4859280" y="3284640"/>
          <a:ext cx="35845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3584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0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tringent w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55480" y="146844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5092560" y="251316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858920" y="1989000"/>
            <a:ext cx="3816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sh each strip once with 1 ml of Rinse (RIN) solution for 1 min on Twincubator, no need to change tip between t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letely aspirate the RIN solution by transfer pipette, no need to change pipette between t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 from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24040" y="1483200"/>
            <a:ext cx="73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at room temperature from this step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18920" cy="1440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1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stringent wash solu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2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788000" y="1341360"/>
            <a:ext cx="374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 mL of 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Diluted Conjugate (CON-D)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olution to each trough using, no need to change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ess right arrow and incubate for 30 min on TwinCub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solution by transfer pipette, no need to change pipette between t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8360" y="2952720"/>
            <a:ext cx="4032360" cy="2060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82" name="Text Box 5"/>
          <p:cNvSpPr/>
          <p:nvPr/>
        </p:nvSpPr>
        <p:spPr>
          <a:xfrm>
            <a:off x="468360" y="2060640"/>
            <a:ext cx="3997440" cy="368280"/>
          </a:xfrm>
          <a:prstGeom prst="rect">
            <a:avLst/>
          </a:prstGeom>
          <a:noFill/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l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Diluted Conju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411280" y="2565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4"/>
          <p:cNvGraphicFramePr/>
          <p:nvPr/>
        </p:nvGraphicFramePr>
        <p:xfrm>
          <a:off x="609480" y="2205000"/>
          <a:ext cx="792504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5000"/>
                    <a:ext cx="79250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3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conjuga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858920" y="1989000"/>
            <a:ext cx="3816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ash each strip </a:t>
            </a: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TWICE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with 1 ml of Rinse (RIN) solution for 1 min on Twincubator, no need to change tip between t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mpletely aspirate the RIN solution by transfer pipette, no need to change pipette between troug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 from this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24040" y="1483200"/>
            <a:ext cx="73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at room temperature from this step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18920" cy="1440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4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conjugat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858920" y="155736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once with 1ml of sterile distilled water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) for 1 min on Twincubator, no need to chang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s, no need to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2"/>
          <a:stretch/>
        </p:blipFill>
        <p:spPr>
          <a:xfrm>
            <a:off x="554040" y="3429000"/>
            <a:ext cx="849240" cy="1440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5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rins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08760" y="1844640"/>
            <a:ext cx="39222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ONCE with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RIN and unbound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241128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713120" y="1628280"/>
            <a:ext cx="381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 Diluted Substrate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(SUB-D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each trough, no need to chang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for 3 - 20 min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ray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SUB-D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s, no need to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63040" y="1670040"/>
            <a:ext cx="3884040" cy="642600"/>
          </a:xfrm>
          <a:prstGeom prst="rect">
            <a:avLst/>
          </a:prstGeom>
          <a:solidFill>
            <a:srgbClr val="6666cc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luted Subst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t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SUB-D tube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2411280" y="24210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6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 development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611280" y="3114720"/>
            <a:ext cx="3889440" cy="19699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684360" y="1989000"/>
            <a:ext cx="7416720" cy="374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DIN-Medium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282920" y="205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028480" y="4024440"/>
            <a:ext cx="12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o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818800" y="4024440"/>
            <a:ext cx="1207800" cy="642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1041480" y="3933720"/>
            <a:ext cx="734760" cy="351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3349800" y="3309840"/>
          <a:ext cx="187164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3309840"/>
                    <a:ext cx="18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AutoShape 10"/>
          <p:cNvSpPr/>
          <p:nvPr/>
        </p:nvSpPr>
        <p:spPr>
          <a:xfrm>
            <a:off x="3578400" y="4932360"/>
            <a:ext cx="969840" cy="69840"/>
          </a:xfrm>
          <a:prstGeom prst="rightArrow">
            <a:avLst>
              <a:gd name="adj1" fmla="val 50000"/>
              <a:gd name="adj2" fmla="val 3471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1"/>
          <p:cNvSpPr/>
          <p:nvPr/>
        </p:nvSpPr>
        <p:spPr>
          <a:xfrm rot="10800000">
            <a:off x="1977840" y="4037040"/>
            <a:ext cx="623880" cy="156960"/>
          </a:xfrm>
          <a:prstGeom prst="rightArrow">
            <a:avLst>
              <a:gd name="adj1" fmla="val 50000"/>
              <a:gd name="adj2" fmla="val 993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1216080" y="3706920"/>
            <a:ext cx="34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3"/>
          <p:cNvGrpSpPr/>
          <p:nvPr/>
        </p:nvGrpSpPr>
        <p:grpSpPr>
          <a:xfrm>
            <a:off x="763920" y="2666880"/>
            <a:ext cx="1686600" cy="2607120"/>
            <a:chOff x="763920" y="2666880"/>
            <a:chExt cx="1686600" cy="2607120"/>
          </a:xfrm>
        </p:grpSpPr>
        <p:sp>
          <p:nvSpPr>
            <p:cNvPr id="214" name="Text Box 14"/>
            <p:cNvSpPr/>
            <p:nvPr/>
          </p:nvSpPr>
          <p:spPr>
            <a:xfrm>
              <a:off x="763920" y="487512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DNA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  <a:ea typeface="Times New Roman"/>
                </a:rPr>
                <a:t>•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STRIP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BankGothic Md BT"/>
                  <a:ea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5"/>
            <p:cNvGrpSpPr/>
            <p:nvPr/>
          </p:nvGrpSpPr>
          <p:grpSpPr>
            <a:xfrm>
              <a:off x="1174320" y="2666880"/>
              <a:ext cx="380520" cy="2150280"/>
              <a:chOff x="1174320" y="2666880"/>
              <a:chExt cx="380520" cy="2150280"/>
            </a:xfrm>
          </p:grpSpPr>
          <p:sp>
            <p:nvSpPr>
              <p:cNvPr id="216" name="Freeform 16"/>
              <p:cNvSpPr/>
              <p:nvPr/>
            </p:nvSpPr>
            <p:spPr>
              <a:xfrm>
                <a:off x="1202760" y="2666880"/>
                <a:ext cx="352080" cy="219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30" h="25">
                    <a:moveTo>
                      <a:pt x="330" y="13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02" y="13"/>
                    </a:lnTo>
                    <a:lnTo>
                      <a:pt x="330" y="13"/>
                    </a:lnTo>
                    <a:lnTo>
                      <a:pt x="330" y="0"/>
                    </a:lnTo>
                    <a:lnTo>
                      <a:pt x="318" y="0"/>
                    </a:lnTo>
                    <a:lnTo>
                      <a:pt x="33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1188360" y="4794120"/>
                <a:ext cx="353160" cy="2304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31" h="25">
                    <a:moveTo>
                      <a:pt x="0" y="12"/>
                    </a:moveTo>
                    <a:lnTo>
                      <a:pt x="13" y="25"/>
                    </a:lnTo>
                    <a:lnTo>
                      <a:pt x="331" y="25"/>
                    </a:lnTo>
                    <a:lnTo>
                      <a:pt x="331" y="0"/>
                    </a:lnTo>
                    <a:lnTo>
                      <a:pt x="13" y="0"/>
                    </a:lnTo>
                    <a:lnTo>
                      <a:pt x="25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8"/>
              <p:cNvSpPr/>
              <p:nvPr/>
            </p:nvSpPr>
            <p:spPr>
              <a:xfrm>
                <a:off x="1202760" y="3816720"/>
                <a:ext cx="338760" cy="2268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8" h="25">
                    <a:moveTo>
                      <a:pt x="318" y="12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18" y="12"/>
                    </a:lnTo>
                    <a:close/>
                  </a:path>
                </a:pathLst>
              </a:custGeom>
              <a:solidFill>
                <a:srgbClr val="6666cc"/>
              </a:solidFill>
              <a:ln w="28440">
                <a:solidFill>
                  <a:srgbClr val="66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19"/>
              <p:cNvGrpSpPr/>
              <p:nvPr/>
            </p:nvGrpSpPr>
            <p:grpSpPr>
              <a:xfrm>
                <a:off x="1174320" y="2666880"/>
                <a:ext cx="377280" cy="2138040"/>
                <a:chOff x="1174320" y="2666880"/>
                <a:chExt cx="377280" cy="2138040"/>
              </a:xfrm>
            </p:grpSpPr>
            <p:sp>
              <p:nvSpPr>
                <p:cNvPr id="220" name="Freeform 20"/>
                <p:cNvSpPr/>
                <p:nvPr/>
              </p:nvSpPr>
              <p:spPr>
                <a:xfrm>
                  <a:off x="1184400" y="3016080"/>
                  <a:ext cx="337320" cy="2448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5" h="27">
                      <a:moveTo>
                        <a:pt x="315" y="12"/>
                      </a:moveTo>
                      <a:lnTo>
                        <a:pt x="315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5" y="27"/>
                      </a:lnTo>
                      <a:lnTo>
                        <a:pt x="315" y="12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21"/>
                <p:cNvSpPr/>
                <p:nvPr/>
              </p:nvSpPr>
              <p:spPr>
                <a:xfrm>
                  <a:off x="1202760" y="3466440"/>
                  <a:ext cx="338760" cy="2448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8" h="27">
                      <a:moveTo>
                        <a:pt x="318" y="15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8" y="27"/>
                      </a:lnTo>
                      <a:lnTo>
                        <a:pt x="318" y="15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"/>
                <p:cNvSpPr/>
                <p:nvPr/>
              </p:nvSpPr>
              <p:spPr>
                <a:xfrm>
                  <a:off x="1184400" y="4543560"/>
                  <a:ext cx="367200" cy="0"/>
                </a:xfrm>
                <a:prstGeom prst="line">
                  <a:avLst/>
                </a:prstGeom>
                <a:ln w="63360">
                  <a:solidFill>
                    <a:srgbClr val="66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23"/>
                <p:cNvSpPr/>
                <p:nvPr/>
              </p:nvSpPr>
              <p:spPr>
                <a:xfrm>
                  <a:off x="1519920" y="2666880"/>
                  <a:ext cx="30240" cy="21380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8" h="2309">
                      <a:moveTo>
                        <a:pt x="16" y="2309"/>
                      </a:moveTo>
                      <a:lnTo>
                        <a:pt x="28" y="2296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2296"/>
                      </a:lnTo>
                      <a:lnTo>
                        <a:pt x="16" y="2284"/>
                      </a:lnTo>
                      <a:lnTo>
                        <a:pt x="16" y="2309"/>
                      </a:lnTo>
                      <a:lnTo>
                        <a:pt x="28" y="2309"/>
                      </a:lnTo>
                      <a:lnTo>
                        <a:pt x="28" y="2296"/>
                      </a:lnTo>
                      <a:lnTo>
                        <a:pt x="16" y="2309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24"/>
                <p:cNvSpPr/>
                <p:nvPr/>
              </p:nvSpPr>
              <p:spPr>
                <a:xfrm>
                  <a:off x="1184400" y="2666880"/>
                  <a:ext cx="27360" cy="2138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5" h="2309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0" y="2309"/>
                      </a:lnTo>
                      <a:lnTo>
                        <a:pt x="25" y="2309"/>
                      </a:lnTo>
                      <a:lnTo>
                        <a:pt x="25" y="13"/>
                      </a:lnTo>
                      <a:lnTo>
                        <a:pt x="13" y="2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25"/>
                <p:cNvSpPr/>
                <p:nvPr/>
              </p:nvSpPr>
              <p:spPr>
                <a:xfrm>
                  <a:off x="1174320" y="4243680"/>
                  <a:ext cx="338760" cy="2304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18" h="25">
                      <a:moveTo>
                        <a:pt x="318" y="12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318" y="25"/>
                      </a:lnTo>
                      <a:lnTo>
                        <a:pt x="318" y="1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2844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26" name="Object 26"/>
          <p:cNvGraphicFramePr/>
          <p:nvPr/>
        </p:nvGraphicFramePr>
        <p:xfrm>
          <a:off x="4357800" y="2173320"/>
          <a:ext cx="397980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2173320"/>
                    <a:ext cx="397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7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ubstrate reaction/ colo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930920" y="1412640"/>
            <a:ext cx="352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TWIC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th 1 ml of sterile distilled water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) for 1 min on Twincubator to stop color development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clean tweezers, remove strips from the tray and dry them between two layers of absorbent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3291120" cy="1439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554040" y="3284640"/>
            <a:ext cx="849240" cy="1439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8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unbound sub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992520" y="1895400"/>
            <a:ext cx="31248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TWICE with 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unbound SUB-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>
            <a:off x="2556000" y="2708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9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 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pipettes, racks, instruments and the work area with freshly diluted 1% bleach (20 min), followed by 70% alcohol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strip trays, tweezers with freshly diluted 1% bleach (20 min), followed by sterile distilled water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take anything from this area either to Reagent or Specimen Preparation Ar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68360" y="1413000"/>
            <a:ext cx="81360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ed accordingly and cannot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Reagent or Specimen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re-use Falcon tubes for Conjugate and Substrate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 (use BSC only for DNA extr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decant content of the strip tray into sink or any other container during th &lt;hyb and STR steps. This will contaminate the work are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amplic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contaminate trays and tweezers (Stratalinker U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clean(ed) strip trays and tweezers in a clean and sealed plastic 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7924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 the instructions for Na-hyphochlorite as describ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70% alcohol to clean work place and instruments after bleach instead of distilled water for cleaning to avoid contamination of distilled water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use sterile distilled water to rinse strip trays and tweezers after bleach de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quot sterile molecular grade water into 1.5 ml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xed susceptible/resistant pattern might be a result of cross over or carry 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properly clean work area after comple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blish a regular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eekly) and thorough laboratory cleaning protocols (floors, doors, 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 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C5C1-8085-4BEE-8AA4-DCAA6F636B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Optimal PCR laboratory lay ou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5400000">
            <a:off x="5435280" y="4221000"/>
            <a:ext cx="1800360" cy="2952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85960" y="285264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for smear-positive or smear-negative pulmonary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900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ce PCR tubes into thermocyc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gram and run the following protocol for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linical specimen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naturation at 95°C for 15 m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 cycles of denaturation at 95°C for 30 s and elongation at 65°C for 2 m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additional 30 cycles of denaturation at 95°C for 25 sec, annealing at 50°C for 40 sec, elongation at 70°C for 40 se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extension at 70°C for 8 mi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639720" y="2298600"/>
            <a:ext cx="2779560" cy="2138400"/>
            <a:chOff x="639720" y="2298600"/>
            <a:chExt cx="2779560" cy="2138400"/>
          </a:xfrm>
        </p:grpSpPr>
        <p:pic>
          <p:nvPicPr>
            <p:cNvPr id="104" name="Picture 23" descr=""/>
            <p:cNvPicPr/>
            <p:nvPr/>
          </p:nvPicPr>
          <p:blipFill>
            <a:blip r:embed="rId1"/>
            <a:stretch/>
          </p:blipFill>
          <p:spPr>
            <a:xfrm>
              <a:off x="63972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2"/>
            <a:stretch/>
          </p:blipFill>
          <p:spPr>
            <a:xfrm>
              <a:off x="122868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Box 7"/>
          <p:cNvSpPr/>
          <p:nvPr/>
        </p:nvSpPr>
        <p:spPr>
          <a:xfrm>
            <a:off x="611280" y="458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DR DI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for direct clinical speci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for cultured specim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900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ce PCR tubes into thermocyc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gram and run the following protocol for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ultured specimen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naturation at 95°C for 15 mi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 cycles of denaturation at 95°C for 30 s and elongation at 65°C for 2 m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additional 20 cycles of denaturation at 95°C for 25 sec, annealing at 50°C for 40 sec, elongation at 70°C for 40 sec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extension at 70°C for 8 mi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639720" y="2298600"/>
            <a:ext cx="2779560" cy="2138400"/>
            <a:chOff x="639720" y="2298600"/>
            <a:chExt cx="2779560" cy="2138400"/>
          </a:xfrm>
        </p:grpSpPr>
        <p:pic>
          <p:nvPicPr>
            <p:cNvPr id="110" name="Picture 23" descr=""/>
            <p:cNvPicPr/>
            <p:nvPr/>
          </p:nvPicPr>
          <p:blipFill>
            <a:blip r:embed="rId1"/>
            <a:stretch/>
          </p:blipFill>
          <p:spPr>
            <a:xfrm>
              <a:off x="63972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4" descr=""/>
            <p:cNvPicPr/>
            <p:nvPr/>
          </p:nvPicPr>
          <p:blipFill>
            <a:blip r:embed="rId2"/>
            <a:stretch/>
          </p:blipFill>
          <p:spPr>
            <a:xfrm>
              <a:off x="122868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24000" y="1466640"/>
            <a:ext cx="4319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ke the beaker that was used to carry the PCR tubes to the autoclave room for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back to the Specimen or Reagent Preparatio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the cycles are complete, the tubes should be placed in a 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 (max. 1 week) household refrigerator in this area if one is not proceeding directly to 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void overnight P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755640" y="2298600"/>
            <a:ext cx="2779560" cy="2138400"/>
            <a:chOff x="755640" y="2298600"/>
            <a:chExt cx="2779560" cy="2138400"/>
          </a:xfrm>
        </p:grpSpPr>
        <p:pic>
          <p:nvPicPr>
            <p:cNvPr id="114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6" descr=""/>
            <p:cNvPicPr/>
            <p:nvPr/>
          </p:nvPicPr>
          <p:blipFill>
            <a:blip r:embed="rId2"/>
            <a:stretch/>
          </p:blipFill>
          <p:spPr>
            <a:xfrm>
              <a:off x="134460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ion control and amplicon storag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611280" y="458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DR CU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for cultured speci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4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4920" y="115920"/>
            <a:ext cx="77724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 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250920" y="3573360"/>
            <a:ext cx="2371680" cy="1008000"/>
          </a:xfrm>
          <a:prstGeom prst="wedgeRectCallout">
            <a:avLst>
              <a:gd name="adj1" fmla="val 56425"/>
              <a:gd name="adj2" fmla="val 100708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an enzyme-conjugated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0"/>
          <p:cNvSpPr/>
          <p:nvPr/>
        </p:nvSpPr>
        <p:spPr>
          <a:xfrm>
            <a:off x="6227640" y="5086440"/>
            <a:ext cx="2514600" cy="790560"/>
          </a:xfrm>
          <a:prstGeom prst="wedgeRectCallout">
            <a:avLst>
              <a:gd name="adj1" fmla="val -64078"/>
              <a:gd name="adj2" fmla="val 8835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atic conversion of 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228600" y="2120760"/>
            <a:ext cx="2286000" cy="1298880"/>
          </a:xfrm>
          <a:prstGeom prst="wedgeRectCallout">
            <a:avLst>
              <a:gd name="adj1" fmla="val 63055"/>
              <a:gd name="adj2" fmla="val -5929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amplicons in single-stranded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5"/>
          <p:cNvSpPr/>
          <p:nvPr/>
        </p:nvSpPr>
        <p:spPr>
          <a:xfrm>
            <a:off x="6227640" y="3657600"/>
            <a:ext cx="2514600" cy="1066680"/>
          </a:xfrm>
          <a:prstGeom prst="wedgeRectCallout">
            <a:avLst>
              <a:gd name="adj1" fmla="val -64648"/>
              <a:gd name="adj2" fmla="val 7736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unspecifically bound DNA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8"/>
          <p:cNvSpPr/>
          <p:nvPr/>
        </p:nvSpPr>
        <p:spPr>
          <a:xfrm flipV="1" rot="10800000">
            <a:off x="6516360" y="2348280"/>
            <a:ext cx="2336760" cy="1008360"/>
          </a:xfrm>
          <a:prstGeom prst="wedgeRectCallout">
            <a:avLst>
              <a:gd name="adj1" fmla="val 76222"/>
              <a:gd name="adj2" fmla="val -4018"/>
            </a:avLst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labeled amplicons to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2787480" y="575640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ubstr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2"/>
          <p:cNvSpPr/>
          <p:nvPr/>
        </p:nvSpPr>
        <p:spPr>
          <a:xfrm>
            <a:off x="2787480" y="185112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43"/>
          <p:cNvCxnSpPr>
            <a:stCxn id="126" idx="2"/>
            <a:endCxn id="128" idx="0"/>
          </p:cNvCxnSpPr>
          <p:nvPr/>
        </p:nvCxnSpPr>
        <p:spPr>
          <a:xfrm>
            <a:off x="4311360" y="250488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28" name="AutoShape 45"/>
          <p:cNvSpPr/>
          <p:nvPr/>
        </p:nvSpPr>
        <p:spPr>
          <a:xfrm>
            <a:off x="2787480" y="282744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46"/>
          <p:cNvCxnSpPr>
            <a:stCxn id="128" idx="2"/>
            <a:endCxn id="130" idx="0"/>
          </p:cNvCxnSpPr>
          <p:nvPr/>
        </p:nvCxnSpPr>
        <p:spPr>
          <a:xfrm>
            <a:off x="4311360" y="348120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0" name="AutoShape 48"/>
          <p:cNvSpPr/>
          <p:nvPr/>
        </p:nvSpPr>
        <p:spPr>
          <a:xfrm>
            <a:off x="2787480" y="380376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tringent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49"/>
          <p:cNvCxnSpPr>
            <a:stCxn id="130" idx="2"/>
            <a:endCxn id="132" idx="0"/>
          </p:cNvCxnSpPr>
          <p:nvPr/>
        </p:nvCxnSpPr>
        <p:spPr>
          <a:xfrm>
            <a:off x="4311360" y="445752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32" name="AutoShape 51"/>
          <p:cNvSpPr/>
          <p:nvPr/>
        </p:nvSpPr>
        <p:spPr>
          <a:xfrm>
            <a:off x="2787480" y="478008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Conjug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2"/>
          <p:cNvCxnSpPr>
            <a:stCxn id="132" idx="2"/>
            <a:endCxn id="125" idx="0"/>
          </p:cNvCxnSpPr>
          <p:nvPr/>
        </p:nvCxnSpPr>
        <p:spPr>
          <a:xfrm>
            <a:off x="4311360" y="543384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99680" y="1599840"/>
            <a:ext cx="83199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Using clean/new tweezers place strips onto a clean sheet of paper and label the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Pre-warm rinse solution and sterile distilled water to room tempera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Using a suitable tube (15ml or 50ml Falcon tube), dilute the conjugate concentrate (CON-C) 1:100 with conjugate diluent (CON-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Using a suitable tube (15ml or 50ml Falcon tube), dilute the substrate concentrate (SUB-C) 1:100 with substrate diluent (SUB-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Use fresh tube for dilutions for each r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For each strip, add 10 µl concentrate to 1 ml of the respective diluting buffer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Keep Conjugate concentrate and Substrate concentrate refriger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2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of reagents</a:t>
            </a: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3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 and reagent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11640" y="1599840"/>
            <a:ext cx="432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952720" cy="357192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sp>
        <p:nvSpPr>
          <p:cNvPr id="139" name="Text Box 7"/>
          <p:cNvSpPr/>
          <p:nvPr/>
        </p:nvSpPr>
        <p:spPr>
          <a:xfrm>
            <a:off x="5003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848040" y="1773360"/>
            <a:ext cx="41799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rn on Twincubator and start the program to enable it to warm to 45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eck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-warm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ridization (HYB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ingent wash (STR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luti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37-45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gents must be free of precipitat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eidi Albert</dc:creator>
  <dc:description/>
  <dc:language>en-US</dc:language>
  <cp:lastModifiedBy>Juan-Daniel</cp:lastModifiedBy>
  <dcterms:modified xsi:type="dcterms:W3CDTF">2012-02-01T16:03:38Z</dcterms:modified>
  <cp:revision>370</cp:revision>
  <dc:subject/>
  <dc:title>PowerPoint Presentation</dc:title>
</cp:coreProperties>
</file>