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22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3.jpeg" ContentType="image/jpeg"/>
  <Override PartName="/ppt/media/image17.wmf" ContentType="image/x-wmf"/>
  <Override PartName="/ppt/media/image15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4.jpeg" ContentType="image/jpeg"/>
  <Override PartName="/ppt/media/image20.wmf" ContentType="image/x-wmf"/>
  <Override PartName="/ppt/media/image5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120F-0922-4D4B-8710-85732529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1067-8340-40A4-9DC6-B80E15B5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61F9-D781-468F-967A-77ADDEB00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2AA1-C41A-4CC8-9CA3-8D850CA5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29DA-86BC-42E1-9C61-23985747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DCE1-B6E7-4BA7-9CBA-A5092AD7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270A-7FB3-47AB-B424-B4D8DA67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8220-60DF-46D9-8302-8B632D2F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0590-99F2-48A4-BF0C-7BCC244F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DEC0-54E8-423F-A376-1FA6C3DB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789F-D45D-4B11-9452-7DE4BE7C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E05B-2153-48C4-B622-67E787A0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7A03-AEF7-4F9A-8826-16D238B1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1C95-6D36-4254-9B95-5EF4E23C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B65A-1F46-493F-BEB9-D6917C84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86FB-C937-4BCD-8114-2847B6E6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BC18-8E28-4E8E-8044-A78E20CF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AECD8F-4E2E-4618-9AC5-2E8F0DDDE7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1D0B5F-0B66-458E-BF0E-5A55712E15D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B512BA-E2A0-4F20-BC66-AAAD1663F2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2A6539-A345-455A-B8B5-57F1237FC79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369FD4-3ED8-450A-93CE-A62E1678AB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48EA-E90F-4FB1-BA65-8F0DC3C4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56D930-BF91-4101-B88B-7229E17779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FD27A7-CF0E-4040-96AD-E2449C9448E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7AB55D-2EED-4259-B4F8-7F8B5628A0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14852B-3A46-46A6-888A-A9573068DC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11EA96-D860-4D1F-8141-CF5B7B04AC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B4EC80-B720-4C96-97EB-B6DDAFB60A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13ED1D-26C7-43DD-8D0B-B147428CC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9843-5F3C-4581-8C1B-1FD73D8D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565B-B8A8-4B53-A8F3-45F3D34B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F01D-E317-4576-A821-25DAE506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53B9-B6BE-4C70-9D8C-6C783257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5FDF-B3ED-4EBF-8090-33879654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B424-C4BF-4FA5-9263-985B3422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7E81-9F6C-4116-8A66-2C7BDA06B6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36F4-0A05-4B06-A5F5-B40D4D4C6F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F75D-574A-4EF3-BFDE-2121E5CF4F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844280"/>
            <a:ext cx="889308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ality assurance for LPA: What is necessary, what is possible?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2C90-C8A9-42F3-A500-461DEA6EA2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45F8-7239-4425-8A67-BB0F9D5592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333360"/>
            <a:ext cx="80154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sonnel Q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ord specimens that were processed (NALC/ NaOH) and molecular tested in the same b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ord specimens tested in one batch and technician who performed th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in and re-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4427640" y="2152800"/>
            <a:ext cx="4716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07EA-C08D-4C5F-9ED3-DBFBF39DA6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333000"/>
            <a:ext cx="801540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ternal quality assurance (EQ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539360"/>
            <a:ext cx="82090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anel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tire procedure including specimen preparation and NaOH/NALC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usceptible str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sistant INH mono, RMP mo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DR (common and uncommon mut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TM str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002c"/>
                </a:solidFill>
                <a:latin typeface="Arial"/>
              </a:rPr>
              <a:t>Costs and QA (preparation, shipment, data evaluation and feed-ba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CE52-6133-48B8-A073-171E965F3B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Q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roficiency testing (training and rout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sing duplicate specimens (A and B) of same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4977-48A2-4583-BDA3-8E8FA452A4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250920" y="168480"/>
            <a:ext cx="734544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Mincho"/>
              </a:rPr>
              <a:t>Proficiency testing for LP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6002c"/>
                </a:solidFill>
                <a:latin typeface="Arial"/>
                <a:ea typeface="MS Mincho"/>
              </a:rPr>
              <a:t>Indi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57040" y="1282680"/>
          <a:ext cx="8544240" cy="5531040"/>
        </p:xfrm>
        <a:graphic>
          <a:graphicData uri="http://schemas.openxmlformats.org/drawingml/2006/table">
            <a:tbl>
              <a:tblPr/>
              <a:tblGrid>
                <a:gridCol w="1390680"/>
                <a:gridCol w="1238400"/>
                <a:gridCol w="1203120"/>
                <a:gridCol w="1614600"/>
                <a:gridCol w="1567080"/>
                <a:gridCol w="1530360"/>
              </a:tblGrid>
              <a:tr h="12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Proficiency testing roun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Negative contr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Invalid results (number invalid/total number, 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Internal concordance (same patient, same laboratory)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External concordance (same specimen, different laboratory)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Benchmark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Clea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&lt; 1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&gt; 95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&gt; 95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 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aile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4/48 (29%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n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lea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/22 (70%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rd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lea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/118 (4%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4/54 (100%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/19 (100%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 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st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lea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/100 (15%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6/37 (97%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7/17 (100%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n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lea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/30 (6%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4/14 (100%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 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Clea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/102 (7%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4/44 (100%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/20 (90%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 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ailed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/96 (25%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/48 (100%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/20(95%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961D-40C6-4A1E-A1D0-36C5CD1AD9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Montage_Scanner_01_komb2"/>
          <p:cNvPicPr/>
          <p:nvPr/>
        </p:nvPicPr>
        <p:blipFill>
          <a:blip r:embed="rId1"/>
          <a:stretch/>
        </p:blipFill>
        <p:spPr>
          <a:xfrm>
            <a:off x="5724360" y="1227240"/>
            <a:ext cx="3419640" cy="28414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Q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518328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QA of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icture bank (unusual, good and bad resul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per- or online-based testing (e-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linded re-checking of scann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6732720" y="4915080"/>
            <a:ext cx="2160360" cy="16952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211" name="Picture 7" descr=""/>
          <p:cNvPicPr/>
          <p:nvPr/>
        </p:nvPicPr>
        <p:blipFill>
          <a:blip r:embed="rId3"/>
          <a:stretch/>
        </p:blipFill>
        <p:spPr>
          <a:xfrm>
            <a:off x="6910560" y="3276720"/>
            <a:ext cx="1495080" cy="185868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212" name="Picture 8" descr=""/>
          <p:cNvPicPr/>
          <p:nvPr/>
        </p:nvPicPr>
        <p:blipFill>
          <a:blip r:embed="rId4"/>
          <a:stretch/>
        </p:blipFill>
        <p:spPr>
          <a:xfrm>
            <a:off x="4788000" y="3875040"/>
            <a:ext cx="2519280" cy="201312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0625-33E2-4E55-A26C-D12BDD0783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18108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 the problem and find the best solution</a:t>
            </a: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nchoscopy of a Siberian tiger with 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Object 3"/>
          <p:cNvGraphicFramePr/>
          <p:nvPr/>
        </p:nvGraphicFramePr>
        <p:xfrm>
          <a:off x="1332000" y="1557360"/>
          <a:ext cx="6327720" cy="473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557360"/>
                    <a:ext cx="6327720" cy="4737240"/>
                  </a:xfrm>
                  <a:prstGeom prst="rect">
                    <a:avLst/>
                  </a:prstGeom>
                  <a:ln w="38160">
                    <a:solidFill>
                      <a:srgbClr val="000066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CEBD-256D-4F38-B734-6CEF0F879D2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A77B-918F-401F-BEEC-9441ED4DE3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1538280" y="0"/>
            <a:ext cx="6281640" cy="1314360"/>
          </a:xfrm>
          <a:prstGeom prst="flowChartAlternateProcess">
            <a:avLst/>
          </a:prstGeom>
          <a:solidFill>
            <a:srgbClr val="c0c0c0"/>
          </a:solidFill>
          <a:ln w="76320">
            <a:solidFill>
              <a:srgbClr val="00006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5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 Narrow"/>
              </a:rPr>
              <a:t>Quality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6000" spc="-1" strike="noStrike">
                <a:solidFill>
                  <a:srgbClr val="000066"/>
                </a:solidFill>
                <a:latin typeface="Arial Narrow"/>
              </a:rPr>
              <a:t>Assur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 rot="5400000">
            <a:off x="3551760" y="2234160"/>
            <a:ext cx="2438280" cy="1659240"/>
          </a:xfrm>
          <a:custGeom>
            <a:avLst/>
            <a:gdLst>
              <a:gd name="textAreaLeft" fmla="*/ 380880 w 2438280"/>
              <a:gd name="textAreaRight" fmla="*/ 2133720 w 2438280"/>
              <a:gd name="textAreaTop" fmla="*/ 414720 h 1659240"/>
              <a:gd name="textAreaBottom" fmla="*/ 1244520 h 1659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66"/>
          </a:solidFill>
          <a:ln w="38160">
            <a:solidFill>
              <a:srgbClr val="ffcc66"/>
            </a:solidFill>
            <a:miter/>
          </a:ln>
          <a:effectLst>
            <a:outerShdw dist="28496" dir="15744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538280" y="4608360"/>
            <a:ext cx="2844720" cy="1257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76320">
            <a:solidFill>
              <a:srgbClr val="9999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Narrow"/>
              </a:rPr>
              <a:t>Quality</a:t>
            </a:r>
            <a:r>
              <a:rPr b="1" lang="en-US" sz="32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 Narrow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5008680" y="4608360"/>
            <a:ext cx="2811240" cy="12574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9999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Narrow"/>
              </a:rPr>
              <a:t>External Qua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Narrow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F20E-E2EB-4D02-BA02-2E5D63A422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539640" y="439560"/>
            <a:ext cx="7417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rastructure Q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7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3961080" cy="310968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45" name="Text Box 38"/>
          <p:cNvSpPr/>
          <p:nvPr/>
        </p:nvSpPr>
        <p:spPr>
          <a:xfrm>
            <a:off x="2527200" y="584676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ing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9"/>
          <p:cNvSpPr/>
          <p:nvPr/>
        </p:nvSpPr>
        <p:spPr>
          <a:xfrm flipV="1">
            <a:off x="3059280" y="5373720"/>
            <a:ext cx="0" cy="50472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0"/>
          <p:cNvSpPr/>
          <p:nvPr/>
        </p:nvSpPr>
        <p:spPr>
          <a:xfrm>
            <a:off x="198720" y="5626080"/>
            <a:ext cx="26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men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1"/>
          <p:cNvSpPr/>
          <p:nvPr/>
        </p:nvSpPr>
        <p:spPr>
          <a:xfrm flipV="1">
            <a:off x="1258920" y="5374800"/>
            <a:ext cx="0" cy="28908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2"/>
          <p:cNvSpPr/>
          <p:nvPr/>
        </p:nvSpPr>
        <p:spPr>
          <a:xfrm>
            <a:off x="4065480" y="5662440"/>
            <a:ext cx="16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bri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3"/>
          <p:cNvSpPr/>
          <p:nvPr/>
        </p:nvSpPr>
        <p:spPr>
          <a:xfrm>
            <a:off x="793080" y="1335240"/>
            <a:ext cx="25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gent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4"/>
          <p:cNvSpPr/>
          <p:nvPr/>
        </p:nvSpPr>
        <p:spPr>
          <a:xfrm>
            <a:off x="1935000" y="1701720"/>
            <a:ext cx="0" cy="4320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46"/>
          <p:cNvSpPr/>
          <p:nvPr/>
        </p:nvSpPr>
        <p:spPr>
          <a:xfrm flipV="1">
            <a:off x="4284720" y="5374800"/>
            <a:ext cx="0" cy="28908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7"/>
          <p:cNvSpPr/>
          <p:nvPr/>
        </p:nvSpPr>
        <p:spPr>
          <a:xfrm>
            <a:off x="5081760" y="3068640"/>
            <a:ext cx="398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Sentinel tes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ml molecular-grade wa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1.5 ml at different areas for 24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1501-5D68-4A31-8E79-DE7ACC77C6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quipment QC: books of lif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0840" y="1052280"/>
            <a:ext cx="497844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ach instrument requires specific knowledge to properly calibrate, operate and mai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stablish preventive and corrective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ocedures must be followed exa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To ensure safety in the laborat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To ensure proper functioning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the instru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aily usage logs, corrective action logs, repair and  maintenance records must be recorded in log books kept for each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5"/>
          <p:cNvGrpSpPr/>
          <p:nvPr/>
        </p:nvGrpSpPr>
        <p:grpSpPr>
          <a:xfrm>
            <a:off x="5076720" y="1125360"/>
            <a:ext cx="3816000" cy="3528720"/>
            <a:chOff x="5076720" y="1125360"/>
            <a:chExt cx="3816000" cy="3528720"/>
          </a:xfrm>
        </p:grpSpPr>
        <p:pic>
          <p:nvPicPr>
            <p:cNvPr id="158" name="Picture 6" descr="DSC05370"/>
            <p:cNvPicPr/>
            <p:nvPr/>
          </p:nvPicPr>
          <p:blipFill>
            <a:blip r:embed="rId1"/>
            <a:stretch/>
          </p:blipFill>
          <p:spPr>
            <a:xfrm>
              <a:off x="5076720" y="1125360"/>
              <a:ext cx="1867680" cy="1726920"/>
            </a:xfrm>
            <a:prstGeom prst="rect">
              <a:avLst/>
            </a:prstGeom>
            <a:ln w="9360">
              <a:solidFill>
                <a:srgbClr val="000066"/>
              </a:solidFill>
              <a:miter/>
            </a:ln>
          </p:spPr>
        </p:pic>
        <p:pic>
          <p:nvPicPr>
            <p:cNvPr id="159" name="Picture 7" descr="DSC05371"/>
            <p:cNvPicPr/>
            <p:nvPr/>
          </p:nvPicPr>
          <p:blipFill>
            <a:blip r:embed="rId2"/>
            <a:stretch/>
          </p:blipFill>
          <p:spPr>
            <a:xfrm>
              <a:off x="7025040" y="1125360"/>
              <a:ext cx="1867680" cy="1724400"/>
            </a:xfrm>
            <a:prstGeom prst="rect">
              <a:avLst/>
            </a:prstGeom>
            <a:ln w="9360">
              <a:solidFill>
                <a:srgbClr val="000066"/>
              </a:solidFill>
              <a:miter/>
            </a:ln>
          </p:spPr>
        </p:pic>
        <p:pic>
          <p:nvPicPr>
            <p:cNvPr id="160" name="Picture 8" descr="DSC05373"/>
            <p:cNvPicPr/>
            <p:nvPr/>
          </p:nvPicPr>
          <p:blipFill>
            <a:blip r:embed="rId3"/>
            <a:stretch/>
          </p:blipFill>
          <p:spPr>
            <a:xfrm>
              <a:off x="5076720" y="2927160"/>
              <a:ext cx="1867680" cy="1724400"/>
            </a:xfrm>
            <a:prstGeom prst="rect">
              <a:avLst/>
            </a:prstGeom>
            <a:ln w="9360">
              <a:solidFill>
                <a:srgbClr val="000066"/>
              </a:solidFill>
              <a:miter/>
            </a:ln>
          </p:spPr>
        </p:pic>
        <p:pic>
          <p:nvPicPr>
            <p:cNvPr id="161" name="Picture 9" descr="DSC05372"/>
            <p:cNvPicPr/>
            <p:nvPr/>
          </p:nvPicPr>
          <p:blipFill>
            <a:blip r:embed="rId4"/>
            <a:stretch/>
          </p:blipFill>
          <p:spPr>
            <a:xfrm>
              <a:off x="7025040" y="2927160"/>
              <a:ext cx="1867680" cy="1726920"/>
            </a:xfrm>
            <a:prstGeom prst="rect">
              <a:avLst/>
            </a:prstGeom>
            <a:ln w="9360">
              <a:solidFill>
                <a:srgbClr val="000066"/>
              </a:solidFill>
              <a:miter/>
            </a:ln>
          </p:spPr>
        </p:pic>
      </p:grpSp>
      <p:pic>
        <p:nvPicPr>
          <p:cNvPr id="162" name="Picture 11" descr="DSC05376"/>
          <p:cNvPicPr/>
          <p:nvPr/>
        </p:nvPicPr>
        <p:blipFill>
          <a:blip r:embed="rId5"/>
          <a:stretch/>
        </p:blipFill>
        <p:spPr>
          <a:xfrm>
            <a:off x="5975280" y="3789360"/>
            <a:ext cx="3168720" cy="237636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12"/>
          <p:cNvGrpSpPr/>
          <p:nvPr/>
        </p:nvGrpSpPr>
        <p:grpSpPr>
          <a:xfrm>
            <a:off x="5076720" y="1125360"/>
            <a:ext cx="3768480" cy="3255840"/>
            <a:chOff x="5076720" y="1125360"/>
            <a:chExt cx="3768480" cy="3255840"/>
          </a:xfrm>
        </p:grpSpPr>
        <p:pic>
          <p:nvPicPr>
            <p:cNvPr id="164" name="Picture 13" descr="DSC05370"/>
            <p:cNvPicPr/>
            <p:nvPr/>
          </p:nvPicPr>
          <p:blipFill>
            <a:blip r:embed="rId6"/>
            <a:stretch/>
          </p:blipFill>
          <p:spPr>
            <a:xfrm>
              <a:off x="5076720" y="1125360"/>
              <a:ext cx="1844280" cy="1593360"/>
            </a:xfrm>
            <a:prstGeom prst="rect">
              <a:avLst/>
            </a:prstGeom>
            <a:ln w="28440">
              <a:solidFill>
                <a:srgbClr val="e6002c"/>
              </a:solidFill>
              <a:miter/>
            </a:ln>
          </p:spPr>
        </p:pic>
        <p:pic>
          <p:nvPicPr>
            <p:cNvPr id="165" name="Picture 14" descr="DSC05371"/>
            <p:cNvPicPr/>
            <p:nvPr/>
          </p:nvPicPr>
          <p:blipFill>
            <a:blip r:embed="rId7"/>
            <a:stretch/>
          </p:blipFill>
          <p:spPr>
            <a:xfrm>
              <a:off x="7000920" y="1125360"/>
              <a:ext cx="1844280" cy="1590840"/>
            </a:xfrm>
            <a:prstGeom prst="rect">
              <a:avLst/>
            </a:prstGeom>
            <a:ln w="28440">
              <a:solidFill>
                <a:srgbClr val="e6002c"/>
              </a:solidFill>
              <a:miter/>
            </a:ln>
          </p:spPr>
        </p:pic>
        <p:pic>
          <p:nvPicPr>
            <p:cNvPr id="166" name="Picture 15" descr="DSC05373"/>
            <p:cNvPicPr/>
            <p:nvPr/>
          </p:nvPicPr>
          <p:blipFill>
            <a:blip r:embed="rId8"/>
            <a:stretch/>
          </p:blipFill>
          <p:spPr>
            <a:xfrm>
              <a:off x="5076720" y="2787840"/>
              <a:ext cx="1844280" cy="1590840"/>
            </a:xfrm>
            <a:prstGeom prst="rect">
              <a:avLst/>
            </a:prstGeom>
            <a:ln w="28440">
              <a:solidFill>
                <a:srgbClr val="e6002c"/>
              </a:solidFill>
              <a:miter/>
            </a:ln>
          </p:spPr>
        </p:pic>
        <p:pic>
          <p:nvPicPr>
            <p:cNvPr id="167" name="Picture 16" descr="DSC05372"/>
            <p:cNvPicPr/>
            <p:nvPr/>
          </p:nvPicPr>
          <p:blipFill>
            <a:blip r:embed="rId9"/>
            <a:stretch/>
          </p:blipFill>
          <p:spPr>
            <a:xfrm>
              <a:off x="7000920" y="2787840"/>
              <a:ext cx="1844280" cy="1593360"/>
            </a:xfrm>
            <a:prstGeom prst="rect">
              <a:avLst/>
            </a:prstGeom>
            <a:ln w="28440">
              <a:solidFill>
                <a:srgbClr val="e6002c"/>
              </a:solidFill>
              <a:miter/>
            </a:ln>
          </p:spPr>
        </p:pic>
      </p:grpSp>
      <p:pic>
        <p:nvPicPr>
          <p:cNvPr id="168" name="Picture 17" descr="DSC05376"/>
          <p:cNvPicPr/>
          <p:nvPr/>
        </p:nvPicPr>
        <p:blipFill>
          <a:blip r:embed="rId10"/>
          <a:stretch/>
        </p:blipFill>
        <p:spPr>
          <a:xfrm>
            <a:off x="5975280" y="4149720"/>
            <a:ext cx="3168720" cy="2376360"/>
          </a:xfrm>
          <a:prstGeom prst="rect">
            <a:avLst/>
          </a:prstGeom>
          <a:ln w="28440">
            <a:solidFill>
              <a:srgbClr val="e6002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49AA-3AF3-4873-95F5-AD75D0F5C6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gent Q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410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ot-to-lot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grity testing </a:t>
            </a:r>
            <a:r>
              <a:rPr b="0" lang="en-US" sz="2800" spc="-1" strike="noStrike">
                <a:solidFill>
                  <a:srgbClr val="e6002c"/>
                </a:solidFill>
                <a:latin typeface="Arial"/>
              </a:rPr>
              <a:t>upon receipt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e.g.Taq polymer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orage in cus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oper supply chain (cold chain) including in-country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Hain kit Addis"/>
          <p:cNvPicPr/>
          <p:nvPr/>
        </p:nvPicPr>
        <p:blipFill>
          <a:blip r:embed="rId1"/>
          <a:stretch/>
        </p:blipFill>
        <p:spPr>
          <a:xfrm>
            <a:off x="4716360" y="2205000"/>
            <a:ext cx="3719520" cy="2790720"/>
          </a:xfrm>
          <a:prstGeom prst="rect">
            <a:avLst/>
          </a:prstGeom>
          <a:ln w="28440">
            <a:solidFill>
              <a:srgbClr val="99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3390-4210-4779-A61A-FB95DF66E2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dure QC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51958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activated MTB/BCG control for entire procedure (specimen prepa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egative control for MM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egative control for specimen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21"/>
          <p:cNvGraphicFramePr/>
          <p:nvPr/>
        </p:nvGraphicFramePr>
        <p:xfrm>
          <a:off x="5292720" y="1531800"/>
          <a:ext cx="3706920" cy="536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7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1531800"/>
                    <a:ext cx="370692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4758-C81C-40EA-B5B5-0B4BC52756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dure QC (2) </a:t>
            </a:r>
            <a:br>
              <a:rPr sz="3200"/>
            </a:br>
            <a:r>
              <a:rPr b="0" lang="en-US" sz="2400" spc="-1" strike="noStrike">
                <a:solidFill>
                  <a:srgbClr val="e6002c"/>
                </a:solidFill>
                <a:latin typeface="Arial"/>
              </a:rPr>
              <a:t>The question of positive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280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rpretation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equate ru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adequate r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2852640"/>
            <a:ext cx="4038480" cy="2820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"/>
          <p:cNvPicPr/>
          <p:nvPr/>
        </p:nvPicPr>
        <p:blipFill>
          <a:blip r:embed="rId2"/>
          <a:stretch/>
        </p:blipFill>
        <p:spPr>
          <a:xfrm>
            <a:off x="5040360" y="1397160"/>
            <a:ext cx="3779640" cy="2690640"/>
          </a:xfrm>
          <a:prstGeom prst="rect">
            <a:avLst/>
          </a:prstGeom>
          <a:ln w="0">
            <a:noFill/>
          </a:ln>
        </p:spPr>
      </p:pic>
      <p:sp>
        <p:nvSpPr>
          <p:cNvPr id="183" name="Oval 8"/>
          <p:cNvSpPr/>
          <p:nvPr/>
        </p:nvSpPr>
        <p:spPr>
          <a:xfrm>
            <a:off x="4641840" y="1413000"/>
            <a:ext cx="3024360" cy="863640"/>
          </a:xfrm>
          <a:prstGeom prst="ellipse">
            <a:avLst/>
          </a:prstGeom>
          <a:noFill/>
          <a:ln w="28440">
            <a:solidFill>
              <a:srgbClr val="e60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9"/>
          <p:cNvSpPr/>
          <p:nvPr/>
        </p:nvSpPr>
        <p:spPr>
          <a:xfrm>
            <a:off x="5146560" y="3068640"/>
            <a:ext cx="289080" cy="647640"/>
          </a:xfrm>
          <a:prstGeom prst="ellipse">
            <a:avLst/>
          </a:prstGeom>
          <a:noFill/>
          <a:ln w="28440">
            <a:solidFill>
              <a:srgbClr val="e600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"/>
          <p:cNvPicPr/>
          <p:nvPr/>
        </p:nvPicPr>
        <p:blipFill>
          <a:blip r:embed="rId3"/>
          <a:stretch/>
        </p:blipFill>
        <p:spPr>
          <a:xfrm>
            <a:off x="3132000" y="4005360"/>
            <a:ext cx="3240360" cy="2306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Montage_Scanner_01_komb"/>
          <p:cNvPicPr/>
          <p:nvPr/>
        </p:nvPicPr>
        <p:blipFill>
          <a:blip r:embed="rId4"/>
          <a:stretch/>
        </p:blipFill>
        <p:spPr>
          <a:xfrm>
            <a:off x="5796000" y="4149720"/>
            <a:ext cx="3095640" cy="206208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97BF-A8CF-4E10-8D66-BD8F46DEA4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80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dure QC (2) </a:t>
            </a:r>
            <a:br>
              <a:rPr sz="3200"/>
            </a:br>
            <a:r>
              <a:rPr b="0" lang="en-US" sz="2400" spc="-1" strike="noStrike">
                <a:solidFill>
                  <a:srgbClr val="e6002c"/>
                </a:solidFill>
                <a:latin typeface="Arial"/>
              </a:rPr>
              <a:t>Negative control for specimen proc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4" descr="DSC02212"/>
          <p:cNvPicPr/>
          <p:nvPr/>
        </p:nvPicPr>
        <p:blipFill>
          <a:blip r:embed="rId1"/>
          <a:stretch/>
        </p:blipFill>
        <p:spPr>
          <a:xfrm>
            <a:off x="1835280" y="1484280"/>
            <a:ext cx="5976720" cy="4483080"/>
          </a:xfrm>
          <a:prstGeom prst="rect">
            <a:avLst/>
          </a:prstGeom>
          <a:ln w="38160">
            <a:solidFill>
              <a:srgbClr val="99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8915-34D5-4143-86F6-2EF1988CFF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dure QC (3) </a:t>
            </a:r>
            <a:br>
              <a:rPr sz="3200"/>
            </a:br>
            <a:r>
              <a:rPr b="0" lang="en-US" sz="2400" spc="-1" strike="noStrike">
                <a:solidFill>
                  <a:srgbClr val="e6002c"/>
                </a:solidFill>
                <a:latin typeface="Arial"/>
              </a:rPr>
              <a:t>Quality indic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425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and quarterly </a:t>
            </a:r>
            <a:r>
              <a:rPr b="0" lang="en-US" sz="2400" spc="-1" strike="noStrike">
                <a:solidFill>
                  <a:srgbClr val="e6002c"/>
                </a:solidFill>
                <a:latin typeface="Arial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quality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12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onitor the number (%) of unsuccessful amplifications for AC/ TUB rpoB/katG/in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12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onitor the number (%) of different mutation “types” (common and uncomm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12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onitor the number (%) of tests with mixed pattern (rpoB/katG/ in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12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onitor turn-aroun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ulture and drug susceptibility testing of all specimens with resistant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ulture 10% of specimens with susceptible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firm discrepant results (molecular vs conventional) by other molecular and conventional method if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hilip</dc:creator>
  <dc:description/>
  <dc:language>en-US</dc:language>
  <cp:lastModifiedBy>Philip</cp:lastModifiedBy>
  <dcterms:modified xsi:type="dcterms:W3CDTF">2012-01-26T10:57:02Z</dcterms:modified>
  <cp:revision>426</cp:revision>
  <dc:subject/>
  <dc:title>PowerPoint Presentation</dc:title>
</cp:coreProperties>
</file>