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13.png" ContentType="image/png"/>
  <Override PartName="/ppt/media/image7.jpeg" ContentType="image/jpeg"/>
  <Override PartName="/ppt/media/image10.wmf" ContentType="image/x-wmf"/>
  <Override PartName="/ppt/media/image4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1729E-1C80-4D23-AFF4-DB14DC247A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C34AD-9230-44B6-8124-A28E4DDE7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participants nucleotide mix (the colored labels representing A,T, G, and C) and the prim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at for this demonstration the polymerase will be represented by the zipp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the participants the original sequence of DNA (the zipper with the nucleotide labe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ADFCB-9255-41F9-BD59-EF3286C0B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o the participants that everything that we are about to do takes place inside the 0.2 mL tube in the pi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F297-D31F-4610-A5DE-DF4DD033E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6BD9-896D-4856-8624-528648442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D2E2-D643-4AC7-826C-C2CBE77A0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5E86-2F33-4394-838A-AF0CCE641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A174F-43B2-4147-A2CE-7CAD1E6A3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62910-20F0-4E16-9AA7-83451B319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AB7FB-7CD2-4F57-AFD2-9BD349B86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73A7C-2F1A-413D-8772-5CA4C514A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F1B19-1978-4A42-9947-EF4136E38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DD5CC-3A95-4357-8CE4-C7B88C43E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7C2F6-D4D5-418A-902F-6B5FE5D0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F704-4816-480F-BBC9-C12ACD1A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8D608-C513-4C95-BFBB-516C3242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19CD0-8F92-4F81-92C4-104D25CF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DC656-B530-4658-B655-6CCCFBD35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0622C-CB97-422D-BDAC-28C941F29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4F7A4-E266-4092-B43D-A9F423B1A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5B95-D6A4-46C9-8A73-75CFEB32E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1519-764A-41FE-B855-F565C6E50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BF27-E917-4884-B12E-B6A9CD14E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6570-2F6D-43F9-99F1-635048679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7B5B-10D8-46EC-9D83-9E30B481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598B-1772-4546-A318-C7B07CE1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E3D3-CB62-40A9-B395-EB2CCE69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7D0B2-CE9D-4307-9393-31F146B3A7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7C9C0-01DC-4376-B30E-F700142C8C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PCR activity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ippers are used to demonstrate visually how PCR can take one segment of DNA and create eight cop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Arial"/>
              </a:rPr>
              <a:t>Cycle 3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- Step 3: Extens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0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ºC for 40 sec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q polymerase adds nucleotides to the 3’ end of each pri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Locate the complimentary nucleotide “label”, stick it on the edge of the zipper opposite the original nucleotide, and zip it together as each nucleotide is a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extention"/>
          <p:cNvPicPr/>
          <p:nvPr/>
        </p:nvPicPr>
        <p:blipFill>
          <a:blip r:embed="rId1"/>
          <a:stretch/>
        </p:blipFill>
        <p:spPr>
          <a:xfrm>
            <a:off x="533520" y="4343400"/>
            <a:ext cx="446724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fter 2 cyc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4" descr="cycle 2"/>
          <p:cNvPicPr/>
          <p:nvPr/>
        </p:nvPicPr>
        <p:blipFill>
          <a:blip r:embed="rId1"/>
          <a:stretch/>
        </p:blipFill>
        <p:spPr>
          <a:xfrm>
            <a:off x="1600200" y="1676520"/>
            <a:ext cx="398448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Arial"/>
              </a:rPr>
              <a:t>Cycle 3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- Step 1: Denatu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5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ºC for 25 sec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95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ºC the double helix of DNA separates into two single str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Unzip the 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Pass a copy to your neighb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denaturation"/>
          <p:cNvPicPr/>
          <p:nvPr/>
        </p:nvPicPr>
        <p:blipFill>
          <a:blip r:embed="rId1"/>
          <a:stretch/>
        </p:blipFill>
        <p:spPr>
          <a:xfrm>
            <a:off x="1371600" y="4648320"/>
            <a:ext cx="609588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Arial"/>
              </a:rPr>
              <a:t>Cycle 3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- Step 2: Anneal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3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ºC for 40 sec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ers hybridize to complementary sequences of each DNA st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lace the primer label onto the edge of the zip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annealing"/>
          <p:cNvPicPr/>
          <p:nvPr/>
        </p:nvPicPr>
        <p:blipFill>
          <a:blip r:embed="rId1"/>
          <a:stretch/>
        </p:blipFill>
        <p:spPr>
          <a:xfrm>
            <a:off x="838080" y="4724280"/>
            <a:ext cx="579132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Arial"/>
              </a:rPr>
              <a:t>Cycle 3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- Step 3: Extens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0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ºC for 40 sec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q polymerase adds nucleotides to the 3’ end of each pri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Locate the complimentary nucleotide “label”, stick it on the edge of the zipper opposite the original nucleotide, and zip it together as each nucleotide is a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extention"/>
          <p:cNvPicPr/>
          <p:nvPr/>
        </p:nvPicPr>
        <p:blipFill>
          <a:blip r:embed="rId1"/>
          <a:stretch/>
        </p:blipFill>
        <p:spPr>
          <a:xfrm>
            <a:off x="533520" y="4343400"/>
            <a:ext cx="446724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fter 3 cyc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4" descr="cycle 3"/>
          <p:cNvPicPr/>
          <p:nvPr/>
        </p:nvPicPr>
        <p:blipFill>
          <a:blip r:embed="rId1"/>
          <a:stretch/>
        </p:blipFill>
        <p:spPr>
          <a:xfrm>
            <a:off x="1371600" y="1523880"/>
            <a:ext cx="510552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nd result: Exponential amplification of a target sequence of D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514440" y="1854360"/>
            <a:ext cx="8058240" cy="38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08FBD-CDF6-4CD8-A29D-905A4E9EB59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gredients needed for PC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ter-mix +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NM (primer nucleotide mi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x incubation buffer, Mg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sterile molecular-grade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NA polymerase (HotStarTaq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NA sam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Where does PCR happen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ide small 0.2 ml reaction tu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hermocycler is a programmable instrument that will heat and cool the reaction tubes to the desired temperature for a designated amount of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PA080004"/>
          <p:cNvPicPr/>
          <p:nvPr/>
        </p:nvPicPr>
        <p:blipFill>
          <a:blip r:embed="rId1"/>
          <a:stretch/>
        </p:blipFill>
        <p:spPr>
          <a:xfrm>
            <a:off x="4572000" y="1447920"/>
            <a:ext cx="348624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Arial"/>
              </a:rPr>
              <a:t>Cycle 1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- Step 1: Denatu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5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ºC for 25 sec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95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ºC the double helix of DNA separates into two single str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Unzip the D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denaturation"/>
          <p:cNvPicPr/>
          <p:nvPr/>
        </p:nvPicPr>
        <p:blipFill>
          <a:blip r:embed="rId1"/>
          <a:stretch/>
        </p:blipFill>
        <p:spPr>
          <a:xfrm>
            <a:off x="533520" y="4267080"/>
            <a:ext cx="731520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Arial"/>
              </a:rPr>
              <a:t>Cycle 1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- Step 2: Anneal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3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ºC for 40 sec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ers hybridize to complementary sequences of each DNA st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lace the primer label onto the edge of the zip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annealing"/>
          <p:cNvPicPr/>
          <p:nvPr/>
        </p:nvPicPr>
        <p:blipFill>
          <a:blip r:embed="rId1"/>
          <a:stretch/>
        </p:blipFill>
        <p:spPr>
          <a:xfrm>
            <a:off x="838080" y="4724280"/>
            <a:ext cx="579132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Arial"/>
              </a:rPr>
              <a:t>Cycle 1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- Step 3: Extens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0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ºC for 40 sec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q polymerase adds nucleotides to the 3’ end of each pri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Locate the complimentary nucleotide “label”, stick it on the edge of the zipper opposite the original nucleotide, and zip it together as each nucleotide is a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ments = A-T and G-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extention"/>
          <p:cNvPicPr/>
          <p:nvPr/>
        </p:nvPicPr>
        <p:blipFill>
          <a:blip r:embed="rId1"/>
          <a:stretch/>
        </p:blipFill>
        <p:spPr>
          <a:xfrm>
            <a:off x="533520" y="4343400"/>
            <a:ext cx="446724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fter 1 cyc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5" descr="cycle 1"/>
          <p:cNvPicPr/>
          <p:nvPr/>
        </p:nvPicPr>
        <p:blipFill>
          <a:blip r:embed="rId1"/>
          <a:stretch/>
        </p:blipFill>
        <p:spPr>
          <a:xfrm>
            <a:off x="2133720" y="1447920"/>
            <a:ext cx="3225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Arial"/>
              </a:rPr>
              <a:t>Cycle 2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- Step 1: Denatu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5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ºC for 25 sec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95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ºC the double helix of DNA separates into two single str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Unzip the 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Pass a copy to your neighb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denaturation"/>
          <p:cNvPicPr/>
          <p:nvPr/>
        </p:nvPicPr>
        <p:blipFill>
          <a:blip r:embed="rId1"/>
          <a:stretch/>
        </p:blipFill>
        <p:spPr>
          <a:xfrm>
            <a:off x="1066680" y="4572000"/>
            <a:ext cx="655344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Arial"/>
              </a:rPr>
              <a:t>Cycle 2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- Step 2: Anneal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3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ºC for 40 sec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ers hybridize to complementary sequences of each DNA st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lace the primer label onto the edge of the zip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annealing"/>
          <p:cNvPicPr/>
          <p:nvPr/>
        </p:nvPicPr>
        <p:blipFill>
          <a:blip r:embed="rId1"/>
          <a:stretch/>
        </p:blipFill>
        <p:spPr>
          <a:xfrm>
            <a:off x="838080" y="4724280"/>
            <a:ext cx="579132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9:16:47Z</dcterms:created>
  <dc:creator>kyle tholen</dc:creator>
  <dc:description/>
  <dc:language>en-US</dc:language>
  <cp:lastModifiedBy>Philip</cp:lastModifiedBy>
  <dcterms:modified xsi:type="dcterms:W3CDTF">2012-01-26T11:01:02Z</dcterms:modified>
  <cp:revision>13</cp:revision>
  <dc:subject/>
  <dc:title>PCR Activity</dc:title>
</cp:coreProperties>
</file>