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EE06-C0CF-440B-B83C-BA552CD9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62E-7F64-48F1-B02D-821D0402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9A1-8C9A-493F-994F-99765768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11EE-8E08-409F-BFEA-5F90BAC5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C0F3-3321-4865-B266-17EB1FC2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4694-54CC-492B-BF75-B493AE14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4A62-1842-4D9E-BAD7-A6C0C13C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FA9D-C4C6-494D-9145-900265CE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5C8A-65CE-4955-B97C-E1F44E0E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6309-EC4C-434A-A8A7-9D1B9EEF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8374-9836-4B6C-871A-22408E03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02C-E746-4340-A425-3D5D05C0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46F1-EBDA-49D8-8B8C-3DBCAC0F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8182-F1A2-4E7D-A26D-153446BA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F805-41AE-4C16-A334-62162808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C44A-71E5-4E1A-AC3B-730ED6FF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5914-C723-4D29-9954-93E22A95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9C01-AD9F-4D4E-9577-BCCB6512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795-279F-4A55-8E6C-6DFBDBD2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33F-9766-49D5-A426-07D94228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74F-F69B-4BD0-AC4B-3B9453B9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01C-378D-41A8-97BB-F639B84F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F90-A370-422F-87A2-4CCF28BF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F2D-6276-4FFD-84A9-4DA0712F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7515-CDBF-4FE3-BDCF-F19F84F9BB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220C-50A8-45F8-AC9F-814CE14189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6429-BDE4-441B-909C-CA5E417111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427040"/>
            <a:ext cx="800100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 MGIT 960 DST troubleshoo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C2F5-C741-4088-B549-87E16D6FBB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re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is contaminated or mixed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was not properly dil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was not homogeneous or had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stor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added 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IT tube was not mixed properly after the addition of the organism susp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troubleshooting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F03E-F346-4E25-AB1A-DE9636BD3B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rform 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ZN smear on positive MGIT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T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NTMs show resistance to anti-mycobacterial 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30C1-4280-46D0-B7AA-15D322E8F9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purity of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inoculum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m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ellular morphology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BC mixed with N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(fungus and bac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late for contamination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ut mixed mycobacterial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472D-A345-4E37-9939-17F0AE9B89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resistance pro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sistance to a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not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0.1 ml of drug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selected from the bottom of seed tube or clumps were not allowed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a MGIT 960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DST panel with resistant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1FF7-FD64-4F6C-B52D-876D3E5499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ZN on growing drug-containing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iddlebrook 7H10 is not available to confirm mycobacteria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on resistant drug-containing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only one type of cellular morphology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reset DST to verify drug was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665B-4797-44E3-8A1E-35065A2ED0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F5D5-81CD-4F0E-84F3-7443AF96D1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ST troubleshooting: When to re-t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-interpre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-resistance (especially RIF, EMB &amp; P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disagree with previous testing from the sam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line resistance/suscept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is a new untreated case and shows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s fail to giv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xpected high number of resistant isolates in a 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7B0C-5CD0-4622-BB15-D6DEB2F2E9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oubleshooting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homogeneous,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must be taken when preparing di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must be reconstituted and stored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pipettes must be used, not disposable transfer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performed on all new lots of DST reagents and MGIT tubes and weekly with each batch of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BABC-757B-4BD4-801F-F1F7D0670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0582-8C7F-4C66-9058-5AF3F26455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ght equipment used correct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equipment/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ly sterile tubes and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glass beads to break up clumps in inoculum from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ed pipet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addition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McFarland standard with same tube diameter as inoculum tube and same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 7H9, use 7H9 blank in densit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tex well and allow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select inoculum from bottom of tube or over inoculate tubes with clumps of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8318-092A-4891-8039-AF887E7C13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reag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test medium and MGIT 7 ml tubes are not interchangeable when testing SIRE and PZA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supplement and SIRE supplement are not interchang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supplement other than that supplied with the drugs – no PANTA or other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reconstit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distilled/deionize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drug dissolves comple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reconstituted drug at -2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up to 6 months, but do not exceed original expir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awed, reconstituted drug the same day; discard any unused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76AB-4FB0-4985-A308-8BBE4EEC10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ino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cultur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MGIT tu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MGIT 960 called ‘positive’ plus 1 day to 5 days from date of po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eous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glass beads and vortex to break up organism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supernatant for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igh or too low an inoculum may give erroneous results or un-interpretabl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dilutions according to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curate pipette to add inoculum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rror report for DST s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ditions occur that may affect the test results; the instrument will report this as an error 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become positive in less than 4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he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remain negative up to 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1FF7-92C4-4BA1-A76D-7DADDD943B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alid DST sets ‘X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not positive within 13 days (SIRE) or 21 days (PZ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under-inocu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positive too soon (&lt; 4 day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over-inoculated or conta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ANY tube is missing in 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4A8D-D3C4-4051-AFAF-3223EF00CE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A5EF-10CF-4802-A182-1225215193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ST interpretation of DST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 results ‘X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was too he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MGIT tube, ‘Day’ 3 to 5 must be 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solid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 must be allowed to settle – over-inoculation and minimize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suspension from solid to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pecimen not vortex-mixed completely; clumps still present in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ontrol suspensions for SIRE and PZA are different (1:100 vs 1: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F582-31B1-4C34-A056-95F10B9FAB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ST troubleshooting: Non-interprete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 took too long to interpret results (SIRE &gt;14 days; PZA &gt;21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too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pipettes must be used for dilutions and addition to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ransfer pip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with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may have been picked up, which interferes with reading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ulture too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proper growth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2276-2AEF-47F1-AE27-D322D97129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i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suspension must be &gt; 1.0 McFa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not hom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too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proper amount of supplement added to tub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supplement properly sto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uch drug added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ube caps on tight? If not, oxygen can leak in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PZA medium and PZA supplement can be used for PZA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9:00Z</dcterms:modified>
  <cp:revision>33</cp:revision>
  <dc:subject/>
  <dc:title>BACTEC MGIT 960 DST Quality Control</dc:title>
</cp:coreProperties>
</file>