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2849-D177-4204-8AFF-5B4A67708E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7744-BBBC-4247-A241-69809F47AE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written checklists avoids the unnecessary interruption of work in the BSC that can compromise the quality of the specimen testing or the biosafety of laboratory sta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262B-7848-44D8-8866-8CD9C0DB4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C017-346A-45AC-8DB3-C1E385AB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C257-B5E2-46CE-88B2-38CE91F0F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9FC2-0106-4536-B2BC-FF968064E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95044-2243-4972-9D82-CFCD139E3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D65A-96D8-46E6-8AAF-E7EA32F2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1821B-6883-4468-AB87-CD429CB7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8B2B-B6FF-4439-90BA-5F2C62DC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447F-4BB9-4C31-B9C2-393AFD18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D7503-1EB6-4800-8AF2-D9CD1B9E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86C3-DBE3-424C-A896-99A73BB0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3CA5-98BC-4BC3-9A74-5D92AB73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04C1-053A-4DB7-B9FA-046135CE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A466-1707-4639-87DF-C873A701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14EC-EC0D-485D-A798-BDA01840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6E9D-C2D6-4671-BE11-E60A784AE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AE6D-4357-4198-810A-EBB136333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C9A5-97B7-4E46-9F9A-D039A902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EA63-2EC8-4F9C-8E65-6375F2A0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E0C3-6229-4DBE-BD0E-6E422965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C0FF-11E1-463A-8938-78198086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D3F4-274B-40FE-B998-887D91D0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90C5-9AC1-46A5-B580-9A5C7999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F89A-DD99-45FB-987C-702A56DA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ACE3-1D21-4E52-BA84-342A41801B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091E-11F3-47F0-A446-3D5156EF6E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120" y="1413000"/>
            <a:ext cx="8915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GenoType</a:t>
            </a:r>
            <a:r>
              <a:rPr b="0" lang="en-US" sz="3600" spc="-1" strike="noStrike" baseline="30000">
                <a:solidFill>
                  <a:srgbClr val="ffff99"/>
                </a:solidFill>
                <a:latin typeface="Arial"/>
              </a:rPr>
              <a:t>®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MTBDR</a:t>
            </a:r>
            <a:r>
              <a:rPr b="0" i="1" lang="en-US" sz="3600" spc="-1" strike="noStrike">
                <a:solidFill>
                  <a:srgbClr val="ffff99"/>
                </a:solidFill>
                <a:latin typeface="Arial"/>
              </a:rPr>
              <a:t>plus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VER 2.0</a:t>
            </a:r>
            <a:br>
              <a:rPr sz="3600"/>
            </a:b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GenoType</a:t>
            </a:r>
            <a:r>
              <a:rPr b="0" lang="en-US" sz="3600" spc="-1" strike="noStrike" baseline="30000">
                <a:solidFill>
                  <a:srgbClr val="ffff99"/>
                </a:solidFill>
                <a:latin typeface="Arial"/>
              </a:rPr>
              <a:t>®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MTBDR</a:t>
            </a:r>
            <a:r>
              <a:rPr b="0" i="1" lang="en-US" sz="3600" spc="-1" strike="noStrike">
                <a:solidFill>
                  <a:srgbClr val="ffff99"/>
                </a:solidFill>
                <a:latin typeface="Arial"/>
              </a:rPr>
              <a:t>sl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VER 2.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Reagent preparation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gent preparation are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412640"/>
            <a:ext cx="7707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ools and instruments that are used here have to be labelled accordingly and cannot be used else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CR tubes can only be taken to specimen preparation area in an aluminum foil-covered beak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 not bring back this beaker to reagent preparation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0.5 ml or 0.2 ml individual PCR tubes instead of 0.2 ml str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a PCR hood with U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laboratory pract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hange shoes or use shoe cover before entering clean room  Autoclave and calibrate pipettes regula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fter you have finished working in the specimen preparation area, do not come back and clean the reagent preparation area work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gent preparatio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6481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876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g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ways prepare fresh Na-hypochlorite 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heck undiluted bleach concen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nal concentration of hypochlorite should not fall below 1.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orking solutions of 5 g/l are necessary for dealing with biohazard spi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ontainers containing bleach CANNOT be autoclaved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o avoid contamination of distilled water stocks, use 70% alcohol instead of distilled water for clea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 an Eppendorf repeat pipettor with individually wrapped sterile combi tips for aliquoting, if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876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ry clea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ways properly clean the work area after completing the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stablish a regular (e.g. weekly) and thorough laboratory cleaning protocol (floors, doors, wal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6688080" y="2133720"/>
            <a:ext cx="2033640" cy="236520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pic>
        <p:nvPicPr>
          <p:cNvPr id="159" name="Picture 5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rganize your work (use checkl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ork unidirectionally (laboratory lay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velop and follow SOP for procedure and instrument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eep tools and workplace cle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E787-A9B5-4509-9FB6-4118B185DEE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3440" y="12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99"/>
                </a:solidFill>
                <a:latin typeface="Arial"/>
              </a:rPr>
              <a:t>Content outl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7416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PCR laboratory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Check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Calculation of volume of master mix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Personal protective equipment (P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Reagent preparation for 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Optimal PCR laboratory layou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553080" cy="5267160"/>
          </a:xfrm>
          <a:prstGeom prst="rect">
            <a:avLst/>
          </a:prstGeom>
          <a:ln w="0">
            <a:noFill/>
          </a:ln>
        </p:spPr>
      </p:pic>
      <p:sp>
        <p:nvSpPr>
          <p:cNvPr id="110" name="Oval 4"/>
          <p:cNvSpPr/>
          <p:nvPr/>
        </p:nvSpPr>
        <p:spPr>
          <a:xfrm rot="5400000">
            <a:off x="1943640" y="224640"/>
            <a:ext cx="2592360" cy="4968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414160" y="4797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“dirty”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078640" y="285264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fr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221880" y="501336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plicon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ty”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LogoColour"/>
          <p:cNvPicPr/>
          <p:nvPr/>
        </p:nvPicPr>
        <p:blipFill>
          <a:blip r:embed="rId2"/>
          <a:stretch/>
        </p:blipFill>
        <p:spPr>
          <a:xfrm>
            <a:off x="8532720" y="6551640"/>
            <a:ext cx="611280" cy="306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"/>
          <p:cNvPicPr/>
          <p:nvPr/>
        </p:nvPicPr>
        <p:blipFill>
          <a:blip r:embed="rId3"/>
          <a:stretch/>
        </p:blipFill>
        <p:spPr>
          <a:xfrm>
            <a:off x="0" y="6554880"/>
            <a:ext cx="841320" cy="303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"/>
          <p:cNvPicPr/>
          <p:nvPr/>
        </p:nvPicPr>
        <p:blipFill>
          <a:blip r:embed="rId4"/>
          <a:stretch/>
        </p:blipFill>
        <p:spPr>
          <a:xfrm>
            <a:off x="4284720" y="6566040"/>
            <a:ext cx="43164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1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ation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3959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Prepare a written checklist of materials and tool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pare a worksheet with list of specimens (identifiers) to be tes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orksheets used in Specimen Preparation area should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be brought over to this are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pare a worksheet to calculate the volume master mix ingred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18"/>
          <p:cNvGraphicFramePr/>
          <p:nvPr/>
        </p:nvGraphicFramePr>
        <p:xfrm>
          <a:off x="4552920" y="1657440"/>
          <a:ext cx="3921120" cy="416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2920" y="1657440"/>
                    <a:ext cx="3921120" cy="41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20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1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2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2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ion of component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0" y="1628640"/>
            <a:ext cx="39607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termine the number of specimens and controls (number of samples to be analyzed plus control samp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0µl AM-A; 35µl AM-B; 5 µl DNA (after DNA extraction with GenoLyse) or 10µl DNA (after DNA extraction with GXT DNA/RNA Extraction K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inal volume: 50µl (GenoLyse) or 55 µl (GXT DNA/R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volume of master mix is 45 µl per speci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29" name="Grafik 2" descr="Ein Bild, das Tasse, Zahnbürste, klein, Tisch enthält.&#10;&#10;Automatisch generierte Beschreibung"/>
          <p:cNvPicPr/>
          <p:nvPr/>
        </p:nvPicPr>
        <p:blipFill>
          <a:blip r:embed="rId4"/>
          <a:stretch/>
        </p:blipFill>
        <p:spPr>
          <a:xfrm>
            <a:off x="520560" y="2266920"/>
            <a:ext cx="40514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3)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ting up workplac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ut on gloves and laboratory c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contaminate work area with freshly diluted 1.5% bleach (20 min), followed by 70% 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ver the work area with clean paper tow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4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ter mix preparation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1327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tore molecular grade water, and other reagents, in the DNA-free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mpletely thaw all re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ipette calculated amount of different components of master mix into 1.5 ml conical screw-cap vial using filtered t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hange tips between re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ways use a new aliquot of molecular grade water for negative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pare a master mix containing AM-A and AM-B and mix carefully but thoroughly (do not vorte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ways open only one reagent vial at a time, and place vials back in mini cooler after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lease note that the master mix needs to be prepared freshly each time and needs to be processed quick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5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ensing master mix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4220640"/>
            <a:ext cx="79200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Label PCR tubes in line with numbers of specimens and controls on your work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lace PCR tubes onto the PCR tube r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pense 45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µl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master mix into each PCR tube using filtered t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dd 5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µl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of same sterile, molecular grade water used to prepare master mix into negative control PCR tu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lose PCR tubes with PCR tube caps and place them in a sterile tube r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45" name="Grafik 2" descr="Ein Bild, das Essen, Messer enthält.&#10;&#10;Automatisch generierte Beschreibung"/>
          <p:cNvPicPr/>
          <p:nvPr/>
        </p:nvPicPr>
        <p:blipFill>
          <a:blip r:embed="rId4"/>
          <a:stretch/>
        </p:blipFill>
        <p:spPr>
          <a:xfrm>
            <a:off x="1476360" y="1436760"/>
            <a:ext cx="56167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6)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an-up of workplac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2104920"/>
            <a:ext cx="792468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5000"/>
              </a:lnSpc>
              <a:spcBef>
                <a:spcPts val="119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fter each use, clean pipettes, racks, instruments and the workstation with freshly diluted 1.5% bleach (20 minutes), followed by 70% alcohol and UV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9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 area-dedicated wash bottles or beakers (separate beakers for surface cleaning and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gliani Elisa</cp:lastModifiedBy>
  <dcterms:modified xsi:type="dcterms:W3CDTF">2020-06-12T10:04:15Z</dcterms:modified>
  <cp:revision>374</cp:revision>
  <dc:subject/>
  <dc:title>PowerPoint Presentation</dc:title>
</cp:coreProperties>
</file>