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7E31-B385-47DE-9B9D-A645D7CB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D78-0C70-4D10-B714-0FA205CB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3F5-5B73-4FDB-B3E8-16FDCE1C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1AD-CCD8-4022-9F6E-7B45CAA4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498B-E916-4599-8B67-D0F720F6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CBA8-5F65-412E-85CD-2E35C0C0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523D-A63F-47C0-960E-5D13FF9C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8F02-D144-49FC-837E-693CBD54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3669-BE18-4293-A559-7908BD96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07AA-1AD4-47D1-B10C-1303574F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EF35-B31C-442A-9DDB-2A055181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380F-3833-47BE-8C88-00CA6C83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3B2B-320D-475F-A228-E1644713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8D89-49D4-4B73-B781-E5F9F22E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D3D9-DED3-429B-A09A-9C2028E7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148E-46FA-479D-B5A9-A3350C7A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C93C-6B63-4FB0-BCAA-A3B746FD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43C07-0428-449E-95FC-02AAF23C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8D746-BC4F-4F34-8AD4-C2977859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8C606-BD35-4223-9146-2D4858FC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7E8D0-182C-4F4B-951D-A62F9169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4B179-F521-4811-99F3-EEE8B866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8619-A2BB-434A-9E30-FCB633AB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597AE-54BE-473F-96B1-3703F0A1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EAAA4-9A1A-48FB-ABBC-DF9B3D50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F4C35-3563-4C57-8B0F-D90B2C58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1990C-8CE5-43C2-8C5D-584DAA14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93080-B83E-471A-A4DA-644AC793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B49B-BDB4-4E0F-9976-E29228A3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33F69-FB5F-4948-B49B-233870E7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C74C-BF23-4120-A59C-6E998DF8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BBF-E539-43F1-8CEF-1E6EFBF4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ECB-006B-4A72-B63D-7FE6DEBE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4CD-A786-4DD6-900F-07527BBF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706E-C656-471B-9F54-851AB310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A2FE-249B-4667-A4DE-1FAB0276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B89B-054B-4024-B8CF-E65F128C27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8837-7EF2-46E9-9F77-8665286596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6" descr="LogoColour"/>
          <p:cNvPicPr/>
          <p:nvPr/>
        </p:nvPicPr>
        <p:blipFill>
          <a:blip r:embed="rId2"/>
          <a:stretch/>
        </p:blipFill>
        <p:spPr>
          <a:xfrm>
            <a:off x="6572160" y="621504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1A85-C8FE-46A8-B325-7404C83639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8820000" cy="14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cription - transl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5B45-8A23-4729-B68E-58352CB61C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666880" y="2190600"/>
            <a:ext cx="3810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passes through the sections of the ribo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reads the code in 3 letter words (codon) in the genet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chain is built as amino acids are added to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made and have variou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8264-91F8-4067-B4FE-F10D06EE63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86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5434200" cy="13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016B-2DBC-4443-A9A0-0BB6EF2D5A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714760" y="3429000"/>
            <a:ext cx="2928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rial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 every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loop of stable chromosomal DNA stored in the nucleoid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double-str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DNA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-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few millio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F189-8DF5-4509-A270-26BE95A40B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4648320" y="2228760"/>
            <a:ext cx="3886200" cy="3162240"/>
          </a:xfrm>
          <a:prstGeom prst="rect">
            <a:avLst/>
          </a:prstGeom>
          <a:ln w="0">
            <a:noFill/>
          </a:ln>
        </p:spPr>
      </p:pic>
      <p:sp>
        <p:nvSpPr>
          <p:cNvPr id="186" name="Up Arrow 10"/>
          <p:cNvSpPr/>
          <p:nvPr/>
        </p:nvSpPr>
        <p:spPr>
          <a:xfrm rot="19715400">
            <a:off x="6519600" y="4074840"/>
            <a:ext cx="484200" cy="13953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myco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nserved regions of DNA allow for species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es are conserved within a species or complex, but differ from othe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 with sequence differences that are used fo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– 23S ITS (internal transcribed spacer)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235C-9352-499E-A0DD-C55C1B3C9B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2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TB complex can be differentiated from other mycobacterial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the TB complex have identical DNA sequences in these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ycobacterial species have sequence differences in these regions and this is the basis for molecula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17F8-4DC5-4986-A343-4C9CE8354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identification metho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to DNA or RNA from growth-amplified cells (need isolates for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Probe AccuProbes bind ribosomal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T (nucleic acid amplification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nzymatic amplification of DNA or RNA (P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brew assays, other commercial 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36E4-C8ED-436D-9573-0FCF32BFDC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rget and prob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nucleic acid sequences or amplified product (amplicon) from the specimen or isolate to b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molecule of nucleic acid (DNA or RNA) used to identify complementary nucleic acid sequences in the target by 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2099-49CD-4A4D-B8D7-375116401B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e: Target dete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e is in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labelled during amplification by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py is labe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cons are in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09D1-C858-471A-8125-5D9F3A134D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7CB6-95D7-4932-AAA8-FE2F3913A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oxyrib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lei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d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co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8035-A940-4222-93DE-CA35C71715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at is DN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two strands of nucleotide units boun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 of the nucleic subunits in the structure represents all of the genetic information carried by a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ntains genetic information and instructions for the development and functioning of all living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–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–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2934-6FB4-4685-BAEA-E6892EE3A3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letters in the code: A T C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is stored in the sequence of bases in the DNA st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: the bases (letters) are arranged in specific  orders and functional s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 may have thousands of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 strand has thousands of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quence of bases are interpreted into instructions for every action that happens in the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FFAD-ED16-4708-8DC9-C87A6EEEB2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s of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storage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build necessary components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mission of genetic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E9A4-7CD3-44BE-BF0E-B0C3A33730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68360" y="4724280"/>
            <a:ext cx="33894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made of two long strands of polymers called nucleo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tides are monomers, the building blocks of DNA and are composed of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base or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ic nitrogen-containing comp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ypes: Adenine (A), cytosine (C), Guanine (G), and Thymin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e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carbon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ate 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NA has the same composition but a different 5-carbon sugar- 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9F32-2B9F-44F9-8990-3B2650BCD5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067280" y="4437000"/>
            <a:ext cx="409392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1" name="Curved Connector 7"/>
          <p:cNvCxnSpPr/>
          <p:nvPr/>
        </p:nvCxnSpPr>
        <p:spPr>
          <a:xfrm flipV="1" rot="10800000">
            <a:off x="6155640" y="4508280"/>
            <a:ext cx="864360" cy="28944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Curved Connector 18"/>
          <p:cNvCxnSpPr/>
          <p:nvPr/>
        </p:nvCxnSpPr>
        <p:spPr>
          <a:xfrm rot="10800000">
            <a:off x="6155640" y="4796640"/>
            <a:ext cx="937440" cy="432720"/>
          </a:xfrm>
          <a:prstGeom prst="curvedConnector5">
            <a:avLst>
              <a:gd name="adj1" fmla="val 28121"/>
              <a:gd name="adj2" fmla="val 49958"/>
              <a:gd name="adj3" fmla="val 2812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base per nucleotide (A,T,G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bases are classified into two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ines (A,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rimidines (T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se can be next to each other on the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NA strands bind together to form a double 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only binds t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only binds to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strands are complementary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0F9C-BEFE-43C2-B1EA-A883E6974C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dna-2"/>
          <p:cNvPicPr/>
          <p:nvPr/>
        </p:nvPicPr>
        <p:blipFill>
          <a:blip r:embed="rId1"/>
          <a:srcRect l="0" t="5764" r="6378" b="0"/>
          <a:stretch/>
        </p:blipFill>
        <p:spPr>
          <a:xfrm>
            <a:off x="4786200" y="2286000"/>
            <a:ext cx="3567240" cy="3786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6866280" y="1643040"/>
            <a:ext cx="171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quence of nucleoti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8"/>
          <p:cNvCxnSpPr/>
          <p:nvPr/>
        </p:nvCxnSpPr>
        <p:spPr>
          <a:xfrm flipH="1">
            <a:off x="6357600" y="1999080"/>
            <a:ext cx="10008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Straight Arrow Connector 11"/>
          <p:cNvCxnSpPr>
            <a:stCxn id="157" idx="2"/>
          </p:cNvCxnSpPr>
          <p:nvPr/>
        </p:nvCxnSpPr>
        <p:spPr>
          <a:xfrm flipH="1">
            <a:off x="6143040" y="1905120"/>
            <a:ext cx="1580040" cy="45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3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usually found as a double helix where two strands of nucleotides are wrapped around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nds are anti-parall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runs 5’ to 3’, the complementary strand runs 3’ to 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34D2-F664-4581-AA16-04FDB57C2D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3340080" cy="4419360"/>
          </a:xfrm>
          <a:prstGeom prst="rect">
            <a:avLst/>
          </a:prstGeom>
          <a:ln w="0">
            <a:noFill/>
          </a:ln>
        </p:spPr>
      </p:pic>
      <p:sp>
        <p:nvSpPr>
          <p:cNvPr id="164" name="Right Arrow 9"/>
          <p:cNvSpPr/>
          <p:nvPr/>
        </p:nvSpPr>
        <p:spPr>
          <a:xfrm flipV="1">
            <a:off x="4714920" y="1785240"/>
            <a:ext cx="331920" cy="968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ight Arrow 10"/>
          <p:cNvSpPr/>
          <p:nvPr/>
        </p:nvSpPr>
        <p:spPr>
          <a:xfrm>
            <a:off x="4572000" y="52862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11"/>
          <p:cNvSpPr/>
          <p:nvPr/>
        </p:nvSpPr>
        <p:spPr>
          <a:xfrm>
            <a:off x="7643880" y="1928880"/>
            <a:ext cx="500040" cy="71280"/>
          </a:xfrm>
          <a:prstGeom prst="leftArrow">
            <a:avLst>
              <a:gd name="adj1" fmla="val 50000"/>
              <a:gd name="adj2" fmla="val 5011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Arrow 12"/>
          <p:cNvSpPr/>
          <p:nvPr/>
        </p:nvSpPr>
        <p:spPr>
          <a:xfrm>
            <a:off x="7929720" y="5286240"/>
            <a:ext cx="642960" cy="142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tion is coded in DNA in the order of the chemical letters of which DNA is made (A T 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tion of DNA is transcribed into RNA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NA is a working copy of the DNA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 G C where U replace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is translated into amino acids at the rib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quence of three nucleotide letters (triplets) codes for a specific amino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: a sequence of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de is based on the order of nucleotide triplets (CTT, ATT CTG etc.) in a gene, which specify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particular amino acids in a 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9295-FD23-41E2-9DE2-E17750A763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AGENA, Jean de Dieu</cp:lastModifiedBy>
  <dcterms:modified xsi:type="dcterms:W3CDTF">2012-10-24T22:14:14Z</dcterms:modified>
  <cp:revision>631</cp:revision>
  <dc:subject/>
  <dc:title>PowerPoint Presentation</dc:title>
</cp:coreProperties>
</file>