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54A03-0DFF-4957-97FD-BAF4A02D0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91FC-D653-4840-A593-86C85A2A2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A696D-A6B8-4DDD-B1D5-86CBF561B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D0FBF-AF5C-44D5-B0CD-4A986EBD4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ED3CA-C4B4-4DC0-A148-5D5EBB7AD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5C74-5B9E-4E04-9815-DEA29EFA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695D-DB67-42E4-9CB3-80CEDAFA0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7900-01B2-4024-A48B-9ADDB89B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AEB9-6F05-43E0-B59B-95F80683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17E0-687E-4A68-9C37-CAA8A315B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8FB9-9C36-4E25-95C0-85BBD40DC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0640-BD81-4C47-A7D2-0A35216C9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4D3A-C10D-4781-AC5E-55B2EE2378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634C-F1C1-4EF6-B8BC-A5571ACEC782}" type="datetime3">
              <a:rPr b="1" lang="en-GB" sz="800" spc="-1" strike="noStrike">
                <a:solidFill>
                  <a:srgbClr val="000000"/>
                </a:solidFill>
                <a:latin typeface="Tahoma"/>
                <a:ea typeface="Tahoma"/>
              </a:rPr>
              <a:t>30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B0EB993E-DABA-42D4-AE3B-C3F51829C76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