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BF1A-A699-4386-9E10-2429C31FAA8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5A55E67C-8CF1-49F8-A0D7-D4AC1D541691}" type="datetime3">
              <a:rPr b="1" lang="en-GB" sz="1400" spc="-1" strike="noStrike">
                <a:solidFill>
                  <a:srgbClr val="96ccee"/>
                </a:solidFill>
                <a:latin typeface="Arial Narrow"/>
                <a:ea typeface="Arial"/>
              </a:rPr>
              <a:t>30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E4BD075-4773-4C3A-A323-8E3BFD7680C4}"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