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907588" cy="6858000"/>
  <p:notesSz cx="6948488" cy="10083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6948000" cy="1008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503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9"/>
          </p:nvPr>
        </p:nvSpPr>
        <p:spPr>
          <a:xfrm>
            <a:off x="3935160" y="0"/>
            <a:ext cx="3009960" cy="503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Img"/>
          </p:nvPr>
        </p:nvSpPr>
        <p:spPr>
          <a:xfrm>
            <a:off x="744120" y="757080"/>
            <a:ext cx="5459400" cy="37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body"/>
          </p:nvPr>
        </p:nvSpPr>
        <p:spPr>
          <a:xfrm>
            <a:off x="695160" y="47890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0"/>
          </p:nvPr>
        </p:nvSpPr>
        <p:spPr>
          <a:xfrm>
            <a:off x="-3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 type="sldNum" idx="11"/>
          </p:nvPr>
        </p:nvSpPr>
        <p:spPr>
          <a:xfrm>
            <a:off x="39351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F780FCF-3178-41EB-8317-6E4FD26C23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744480" y="75708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95160" y="47890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Customisation: specify the exact designation and tasks of the general (non-lab specialist) TB supervisor in your program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744480" y="75708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95160" y="47890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Customisation: specify the exact designation lab expert in your program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8791B-9965-46AB-9CD8-14BA16C9A9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2520" y="1628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72520" y="39927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6DA2A-B072-453E-ACC5-14F8438679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2520" y="162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40920" y="162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72520" y="39927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40920" y="39927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53F06-3915-4F49-BD96-539AB04CAB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72520" y="1628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87160" y="1628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01800" y="1628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72520" y="39927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87160" y="39927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01800" y="39927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06DD5-CD9D-4B4E-8AD4-68380CD9AA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B0319-3FED-4486-9B85-AEC84E6EB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252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4BCB3-53FA-4375-A385-57CA834F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252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8BAA2-869C-4E3B-AFF0-4E9147A2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2520" y="16286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40920" y="16286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F2F94-25D6-46E4-BA31-E28AD794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958B8-34B8-40AF-9060-2F6A488D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5A668-A31A-4A29-A35B-FE1B07EC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2520" y="162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40920" y="16286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2520" y="39927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FE318-8764-4929-AC69-4341800B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7252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F3F37-6218-4C7B-9B8E-F51DC4F81A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2520" y="16286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40920" y="162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40920" y="39927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AB373-F6F8-470F-940E-C1AEE371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2520" y="162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40920" y="162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2520" y="39927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77156-49EB-4F07-8813-BC9C0E04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2520" y="1628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2520" y="39927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781702-5895-4895-AE24-2EF0666D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2520" y="162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40920" y="162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2520" y="39927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40920" y="39927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ADE6E-1A0A-49F4-B39F-1D7EF5EFF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2520" y="1628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7160" y="1628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01800" y="1628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2520" y="39927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7160" y="39927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01800" y="39927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28816-E4E2-464E-A303-6667AEE1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1ECC37-7104-4643-A6D8-23C1294CF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7252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BF4924-F435-453B-89FE-0E0C2D9E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7252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2E0FEB-FA74-40A6-99D9-8B5EEEB9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2520" y="16286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40920" y="16286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0DF8CF-1291-43D8-A038-484206D8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3BE4F8-07DE-44CA-8337-310F43E0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252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67F47-5B73-4B30-8A9B-5B4989C3316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189F80-1674-4638-A2B0-C0B47CEB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72520" y="162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40920" y="16286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72520" y="39927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8E3ED7-043D-4A28-985F-0472126E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72520" y="16286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40920" y="162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40920" y="39927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92626A-78EF-477B-A9C7-21D4344E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72520" y="162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40920" y="162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72520" y="39927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D628B1-72BE-4DEF-A841-D38485B0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72520" y="1628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72520" y="39927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51141E-4B41-4E5F-83A5-66449402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72520" y="162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40920" y="162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72520" y="39927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40920" y="39927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53D6BD-DC95-4A4F-A0CC-B7F7668DC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72520" y="1628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87160" y="1628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01800" y="1628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272520" y="39927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87160" y="39927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301800" y="39927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B6DD87-FD86-4AA7-AF1C-A64B8E208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17DA51-C507-40EF-8278-FEEEF543F61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7252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917C1D-54EF-40C2-BD2B-94B678E0437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7252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D03601-D899-4FCB-B117-04BBA958D9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2520" y="16286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40920" y="16286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095B2-E370-4A23-BD29-DC846E4B387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2520" y="16286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40920" y="16286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C8DB04-7CE7-48F1-89B4-FB355FE2581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E27A4F-9D29-4169-A8B5-3B82ADE75B0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7CB991-85FE-4834-A363-07FCFEF3216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72520" y="162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40920" y="16286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72520" y="39927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DAEC40-7737-441B-8B8B-A7CA53C277D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72520" y="16286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40920" y="162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40920" y="39927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F2EFFD-30E3-4AA9-BCEA-E4B3EF99E2A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72520" y="162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40920" y="162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272520" y="39927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B0952E-7AE5-4C31-90C7-868C4FDBD47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72520" y="1628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72520" y="39927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C381DA-0968-471B-9083-F0BF32FEFA4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72520" y="162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40920" y="162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272520" y="39927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40920" y="39927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F86532-F597-4603-8DC4-2557696F426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72520" y="1628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87160" y="1628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301800" y="1628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272520" y="39927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87160" y="39927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301800" y="39927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71DBAD-3F39-4212-A671-2BFB8154D7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2426F-47A1-4000-852C-8FC270B36F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FF7D4-BD68-4BBA-89F9-84E36C6765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2520" y="162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40920" y="16286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72520" y="39927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0B687-A652-4B04-8471-358BC9A008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2520" y="16286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40920" y="162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40920" y="39927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E3E02-6593-402B-AAF3-BA23C46A0C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2520" y="162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40920" y="162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2520" y="39927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07323-A749-4C2A-A795-F0AD0F48EA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7252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7098840" y="624816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C094-A28B-4CA1-A9AD-EC83A95BF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903960" cy="6850080"/>
            <a:chOff x="0" y="0"/>
            <a:chExt cx="99039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972160" y="3540240"/>
              <a:ext cx="6926400" cy="3309840"/>
              <a:chOff x="2972160" y="3540240"/>
              <a:chExt cx="692640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972160" y="4197240"/>
                <a:ext cx="495720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172640" y="4240080"/>
                <a:ext cx="216504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87800" y="5311800"/>
                <a:ext cx="490032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726440" y="3540240"/>
                <a:ext cx="517212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741800" y="3678120"/>
                <a:ext cx="214632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713920" y="2128680"/>
              <a:ext cx="313920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9039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2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3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4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C26D-C539-4CAD-97B8-97742ACB5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4701-3B5E-493E-88FE-E7E7FED1D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27252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ldNum" idx="8"/>
          </p:nvPr>
        </p:nvSpPr>
        <p:spPr>
          <a:xfrm>
            <a:off x="7098840" y="624816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A69D-26E1-4FA8-A4DF-9E2B6EF349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0" y="0"/>
            <a:ext cx="9903960" cy="6850080"/>
            <a:chOff x="0" y="0"/>
            <a:chExt cx="9903960" cy="6850080"/>
          </a:xfrm>
        </p:grpSpPr>
        <p:grpSp>
          <p:nvGrpSpPr>
            <p:cNvPr id="133" name=""/>
            <p:cNvGrpSpPr/>
            <p:nvPr/>
          </p:nvGrpSpPr>
          <p:grpSpPr>
            <a:xfrm>
              <a:off x="2972160" y="3540240"/>
              <a:ext cx="6926400" cy="3309840"/>
              <a:chOff x="2972160" y="3540240"/>
              <a:chExt cx="6926400" cy="3309840"/>
            </a:xfrm>
          </p:grpSpPr>
          <p:sp>
            <p:nvSpPr>
              <p:cNvPr id="134" name=""/>
              <p:cNvSpPr/>
              <p:nvPr/>
            </p:nvSpPr>
            <p:spPr>
              <a:xfrm>
                <a:off x="2972160" y="4197240"/>
                <a:ext cx="495720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172640" y="4240080"/>
                <a:ext cx="216504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987800" y="5311800"/>
                <a:ext cx="490032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6440" y="3540240"/>
                <a:ext cx="517212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741800" y="3678120"/>
                <a:ext cx="214632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5713920" y="2128680"/>
              <a:ext cx="313920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0"/>
              <a:ext cx="99039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PlaceHolder 3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60160" y="691920"/>
            <a:ext cx="881532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Module</a:t>
            </a: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 </a:t>
            </a:r>
            <a:br>
              <a:rPr sz="5400"/>
            </a:b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NALYSIS OF AFB-SMEAR LABORATORIES PERFORMANCE, INTERPRETATION OF RESULTS AND FEEDBACK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6D100-6EF6-4829-810C-B4F532BB1BE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7252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Rare LF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gnore if at frequency comparable to other centres and controll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1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Problem Identification and Solving (5)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76027-4E55-4878-8D53-CBDF3C556B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roblem Identification and Solving (6)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7252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Several LFP, with/without low grade HF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ible cau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d microscope, artifacts taken as AFB?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ck of experie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aminated carbol fuchsin sta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or counterchecks - FN by both controll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estig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urn FP to microscopy centre for showing AF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st carbol fuchsin on known negative smea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B65FA-2A82-494D-B086-31D07C0AB8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7252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ingle HF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 cau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ministrative err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mear not examined, 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nd 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smear copied (workload?)  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stig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eck administrative proced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eck worklo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mear not examined: difficult to pro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roblem Identification and Solving (7)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77B3E-C211-4073-B05B-3C636FA2DE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7252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Several HFN and/or LFN and/or low quantif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ible cau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ry thick sme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or light in microsco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d stain or poor staining (if smears were all restaine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aminated methylene blue or rinsing water (after restaining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erficial / no examin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roblem Identification and Solving (8)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40522-7C5B-42CC-A462-BDD49EEB18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7252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veral HFN and/or LFN and/or low quantif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estig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thickness of smea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microscope: position condenser and diaphragm and remove filt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carbolfuchsin stain: dark, red, shiny when poured on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if AFB are well stained in fresh not restained pos. sme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staining procedure: sufficient time, he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methylene blue on known neg-atypical AFB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workload (overloa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all above fail to show cause; superficial reading may be the ca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roblem Identification and Solving (9)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DCA9B-6C37-4815-8D9F-AD4D637C27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roblem Identification and Solving (10)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7252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Serious Q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ible cau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or stain/stain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s with microscope, only few AFB in high positive smea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ck of quantification skil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estig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eck if AFB are well stained with carbol fuchsi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serve staining procedure: sufficient time, hea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k staff to quantify a few positiv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13006-E5C1-4C1E-9B32-062F2DFEED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88520" y="0"/>
            <a:ext cx="8915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Key Messages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99800" y="836280"/>
            <a:ext cx="9505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60520" y="907920"/>
            <a:ext cx="8915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orting and analysis of rechecking results can be done either manually or by means of the computerized tool (MS Excel based Workboo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orkbook is intended for use at the national and, eventually, also at the intermediat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erly filled in laboratory performance and rechecking reports (quarter / annual) provide a basis for the comprehensive analysis and evaluation of laboratory performan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r feedback to laboratories is very important for improving or maintaining motivation and 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A finding of poor performance has to be completed by a problem identification and solving visit. The problem and its cause(s) are rarely clear from rechecking as su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68CE2-54D7-4762-9ABA-F15FF72363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19000" y="-360"/>
            <a:ext cx="834408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Content Overview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15440" y="1844640"/>
            <a:ext cx="8915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ual compilation, analysis and interpretation of rechecking resul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 reporting, analysis and interpretation of rechecking resul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edback, problem identification and solv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268E5-9B52-416B-BB2F-035F592C1E7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EEDBACK, PROBLEM IDENTIFICATION AND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VING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9B702-9F4C-4E59-A7D8-8A8D757BDA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Feedback (1)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7252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gular feedback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spensabl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couragement and motiv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roving performance, if applica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criticism unless serious negligence/bad wi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Arial"/>
              </a:rPr>
              <a:t>Visit by TB supervis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Feedback; return of slides with serious erro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May identify possible causes of errors with checkli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May propose remedy, such as replacement of microsco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897B6-6B73-4DB1-ACF4-641AD644BA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Feedback (2)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7252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ff"/>
                </a:solidFill>
                <a:latin typeface="Arial"/>
              </a:rPr>
              <a:t>Identify priority centres for problem solv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Arial"/>
              </a:rPr>
              <a:t>Several HFP and/or HF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Arial"/>
              </a:rPr>
              <a:t>HFN and many LFN, or just many LF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Arial"/>
              </a:rPr>
              <a:t>Many LF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ff"/>
                </a:solidFill>
                <a:latin typeface="Arial"/>
              </a:rPr>
              <a:t>On-site visit by an expert for identification of causes and problem solv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E014D-F726-4A24-8BDF-77326A9697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8160" y="259920"/>
            <a:ext cx="941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Problem Identification and Solving (1)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72520" y="1781280"/>
            <a:ext cx="891540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case of unsatisfactory performance of microscopy cent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y possible cau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estig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ke appropriate ac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ider overall pattern of errors: (many) HFP, HFN, QE, combination of erro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630DE-DD6D-4D52-8CDF-352F37620C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7252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any (or almost all) HFP and HF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 cau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ck of train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usable microscop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mears not examin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stig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ine 3+ with that microscop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est staff to examine 2+, or 3+ and negative smear with good microscop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1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Problem Identification and Solving (2)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F132F-DFFA-4001-A6F7-713D78BFF3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7252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ccasional HF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 cau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ministrative err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ilure of controll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stig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are lab. register with rechecking list for correct number and resul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1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Problem Identification and Solving (3)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CCBD2-A36C-4538-9D94-29CFF9FEA4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7252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ew HFP, with/without LF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cau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ministrative err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ognition of AFB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systematic restai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ying positive result 1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mear to 2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/or 3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mear (workload?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estig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admin. procedures: use of lab register, sputum request form, labeling sputum contai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onsistent smear results: regular isolated + or scanty?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tain and re-examine HFP to exclude that fading caused confusion and that it is not true FP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1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Problem Identification and Solving (4)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06993-37C6-4A6D-984F-C9448A8300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5:29:20Z</dcterms:created>
  <dc:creator>ryszewskak</dc:creator>
  <dc:description/>
  <dc:language>en-US</dc:language>
  <cp:lastModifiedBy>Armand Van Deun</cp:lastModifiedBy>
  <cp:lastPrinted>2005-08-07T02:34:10Z</cp:lastPrinted>
  <dcterms:modified xsi:type="dcterms:W3CDTF">2009-05-15T13:58:08Z</dcterms:modified>
  <cp:revision>379</cp:revision>
  <dc:subject/>
  <dc:title>DOTS Directly Observed Treatment, Short-cour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