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360" y="0"/>
            <a:ext cx="3009960" cy="503280"/>
          </a:xfrm>
          <a:prstGeom prst="rect">
            <a:avLst/>
          </a:prstGeom>
          <a:noFill/>
          <a:ln w="0">
            <a:noFill/>
          </a:ln>
        </p:spPr>
        <p:txBody>
          <a:bodyPr lIns="94680" rIns="94680" tIns="47520" bIns="47520" anchor="t">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PlaceHolder 2"/>
          <p:cNvSpPr>
            <a:spLocks noGrp="1"/>
          </p:cNvSpPr>
          <p:nvPr>
            <p:ph type="dt" idx="9"/>
          </p:nvPr>
        </p:nvSpPr>
        <p:spPr>
          <a:xfrm>
            <a:off x="3935160" y="0"/>
            <a:ext cx="3009960" cy="503280"/>
          </a:xfrm>
          <a:prstGeom prst="rect">
            <a:avLst/>
          </a:prstGeom>
          <a:noFill/>
          <a:ln w="0">
            <a:noFill/>
          </a:ln>
        </p:spPr>
        <p:txBody>
          <a:bodyPr lIns="94680" rIns="94680" tIns="47520" bIns="47520" anchor="t">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3"/>
          <p:cNvSpPr>
            <a:spLocks noGrp="1"/>
          </p:cNvSpPr>
          <p:nvPr>
            <p:ph type="sldImg"/>
          </p:nvPr>
        </p:nvSpPr>
        <p:spPr>
          <a:xfrm>
            <a:off x="744120" y="75708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move the slide</a:t>
            </a:r>
            <a:endParaRPr b="1" i="1" lang="en-US" sz="4400" spc="-1" strike="noStrike">
              <a:solidFill>
                <a:srgbClr val="ffff00"/>
              </a:solidFill>
              <a:latin typeface="Arial"/>
            </a:endParaRPr>
          </a:p>
        </p:txBody>
      </p:sp>
      <p:sp>
        <p:nvSpPr>
          <p:cNvPr id="182" name="PlaceHolder 4"/>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10"/>
          </p:nvPr>
        </p:nvSpPr>
        <p:spPr>
          <a:xfrm>
            <a:off x="-360" y="9577440"/>
            <a:ext cx="3009960" cy="504720"/>
          </a:xfrm>
          <a:prstGeom prst="rect">
            <a:avLst/>
          </a:prstGeom>
          <a:noFill/>
          <a:ln w="0">
            <a:noFill/>
          </a:ln>
        </p:spPr>
        <p:txBody>
          <a:bodyPr lIns="94680" rIns="94680" tIns="47520" bIns="47520" anchor="b">
            <a:noAutofit/>
          </a:bodyPr>
          <a:lstStyle>
            <a:lvl1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84" name="PlaceHolder 6"/>
          <p:cNvSpPr>
            <a:spLocks noGrp="1"/>
          </p:cNvSpPr>
          <p:nvPr>
            <p:ph type="sldNum" idx="11"/>
          </p:nvPr>
        </p:nvSpPr>
        <p:spPr>
          <a:xfrm>
            <a:off x="3935160" y="9577440"/>
            <a:ext cx="3009960" cy="504720"/>
          </a:xfrm>
          <a:prstGeom prst="rect">
            <a:avLst/>
          </a:prstGeom>
          <a:noFill/>
          <a:ln w="0">
            <a:noFill/>
          </a:ln>
        </p:spPr>
        <p:txBody>
          <a:bodyPr lIns="94680" rIns="94680" tIns="47520" bIns="4752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DB35F28-186E-4AA3-9A34-29519731AF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743040" y="755640"/>
            <a:ext cx="5460840" cy="3781440"/>
          </a:xfrm>
          <a:prstGeom prst="rect">
            <a:avLst/>
          </a:prstGeom>
          <a:ln w="0">
            <a:noFill/>
          </a:ln>
        </p:spPr>
      </p:sp>
      <p:sp>
        <p:nvSpPr>
          <p:cNvPr id="231"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slide shows the staff input required for succesful rechecking, which are high. Stress that without excellent collaboration of all these people rechecking may be a waste of time. The supervisors collecting samples should be NTP general supervisors regularly visiting all TB centres, lab staff can better be used for other tasks. Also the intermadiate coordinator can better be a general TB programme officer. At national level, usually the coordination will be assured by the National Reference Laboratory. Stress the requirements to guide selection of the controllers. Note that this task requires sufficient time, so that high-level lab staff are usually not suitab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743040" y="755640"/>
            <a:ext cx="5460840" cy="3781440"/>
          </a:xfrm>
          <a:prstGeom prst="rect">
            <a:avLst/>
          </a:prstGeom>
          <a:ln w="0">
            <a:noFill/>
          </a:ln>
        </p:spPr>
      </p:sp>
      <p:sp>
        <p:nvSpPr>
          <p:cNvPr id="233"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t is important for good collaboration and slide identification that the labs have proper materials such as slide boxes and diamond pencils (unless frosted slides are used). Stress the requirements to guide selection of the controllers. Note that this task requires sufficient time, so that high-level lab staff are usually not suitable. A computer at intermediate level and staff knowing EXCEL is the idela for data storage, transmission and analysis, particularly in a large country. However, at intermediate level this can be done also manually, with computerization only at national leve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743040" y="755640"/>
            <a:ext cx="5460840" cy="3781440"/>
          </a:xfrm>
          <a:prstGeom prst="rect">
            <a:avLst/>
          </a:prstGeom>
          <a:ln w="0">
            <a:noFill/>
          </a:ln>
        </p:spPr>
      </p:sp>
      <p:sp>
        <p:nvSpPr>
          <p:cNvPr id="235"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ideally there is only one uniform sample size, but that sometimes the National Reference Laboratory/NTP management may decide to use more than one sample size of slides for rechecking. This may be decided in case of wide variation in the number of smears examined by the labs and/or wide variation in the percentage of positive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743040" y="755640"/>
            <a:ext cx="5460840" cy="3781440"/>
          </a:xfrm>
          <a:prstGeom prst="rect">
            <a:avLst/>
          </a:prstGeom>
          <a:ln w="0">
            <a:noFill/>
          </a:ln>
        </p:spPr>
      </p:sp>
      <p:sp>
        <p:nvSpPr>
          <p:cNvPr id="237"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Explain that the LQAS system is particularly suitable for this purpose since it allows to conclude if a pre-set level of quality is reached after checking a small sample from the routine work. But it does not result in accurate error rates per lab, so that comparisons of individual labs are only approximate. However, for all the labs of a larger area or country these rates will be accurate also and can be com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e sample sizes are determined at national level, not by the different administrative areas or supervisors, who do not need to know the details of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ustomisation: specify here the annual sample size or selection of sizes for your country, and how it should be divided over the year, with for instance a quarterly sample siz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743040" y="755640"/>
            <a:ext cx="5460840" cy="3781440"/>
          </a:xfrm>
          <a:prstGeom prst="rect">
            <a:avLst/>
          </a:prstGeom>
          <a:ln w="0">
            <a:noFill/>
          </a:ln>
        </p:spPr>
      </p:sp>
      <p:sp>
        <p:nvSpPr>
          <p:cNvPr id="239"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slide shows a comparison of sample sizes using the in the past frequently applied sampling of all positives +10% of negatives, versus LQAS samples sizes taken from the LQAS samplesize tables. Stress that LQAS samples are smaller except if positivity rates are very low or labs have very low workload. All three labs in this example have either high positivity rates (first one)or high workload (other two). Stress also that the samplesize required for labs with high workload can be very small with LQAS, and that more are not required to detect poor performance due to problems. However, with low positivity rates more slides need to be rechecked according to LQAS, and if also workload is low, the samples will represent a large proportion of total smears perform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743040" y="755640"/>
            <a:ext cx="5460840" cy="3781440"/>
          </a:xfrm>
          <a:prstGeom prst="rect">
            <a:avLst/>
          </a:prstGeom>
          <a:ln w="0">
            <a:noFill/>
          </a:ln>
        </p:spPr>
      </p:sp>
      <p:sp>
        <p:nvSpPr>
          <p:cNvPr id="241"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sampling is divided over the year, usually per quarter. If sampling is less or more frequent, or visits were missed, this has to be made up for by collecting the required number to reach total annual samplesize, i.e. by selecting more slides during the next vis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pecify on this slide the instruction concerning frequency and interval for your coun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743040" y="755640"/>
            <a:ext cx="5460840" cy="3781440"/>
          </a:xfrm>
          <a:prstGeom prst="rect">
            <a:avLst/>
          </a:prstGeom>
          <a:ln w="0">
            <a:noFill/>
          </a:ln>
        </p:spPr>
      </p:sp>
      <p:sp>
        <p:nvSpPr>
          <p:cNvPr id="221"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rechecking of samples of the routine work aims at identifying labs that may have problems, with the aim of solving them, and in that way improving the quality. It is too slow to correct diagnoses. It is complementary to internal quality control and can be used as a tool for targeted supervision, but it can not replace these two other components of the quality assurance system. Make it very clear that the aim is to support, but not to punish for errors that are sometimes unavoidable or that may be due to factors out of control of the techn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743040" y="755640"/>
            <a:ext cx="5460840" cy="3781440"/>
          </a:xfrm>
          <a:prstGeom prst="rect">
            <a:avLst/>
          </a:prstGeom>
          <a:ln w="0">
            <a:noFill/>
          </a:ln>
        </p:spPr>
      </p:sp>
      <p:sp>
        <p:nvSpPr>
          <p:cNvPr id="223"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slide explains the consequences of false positive or false negative results for the patient and the communit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743040" y="755640"/>
            <a:ext cx="5460840" cy="3781440"/>
          </a:xfrm>
          <a:prstGeom prst="rect">
            <a:avLst/>
          </a:prstGeom>
          <a:ln w="0">
            <a:noFill/>
          </a:ln>
        </p:spPr>
      </p:sp>
      <p:sp>
        <p:nvSpPr>
          <p:cNvPr id="225"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workload is proportional to the number of centres to be controlled and inversely proportional to the prevalence of positive smears in the laboratories. Thus the more labs a controller has to recheck and the lower the TB prevalence, the higher the workload. This is a strong argument against excessive decentraliz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743040" y="755640"/>
            <a:ext cx="5460840" cy="3781440"/>
          </a:xfrm>
          <a:prstGeom prst="rect">
            <a:avLst/>
          </a:prstGeom>
          <a:ln w="0">
            <a:noFill/>
          </a:ln>
        </p:spPr>
      </p:sp>
      <p:sp>
        <p:nvSpPr>
          <p:cNvPr id="227"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Explain the outline of the process. Stress that not all slides are checked by a second controller, but only those with a discordant result between peripheral lab and first controller. The results given by the second controller is considered as the correct one, so this controller has to be very rel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this is necessary since also first controllers make some mistakes, the result of the second controller will thus be used to define what is the error and who made it (peripheral lab or first controller). Till then, we can only speak of discordants and no feedback on errors can be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Giving all slides to a second controller again will overload this controller so that the results will not be more reliable and only add to confu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743040" y="755640"/>
            <a:ext cx="5460840" cy="3781440"/>
          </a:xfrm>
          <a:prstGeom prst="rect">
            <a:avLst/>
          </a:prstGeom>
          <a:ln w="0">
            <a:noFill/>
          </a:ln>
        </p:spPr>
      </p:sp>
      <p:sp>
        <p:nvSpPr>
          <p:cNvPr id="229"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slide shows the next part of the cycle of rechec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not all labs that have errors may perform below standard, so an in-depth analysis has to be made according to pre-set criteria to identify those which are more likely to do so (because there may be a problem with the microscope, stains or staining, reading etc..) Then a selection has to be made of the labs that need a problem-identification and –solving visit by an expert. These will be the labs with the poorest performance. The others with only slightly too many errors may not have a real problem, or only a minor one such as slightly superficial reading. These labs will be followed-up by further rechecking, and visits will be made only if the excessive number of errors persists. The aim of the visits must be to probe into the causes of the errors, and it should result in solving them so as to prevent further err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288608-3967-4EE4-B2FB-AF528BEFE9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68A3F80F-4566-4955-BFFA-55CF3B487A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5E65F318-95B8-4E88-BF07-0E2F48A708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4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804881FB-3F62-408E-915B-C50A123768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76F1E4C-DE05-4457-9FDF-5ADF5CF26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4"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B79ABF-5F9D-4501-93BC-9BA929412C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6"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D0FCC4-D832-45F9-994C-C661095B23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1A8260-ACBF-4D07-821E-D1912388B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41825D-923B-4F3F-AFD8-B8DD8CD774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ADE3743-BD18-4C02-861A-2FE965481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3"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40A2F3-E62A-421A-88F2-FCBD830E40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E7D85677-8037-4455-9AF7-C503367248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40406E-C0F5-465A-AD3B-B1586833C9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1"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FBA510-A993-48C2-853B-B56E91FBC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5"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DE726F-76CB-4FF7-A5C9-324B4AAC5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8"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7618CD5-652A-4720-BC42-43A2FA1C0FE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83"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CD7416A-F643-4673-9B67-2FFA51C608B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82AB553-76B8-4347-A9AC-366689B1FAB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5"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05B2869-74CA-4272-B834-E43C3425B8E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24E2A59-D334-40E1-B37E-4C9F7F87291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9"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983FB11-0B4B-4DD4-9604-F18FCA8686E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FB04B51-AF0D-426C-919E-65EB50F318A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4DB2717F-BA09-47DC-8941-EFD853B628B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F175018-7520-4867-A942-2E85F747CFB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4"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AFFA458-4D8F-41DB-8930-9A40AAD4B26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36389D0-E251-4BE5-AD15-02B1CE538EF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981F3EB-F9BA-4DB2-9E41-AA50637DA0F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6"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0BC0BF7-D3D8-46F6-9B74-85329E0A615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9"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CC32850-15C7-4037-BD4B-97E1562BBB4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24"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FBF6B99-F5D1-40E4-8450-483EDD1C98A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41279C2-CC61-4745-B605-A3C035007A8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550364DA-F603-478B-8CC1-AAA23CB155F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722F057A-63AF-4AAB-BBA7-9210E8EFCC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31895D93-CA27-464D-B60D-997BB1D9AED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3E25B748-FDE3-494B-83B1-9D845C3ED19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8"/>
          </p:nvPr>
        </p:nvSpPr>
        <p:spPr/>
        <p:txBody>
          <a:bodyPr/>
          <a:p>
            <a:fld id="{7C664DFE-7FAE-40FE-BA63-3FE617D05AE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8"/>
          </p:nvPr>
        </p:nvSpPr>
        <p:spPr/>
        <p:txBody>
          <a:bodyPr/>
          <a:p>
            <a:fld id="{5F993742-57B3-4E3C-A810-75C628F8758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A2066C74-7867-457A-A402-8C02BE41D86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F6157022-F422-49A0-A78F-5F8AC7971AE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861187D0-0A50-4185-9647-B20A50E8C7A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168DA843-8FDB-4F9F-B7AD-1E6383D8F40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8"/>
          </p:nvPr>
        </p:nvSpPr>
        <p:spPr/>
        <p:txBody>
          <a:bodyPr/>
          <a:p>
            <a:fld id="{678BCFC5-932F-406B-BF0A-E00B8B1DF1A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8"/>
          </p:nvPr>
        </p:nvSpPr>
        <p:spPr/>
        <p:txBody>
          <a:bodyPr/>
          <a:p>
            <a:fld id="{0F97A52C-4570-43D9-8CDB-837E8C2D50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1"/>
          </p:nvPr>
        </p:nvSpPr>
        <p:spPr/>
        <p:txBody>
          <a:bodyPr/>
          <a:p>
            <a:fld id="{D438E383-C3B4-47D9-AB96-50072AE7BF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C437111B-1338-439F-81D7-E786D9F0B9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D7D06CD3-1B6E-40AE-BA7C-3744F71FBF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D838FB0C-DFCE-415B-8F87-EF0F81E2E0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0DDB6D70-BB09-48A6-B475-7ECE45FB0D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 name="PlaceHolder 2"/>
          <p:cNvSpPr>
            <a:spLocks noGrp="1"/>
          </p:cNvSpPr>
          <p:nvPr>
            <p:ph type="sldNum" idx="1"/>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3950-1F21-437B-91B3-37D3A82D2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903960" cy="6850080"/>
            <a:chOff x="0" y="0"/>
            <a:chExt cx="9903960" cy="6850080"/>
          </a:xfrm>
        </p:grpSpPr>
        <p:grpSp>
          <p:nvGrpSpPr>
            <p:cNvPr id="3" name=""/>
            <p:cNvGrpSpPr/>
            <p:nvPr/>
          </p:nvGrpSpPr>
          <p:grpSpPr>
            <a:xfrm>
              <a:off x="2972160" y="3540240"/>
              <a:ext cx="6926400" cy="3309840"/>
              <a:chOff x="2972160" y="3540240"/>
              <a:chExt cx="6926400" cy="3309840"/>
            </a:xfrm>
          </p:grpSpPr>
          <p:sp>
            <p:nvSpPr>
              <p:cNvPr id="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2"/>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3"/>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5"/>
          <p:cNvSpPr>
            <a:spLocks noGrp="1"/>
          </p:cNvSpPr>
          <p:nvPr>
            <p:ph type="sldNum" idx="4"/>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7E39-7535-4C85-B830-2DA168DBD3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5"/>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2" name="PlaceHolder 4"/>
          <p:cNvSpPr>
            <a:spLocks noGrp="1"/>
          </p:cNvSpPr>
          <p:nvPr>
            <p:ph type="ftr" idx="6"/>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3" name="PlaceHolder 5"/>
          <p:cNvSpPr>
            <a:spLocks noGrp="1"/>
          </p:cNvSpPr>
          <p:nvPr>
            <p:ph type="sldNum" idx="7"/>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85F3-87F9-44E9-A6F2-324D0C1426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31" name="PlaceHolder 2"/>
          <p:cNvSpPr>
            <a:spLocks noGrp="1"/>
          </p:cNvSpPr>
          <p:nvPr>
            <p:ph type="sldNum" idx="8"/>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0A65-38F9-42E5-9A86-6A8A220FEDA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32" name=""/>
          <p:cNvGrpSpPr/>
          <p:nvPr/>
        </p:nvGrpSpPr>
        <p:grpSpPr>
          <a:xfrm>
            <a:off x="0" y="0"/>
            <a:ext cx="9903960" cy="6850080"/>
            <a:chOff x="0" y="0"/>
            <a:chExt cx="9903960" cy="6850080"/>
          </a:xfrm>
        </p:grpSpPr>
        <p:grpSp>
          <p:nvGrpSpPr>
            <p:cNvPr id="133" name=""/>
            <p:cNvGrpSpPr/>
            <p:nvPr/>
          </p:nvGrpSpPr>
          <p:grpSpPr>
            <a:xfrm>
              <a:off x="2972160" y="3540240"/>
              <a:ext cx="6926400" cy="3309840"/>
              <a:chOff x="2972160" y="3540240"/>
              <a:chExt cx="6926400" cy="3309840"/>
            </a:xfrm>
          </p:grpSpPr>
          <p:sp>
            <p:nvSpPr>
              <p:cNvPr id="13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60160" y="691920"/>
            <a:ext cx="8815320" cy="36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Module</a:t>
            </a:r>
            <a:r>
              <a:rPr b="1" lang="en-US" sz="5400" spc="-1" strike="noStrike">
                <a:solidFill>
                  <a:srgbClr val="ffff66"/>
                </a:solidFill>
                <a:latin typeface="Arial"/>
              </a:rPr>
              <a:t> </a:t>
            </a:r>
            <a:br>
              <a:rPr sz="5400"/>
            </a:br>
            <a:br>
              <a:rPr sz="4000"/>
            </a:br>
            <a:r>
              <a:rPr b="1" lang="en-US" sz="4000" spc="-1" strike="noStrike">
                <a:solidFill>
                  <a:srgbClr val="ffff66"/>
                </a:solidFill>
                <a:latin typeface="Arial"/>
              </a:rPr>
              <a:t> </a:t>
            </a:r>
            <a:r>
              <a:rPr b="1" lang="en-US" sz="4400" spc="-1" strike="noStrike">
                <a:solidFill>
                  <a:srgbClr val="ffff66"/>
                </a:solidFill>
                <a:latin typeface="Arial"/>
              </a:rPr>
              <a:t>BACKGROUND AND</a:t>
            </a:r>
            <a:r>
              <a:rPr b="1" lang="en-US" sz="4000" spc="-1" strike="noStrike">
                <a:solidFill>
                  <a:srgbClr val="ffff66"/>
                </a:solidFill>
                <a:latin typeface="Arial"/>
              </a:rPr>
              <a:t> </a:t>
            </a:r>
            <a:r>
              <a:rPr b="1" lang="en-US" sz="4400" spc="-1" strike="noStrike">
                <a:solidFill>
                  <a:srgbClr val="ffff66"/>
                </a:solidFill>
                <a:latin typeface="Arial"/>
              </a:rPr>
              <a:t>PRINCIPLES OF RECHECKING</a:t>
            </a:r>
            <a:endParaRPr b="1" i="1" lang="en-US" sz="4400" spc="-1" strike="noStrike">
              <a:solidFill>
                <a:srgbClr val="ffff00"/>
              </a:solidFill>
              <a:latin typeface="Arial"/>
            </a:endParaRPr>
          </a:p>
        </p:txBody>
      </p:sp>
      <p:sp>
        <p:nvSpPr>
          <p:cNvPr id="3" name="PlaceHolder 2"/>
          <p:cNvSpPr>
            <a:spLocks noGrp="1"/>
          </p:cNvSpPr>
          <p:nvPr>
            <p:ph type="sldNum" idx="1"/>
          </p:nvPr>
        </p:nvSpPr>
        <p:spPr/>
        <p:txBody>
          <a:bodyPr/>
          <a:p>
            <a:fld id="{54E34F73-7B08-432B-81AA-0FC6585BD8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Inputs For Rechecking (1)</a:t>
            </a:r>
            <a:endParaRPr b="1" i="1" lang="en-US" sz="4000" spc="-1" strike="noStrike">
              <a:solidFill>
                <a:srgbClr val="ffff00"/>
              </a:solidFill>
              <a:latin typeface="Arial"/>
            </a:endParaRPr>
          </a:p>
        </p:txBody>
      </p:sp>
      <p:sp>
        <p:nvSpPr>
          <p:cNvPr id="203"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sonnel</a:t>
            </a:r>
            <a:endParaRPr b="1" lang="en-US" sz="2800" spc="-1" strike="noStrike">
              <a:solidFill>
                <a:srgbClr val="ffffff"/>
              </a:solidFill>
              <a:latin typeface="Arial"/>
            </a:endParaRPr>
          </a:p>
          <a:p>
            <a:pPr lvl="1" marL="735480" indent="-28296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visors for sample collection and feedback</a:t>
            </a:r>
            <a:endParaRPr b="1" lang="en-US" sz="2400" spc="-1" strike="noStrike">
              <a:solidFill>
                <a:srgbClr val="ffffff"/>
              </a:solidFill>
              <a:latin typeface="Arial"/>
            </a:endParaRPr>
          </a:p>
          <a:p>
            <a:pPr lvl="1" marL="735480" indent="-28296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ecking coordinators at intermediate levels</a:t>
            </a:r>
            <a:endParaRPr b="1" lang="en-US" sz="2400" spc="-1" strike="noStrike">
              <a:solidFill>
                <a:srgbClr val="ffffff"/>
              </a:solidFill>
              <a:latin typeface="Arial"/>
            </a:endParaRPr>
          </a:p>
          <a:p>
            <a:pPr lvl="1" marL="735480" indent="-28296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level coordinator   </a:t>
            </a:r>
            <a:endParaRPr b="1" lang="en-US" sz="2400" spc="-1" strike="noStrike">
              <a:solidFill>
                <a:srgbClr val="ffffff"/>
              </a:solidFill>
              <a:latin typeface="Arial"/>
            </a:endParaRPr>
          </a:p>
          <a:p>
            <a:pPr lvl="1" marL="735480" indent="-28296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level controllers</a:t>
            </a:r>
            <a:endParaRPr b="1" lang="en-US" sz="24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ffffff"/>
                </a:solidFill>
                <a:latin typeface="Arial"/>
              </a:rPr>
              <a:t>Sufficient time</a:t>
            </a:r>
            <a:endParaRPr b="1" lang="en-US" sz="20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ivated</a:t>
            </a:r>
            <a:endParaRPr b="1" lang="en-US" sz="20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iority not required</a:t>
            </a:r>
            <a:endParaRPr b="1" lang="en-US" sz="2000" spc="-1" strike="noStrike">
              <a:solidFill>
                <a:srgbClr val="ffffff"/>
              </a:solidFill>
              <a:latin typeface="Arial"/>
            </a:endParaRPr>
          </a:p>
          <a:p>
            <a:pPr lvl="1" marL="735480" indent="-28296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level controllers</a:t>
            </a:r>
            <a:endParaRPr b="1" lang="en-US" sz="24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ienced, dedicated</a:t>
            </a:r>
            <a:endParaRPr b="1" lang="en-US" sz="20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fficient time</a:t>
            </a:r>
            <a:endParaRPr b="1" lang="en-US" sz="2000" spc="-1" strike="noStrike">
              <a:solidFill>
                <a:srgbClr val="ffffff"/>
              </a:solidFill>
              <a:latin typeface="Arial"/>
            </a:endParaRPr>
          </a:p>
          <a:p>
            <a:pPr lvl="2" marL="1131480" indent="-226080">
              <a:lnSpc>
                <a:spcPct val="90000"/>
              </a:lnSpc>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level qualifications/position not required</a:t>
            </a:r>
            <a:endParaRPr b="1" lang="en-US" sz="2000" spc="-1" strike="noStrike">
              <a:solidFill>
                <a:srgbClr val="ffffff"/>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B17CB124-79F9-4F1B-98DF-27261B0108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Inputs For Rechecking (2)</a:t>
            </a:r>
            <a:endParaRPr b="1" i="1" lang="en-US" sz="4000" spc="-1" strike="noStrike">
              <a:solidFill>
                <a:srgbClr val="ffff00"/>
              </a:solidFill>
              <a:latin typeface="Arial"/>
            </a:endParaRPr>
          </a:p>
        </p:txBody>
      </p:sp>
      <p:sp>
        <p:nvSpPr>
          <p:cNvPr id="20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erials and fund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scopy centre</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ide boxes, pencils/diamond markers </a:t>
            </a:r>
            <a:endParaRPr b="1" lang="en-US" sz="24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ervisors collecting the slides</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ide boxes, sampling forms, transport</a:t>
            </a:r>
            <a:endParaRPr b="1" lang="en-US" sz="24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ers</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a:t>
            </a:r>
            <a:r>
              <a:rPr b="1" lang="en-US" sz="2400" spc="-1" strike="noStrike">
                <a:solidFill>
                  <a:srgbClr val="ffffff"/>
                </a:solidFill>
                <a:latin typeface="Arial"/>
              </a:rPr>
              <a:t>, staining facilities/equipment, transport</a:t>
            </a:r>
            <a:endParaRPr b="1" lang="en-US" sz="24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B coordinators</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s, tools for analysis (computer), transport</a:t>
            </a:r>
            <a:endParaRPr b="1"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8D3C23E1-289C-46E0-9DCF-172B7BC58A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ample Size Concepts (1)</a:t>
            </a:r>
            <a:endParaRPr b="1" i="1" lang="en-US" sz="4000" spc="-1" strike="noStrike">
              <a:solidFill>
                <a:srgbClr val="ffff00"/>
              </a:solidFill>
              <a:latin typeface="Arial"/>
            </a:endParaRPr>
          </a:p>
        </p:txBody>
      </p:sp>
      <p:sp>
        <p:nvSpPr>
          <p:cNvPr id="20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ndom, representative selection of any slide, irrespective of result and type (diagnostic, follow-up)</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xed number of slides per laboratory per year</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ple size based on statistical system called Lot Quality Assurance Sampling (LQAS)</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3531D6CF-B141-4E72-AA59-05A9391247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ample Size Concepts (2)</a:t>
            </a:r>
            <a:endParaRPr b="1" i="1" lang="en-US" sz="4000" spc="-1" strike="noStrike">
              <a:solidFill>
                <a:srgbClr val="ffff00"/>
              </a:solidFill>
              <a:latin typeface="Arial"/>
            </a:endParaRPr>
          </a:p>
        </p:txBody>
      </p:sp>
      <p:sp>
        <p:nvSpPr>
          <p:cNvPr id="209"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QAS allows selection of the smallest possible sample for assurance of the quality of laboratorie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ple size is usually between 40 and 90 slides annually per lab</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1DE64E88-0927-42F8-A1FD-E09BB03395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ample Size Concepts (3)</a:t>
            </a:r>
            <a:endParaRPr b="1" i="1" lang="en-US" sz="4000" spc="-1" strike="noStrike">
              <a:solidFill>
                <a:srgbClr val="ffff00"/>
              </a:solidFill>
              <a:latin typeface="Arial"/>
            </a:endParaRPr>
          </a:p>
        </p:txBody>
      </p:sp>
      <p:sp>
        <p:nvSpPr>
          <p:cNvPr id="211"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false negative (FN) allowed in the sample is set at 0 (= no FN allowed)</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no FN: quality of the centre is acceptable</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gt;0 FN: not sure that quality of the centre is acceptable, further investigation needed</a:t>
            </a:r>
            <a:endParaRPr b="1" lang="en-US" sz="28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ear-cut false positive (FP, i.e. 1+, 2+, 3+) are also not allowed</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D1112404-6456-421B-9F15-557303A322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omparison of Sample Sizes:</a:t>
            </a:r>
            <a:br>
              <a:rPr sz="4000"/>
            </a:br>
            <a:r>
              <a:rPr b="1" lang="en-US" sz="4000" spc="-1" strike="noStrike">
                <a:solidFill>
                  <a:srgbClr val="ffff66"/>
                </a:solidFill>
                <a:latin typeface="Arial"/>
              </a:rPr>
              <a:t> New and Old Method</a:t>
            </a:r>
            <a:endParaRPr b="1" i="1" lang="en-US" sz="4000" spc="-1" strike="noStrike">
              <a:solidFill>
                <a:srgbClr val="ffff00"/>
              </a:solidFill>
              <a:latin typeface="Arial"/>
            </a:endParaRPr>
          </a:p>
        </p:txBody>
      </p:sp>
      <p:sp>
        <p:nvSpPr>
          <p:cNvPr id="213" name="PlaceHolder 2"/>
          <p:cNvSpPr>
            <a:spLocks noGrp="1"/>
          </p:cNvSpPr>
          <p:nvPr>
            <p:ph/>
          </p:nvPr>
        </p:nvSpPr>
        <p:spPr>
          <a:xfrm>
            <a:off x="272520" y="1628280"/>
            <a:ext cx="8915400" cy="218628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ed with old rechecking method- all positives and 10% of negatives- the sample size of LQAS method is much smaller</a:t>
            </a:r>
            <a:endParaRPr b="1" lang="en-US" sz="2800" spc="-1" strike="noStrike">
              <a:solidFill>
                <a:srgbClr val="ffffff"/>
              </a:solidFill>
              <a:latin typeface="Arial"/>
            </a:endParaRPr>
          </a:p>
        </p:txBody>
      </p:sp>
      <p:graphicFrame>
        <p:nvGraphicFramePr>
          <p:cNvPr id="214" name=""/>
          <p:cNvGraphicFramePr/>
          <p:nvPr/>
        </p:nvGraphicFramePr>
        <p:xfrm>
          <a:off x="200160" y="3573360"/>
          <a:ext cx="9577080" cy="1974960"/>
        </p:xfrm>
        <a:graphic>
          <a:graphicData uri="http://schemas.openxmlformats.org/presentationml/2006/ole">
            <p:oleObj progId="Word.Document.12" r:id="rId1" spid="">
              <p:embed/>
              <p:pic>
                <p:nvPicPr>
                  <p:cNvPr id="215" name="" descr=""/>
                  <p:cNvPicPr/>
                  <p:nvPr/>
                </p:nvPicPr>
                <p:blipFill>
                  <a:blip r:embed="rId2"/>
                  <a:stretch/>
                </p:blipFill>
                <p:spPr>
                  <a:xfrm>
                    <a:off x="200160" y="3573360"/>
                    <a:ext cx="9577080" cy="1974960"/>
                  </a:xfrm>
                  <a:prstGeom prst="rect">
                    <a:avLst/>
                  </a:prstGeom>
                  <a:ln w="0">
                    <a:noFill/>
                  </a:ln>
                </p:spPr>
              </p:pic>
            </p:oleObj>
          </a:graphicData>
        </a:graphic>
      </p:graphicFrame>
      <p:sp>
        <p:nvSpPr>
          <p:cNvPr id="4" name="PlaceHolder 3"/>
          <p:cNvSpPr>
            <a:spLocks noGrp="1"/>
          </p:cNvSpPr>
          <p:nvPr>
            <p:ph type="sldNum" idx="1"/>
          </p:nvPr>
        </p:nvSpPr>
        <p:spPr/>
        <p:txBody>
          <a:bodyPr/>
          <a:p>
            <a:fld id="{33A1A295-1E7E-4BC5-BB97-91E21FDE36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ample Collection</a:t>
            </a:r>
            <a:endParaRPr b="1" i="1" lang="en-US" sz="4000" spc="-1" strike="noStrike">
              <a:solidFill>
                <a:srgbClr val="ffff00"/>
              </a:solidFill>
              <a:latin typeface="Arial"/>
            </a:endParaRPr>
          </a:p>
        </p:txBody>
      </p:sp>
      <p:sp>
        <p:nvSpPr>
          <p:cNvPr id="21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ually quarterly</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y be more or less frequent</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vision of annual sample by interval period</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sure that total sample has been selected </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C6D80823-E4F0-42C6-B961-42F4733C2A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Key Messages</a:t>
            </a:r>
            <a:endParaRPr b="1" i="1" lang="en-US" sz="4000" spc="-1" strike="noStrike">
              <a:solidFill>
                <a:srgbClr val="ffff00"/>
              </a:solidFill>
              <a:latin typeface="Arial"/>
            </a:endParaRPr>
          </a:p>
        </p:txBody>
      </p:sp>
      <p:sp>
        <p:nvSpPr>
          <p:cNvPr id="219"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rpose of rechecking is to screen for possible problems in AFB microscopy based on a sample of smears examined in routine work</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Clear errors found may still be due to chance, but may also indicate problems; further investigations are needed only for those laboratories</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ample of routine slides should be as small as possible, representative and random</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hecking requires a substantial investment of financial, material and human resources</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63020F06-C4F9-4C9C-8812-1A85AFB396A2}"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19000" y="-360"/>
            <a:ext cx="834408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ontent Overview</a:t>
            </a:r>
            <a:endParaRPr b="1" i="1" lang="en-US" sz="4000" spc="-1" strike="noStrike">
              <a:solidFill>
                <a:srgbClr val="ffff00"/>
              </a:solidFill>
              <a:latin typeface="Arial"/>
            </a:endParaRPr>
          </a:p>
        </p:txBody>
      </p:sp>
      <p:sp>
        <p:nvSpPr>
          <p:cNvPr id="187" name="PlaceHolder 2"/>
          <p:cNvSpPr>
            <a:spLocks noGrp="1"/>
          </p:cNvSpPr>
          <p:nvPr>
            <p:ph/>
          </p:nvPr>
        </p:nvSpPr>
        <p:spPr>
          <a:xfrm>
            <a:off x="704880" y="1699920"/>
            <a:ext cx="8028000" cy="259236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 of rechecking</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of rechecking</a:t>
            </a:r>
            <a:endParaRPr b="1" lang="en-US" sz="3200" spc="-1" strike="noStrike">
              <a:solidFill>
                <a:srgbClr val="ffffff"/>
              </a:solidFill>
              <a:latin typeface="Arial"/>
            </a:endParaRPr>
          </a:p>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A8CE1E8E-13F2-491E-87EF-1D3F90227F3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Background Of Rechecking (1)</a:t>
            </a:r>
            <a:endParaRPr b="1" i="1" lang="en-US" sz="4000" spc="-1" strike="noStrike">
              <a:solidFill>
                <a:srgbClr val="ffff00"/>
              </a:solidFill>
              <a:latin typeface="Arial"/>
            </a:endParaRPr>
          </a:p>
        </p:txBody>
      </p:sp>
      <p:sp>
        <p:nvSpPr>
          <p:cNvPr id="189"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rpose of rechecking</a:t>
            </a:r>
            <a:endParaRPr b="1" lang="en-US" sz="32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reening for possible problems of AFB microscopy in sample of smears examined in routine work</a:t>
            </a:r>
            <a:endParaRPr b="1" lang="en-US" sz="28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im of rechecking</a:t>
            </a:r>
            <a:endParaRPr b="1" lang="en-US" sz="32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roving quality of AFB microscopy</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correction of diagnoses</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substitute for internal quality control</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substitute for regular supervision</a:t>
            </a:r>
            <a:endParaRPr b="1"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90FA4AEE-D676-4E3E-B5F2-67EC7361B2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High Quality AFB Microscopy</a:t>
            </a:r>
            <a:endParaRPr b="1" i="1" lang="en-US" sz="4000" spc="-1" strike="noStrike">
              <a:solidFill>
                <a:srgbClr val="ffff00"/>
              </a:solidFill>
              <a:latin typeface="Arial"/>
            </a:endParaRPr>
          </a:p>
        </p:txBody>
      </p:sp>
      <p:sp>
        <p:nvSpPr>
          <p:cNvPr id="191"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sential for proper patient management</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ssed diagnosis of AFB-pos. patient (false negative=FN) or delayed diagnosis: death or advanced, disabling, disease </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rect diagnosis as AFB-pos. (false positive=FP): drug side effects, social and economic consequences  </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0434D6AE-A280-45D5-B36B-5B45EE525B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Rechecking Merits</a:t>
            </a:r>
            <a:endParaRPr b="1" i="1" lang="en-US" sz="4000" spc="-1" strike="noStrike">
              <a:solidFill>
                <a:srgbClr val="ffff00"/>
              </a:solidFill>
              <a:latin typeface="Arial"/>
            </a:endParaRPr>
          </a:p>
        </p:txBody>
      </p:sp>
      <p:sp>
        <p:nvSpPr>
          <p:cNvPr id="193"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 shows what happens in practice</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 be highly motivating if done correctly</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2844244E-071C-40A0-97C2-49E095954A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Rechecking Disadvantages</a:t>
            </a:r>
            <a:endParaRPr b="1" i="1" lang="en-US" sz="4000" spc="-1" strike="noStrike">
              <a:solidFill>
                <a:srgbClr val="ffff00"/>
              </a:solidFill>
              <a:latin typeface="Arial"/>
            </a:endParaRPr>
          </a:p>
        </p:txBody>
      </p:sp>
      <p:sp>
        <p:nvSpPr>
          <p:cNvPr id="19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kload, especially for intermediate and central level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ossible in highly decentralized microscopy service or very low TB prevalence</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3F97CFC5-D3A7-433F-85B9-FE76F510C8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Principles Of Rechecking (1)</a:t>
            </a:r>
            <a:endParaRPr b="1" i="1" lang="en-US" sz="4400" spc="-1" strike="noStrike">
              <a:solidFill>
                <a:srgbClr val="ffff00"/>
              </a:solidFill>
              <a:latin typeface="Arial"/>
            </a:endParaRPr>
          </a:p>
        </p:txBody>
      </p:sp>
      <p:sp>
        <p:nvSpPr>
          <p:cNvPr id="19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ndom, representative, sample of slides from each laboratory is rechecked</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hecking is blind: rechecker (=first controller) does not know results of the laboratory</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rdant slides (pos. at laboratory and neg. by rechecker, or the reverse) are rechecked by second controller (gold standard)</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rors assigned to laboratory or first controller</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C1153A83-1179-4958-9AC1-8AEEF0FEB4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Principles Of Rechecking (2)</a:t>
            </a:r>
            <a:endParaRPr b="1" i="1" lang="en-US" sz="4000" spc="-1" strike="noStrike">
              <a:solidFill>
                <a:srgbClr val="ffff00"/>
              </a:solidFill>
              <a:latin typeface="Arial"/>
            </a:endParaRPr>
          </a:p>
        </p:txBody>
      </p:sp>
      <p:sp>
        <p:nvSpPr>
          <p:cNvPr id="199"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alysis to identify centers that may perform below standard</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s needs to be confirmed by further checks and on-site visit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dentification of possible sources of errors and need for remedial action </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AD138CAE-AECD-42EF-A7C7-A437EEFEA6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Prerequisites For Rechecking</a:t>
            </a:r>
            <a:endParaRPr b="1" i="1" lang="en-US" sz="4000" spc="-1" strike="noStrike">
              <a:solidFill>
                <a:srgbClr val="ffff00"/>
              </a:solidFill>
              <a:latin typeface="Arial"/>
            </a:endParaRPr>
          </a:p>
        </p:txBody>
      </p:sp>
      <p:sp>
        <p:nvSpPr>
          <p:cNvPr id="201"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well functional TB programme</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gular supervision</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ly functional TB laboratory network, particularly at intermediate level</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sibility for corrective action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tional) resources: personnel, materials, funds</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BECED6B0-4419-49DF-B59E-CD2C387AB8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15:29:20Z</dcterms:created>
  <dc:creator>ryszewskak</dc:creator>
  <dc:description/>
  <dc:language>en-US</dc:language>
  <cp:lastModifiedBy>Armand Van Deun</cp:lastModifiedBy>
  <cp:lastPrinted>2005-08-07T02:34:10Z</cp:lastPrinted>
  <dcterms:modified xsi:type="dcterms:W3CDTF">2009-05-13T14:03:25Z</dcterms:modified>
  <cp:revision>389</cp:revision>
  <dc:subject/>
  <dc:title>DOTS Directly Observed Treatment, Short-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