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42680" y="755640"/>
            <a:ext cx="5460840" cy="378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6640" y="4789440"/>
            <a:ext cx="509292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osition of smears to direct sun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 labeling on bottles with re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nger of mislabeling (containers on the photo demonstrate no labeling); non-observation of safety precautions (several sputum containers already open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0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6640" y="4789440"/>
            <a:ext cx="509292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re is no such result 10/100; there should be 1+ inst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eated uniformity of results (1+ and 1+; 2+ and 2+; 5/100 and 5/100) – falsification possible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0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6640" y="4789440"/>
            <a:ext cx="509292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1 -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der-decoloriz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2 -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rt with crysta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0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6640" y="4789440"/>
            <a:ext cx="509292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1 – Too th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2 – Too big / unev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3 – Under decoloriz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#4 – Too thin / unev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rs on window – the window can not be properly open for ventil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appropriate storage of sme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fety issues: food in the labor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fety issues: glo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roper labeling of specim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roper application of immersion oil - conta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743040" y="755640"/>
            <a:ext cx="5460840" cy="3781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5160" y="4789440"/>
            <a:ext cx="5556240" cy="453888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technician holds microscope incorrect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B76B-A8A1-4415-99FE-D7906F162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080" y="405468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DE68-A653-47D7-9D2F-81ADCA1D1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40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824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2B15-A33B-4238-A75F-B36B404EB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28720" y="16905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43360" y="16905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4080" y="40546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28720" y="40546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43360" y="40546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4DED-DB9A-45D2-9E81-A730F086E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E184-1250-4D0A-93E6-BA095DADF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14080" y="16905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EC83-D826-43D4-9DEC-C831857476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8C9D-A82D-4DF3-B1B8-30E83FE3A1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3BFB-D4D4-41BD-B5AC-F0A75068B1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95AA-4479-4D96-BF92-F9AAF2DCBB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CE49-8A92-4BB7-92E2-D1F97EAB16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0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65E8-A612-490B-B313-032A088E8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4080" y="16905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D5AE-2362-408A-8F79-125517288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824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B4EB-F2B2-450C-98C0-EEB3E20A40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405468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2C56-E447-4E24-AF80-4AB05A72A7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080" y="405468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A8E7-4066-4149-9BDD-0FC4E5CA1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40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824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4B53-4A15-4170-A140-105D27F06E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8720" y="16905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43360" y="16905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4080" y="40546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8720" y="40546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43360" y="40546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A13C-E4AB-4467-B995-6E14993B2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DB88-AEA8-4352-80A2-3323B53C8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F0DA-3583-40F2-8174-D67B645EC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8128-9487-4FDF-9FB7-16B2979D2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DD75-D495-42B5-B4B6-2A313E694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259A-9302-48F6-9F28-12B10A534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82480" y="40546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7202-F94B-4972-B86C-98AA9FF5D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16905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405468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FB9D-A368-4912-8BF0-79211B6E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080" y="169056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727-815E-4E44-8424-8D51A0543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3960" cy="6850080"/>
            <a:chOff x="0" y="0"/>
            <a:chExt cx="99039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972160" y="3540240"/>
              <a:ext cx="6926400" cy="3309840"/>
              <a:chOff x="2972160" y="3540240"/>
              <a:chExt cx="692640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972160" y="4197240"/>
                <a:ext cx="495720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172640" y="4240080"/>
                <a:ext cx="216504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87800" y="5311800"/>
                <a:ext cx="490032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726440" y="3540240"/>
                <a:ext cx="517212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741800" y="3678120"/>
                <a:ext cx="214632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713920" y="2128680"/>
              <a:ext cx="313920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9039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5B27-E738-4ED0-8319-FC80205B7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903960" cy="6850080"/>
            <a:chOff x="0" y="0"/>
            <a:chExt cx="9903960" cy="6850080"/>
          </a:xfrm>
        </p:grpSpPr>
        <p:grpSp>
          <p:nvGrpSpPr>
            <p:cNvPr id="50" name=""/>
            <p:cNvGrpSpPr/>
            <p:nvPr/>
          </p:nvGrpSpPr>
          <p:grpSpPr>
            <a:xfrm>
              <a:off x="2972160" y="3540240"/>
              <a:ext cx="6926400" cy="3309840"/>
              <a:chOff x="2972160" y="3540240"/>
              <a:chExt cx="6926400" cy="3309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72160" y="4197240"/>
                <a:ext cx="495720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2640" y="4240080"/>
                <a:ext cx="216504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87800" y="5311800"/>
                <a:ext cx="490032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26440" y="3540240"/>
                <a:ext cx="517212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741800" y="3678120"/>
                <a:ext cx="214632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713920" y="2128680"/>
              <a:ext cx="313920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99039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88840" y="2717640"/>
            <a:ext cx="8420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roup exercise: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SITE OBSERV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97160" y="849240"/>
            <a:ext cx="754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-SITE SUPERVISION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1BB2-0610-46E7-AD24-CD876CC5E8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7797-FD45-4C61-9546-B1202387FF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9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6703-4E0D-4C23-A935-1BBB604A9CD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10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1219320"/>
            <a:ext cx="7346880" cy="50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B78B-19E5-445C-9D4E-377A553B3A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37584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1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420840"/>
            <a:ext cx="4017960" cy="624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00200" y="3022560"/>
            <a:ext cx="3187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boratory Regis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D4AF-78C1-44E0-9552-2C1549D3BF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9200" y="2022480"/>
            <a:ext cx="2757600" cy="2757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50000" y="2063880"/>
            <a:ext cx="2647800" cy="264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30400" y="490680"/>
            <a:ext cx="741672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1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36760" y="5232240"/>
            <a:ext cx="5372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copic observation of smea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978440"/>
            <a:ext cx="72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45320" y="4927680"/>
            <a:ext cx="72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5B6A-7A90-4AE3-A761-BBAE670986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74293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1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9360" y="1366920"/>
            <a:ext cx="3814560" cy="155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37080" y="1353960"/>
            <a:ext cx="3640320" cy="15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01640" y="4024440"/>
            <a:ext cx="3727440" cy="15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529240" y="4086360"/>
            <a:ext cx="3608280" cy="150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22440" y="3035160"/>
            <a:ext cx="72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55160" y="3073320"/>
            <a:ext cx="72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1360" y="5676840"/>
            <a:ext cx="72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69280" y="5626080"/>
            <a:ext cx="72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3327480"/>
            <a:ext cx="6730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copic observation of sm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7964-0850-4AC5-8878-72EEBDDFC1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9880" y="914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sks for the group exercise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0200" y="2553840"/>
            <a:ext cx="8127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the pho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 what deficiencies can be notic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uggest corrective 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4E82-F08A-4319-8751-59F994E6D72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DBB3-292E-4E21-A0E5-578D7372AF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93680" y="2379600"/>
            <a:ext cx="381816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86320" y="2427120"/>
            <a:ext cx="369108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1633-099D-47BB-B2F7-EF58A56336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D9DA-4C0B-4B95-A428-C27B9D31B8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8277-8E5E-4C1E-8FB2-40BF73BE22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5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B9C2-9600-47FE-9237-37F2210804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6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56F7-1D48-43C0-87AF-A40A8958C8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lide #7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03520" y="1690560"/>
            <a:ext cx="6535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26F7-DB0E-4F76-A6BA-504880D0F6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12:28:10Z</dcterms:created>
  <dc:creator>CDC</dc:creator>
  <dc:description/>
  <cp:keywords/>
  <dc:language>en-US</dc:language>
  <cp:lastModifiedBy>Armand Van Deun</cp:lastModifiedBy>
  <cp:lastPrinted>1998-10-13T18:08:14Z</cp:lastPrinted>
  <dcterms:modified xsi:type="dcterms:W3CDTF">2009-05-18T07:23:12Z</dcterms:modified>
  <cp:revision>227</cp:revision>
  <dc:subject/>
  <dc:title>TB Susceptibility</dc:title>
</cp:coreProperties>
</file>