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360" y="0"/>
            <a:ext cx="3009960" cy="50328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9"/>
          </p:nvPr>
        </p:nvSpPr>
        <p:spPr>
          <a:xfrm>
            <a:off x="3935160" y="0"/>
            <a:ext cx="3009960" cy="50328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44120" y="75708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82" name="PlaceHolder 4"/>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360" y="9577440"/>
            <a:ext cx="3009960" cy="50472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11"/>
          </p:nvPr>
        </p:nvSpPr>
        <p:spPr>
          <a:xfrm>
            <a:off x="3935160" y="9577440"/>
            <a:ext cx="3009960" cy="50472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0481144-1ACD-4F0A-80D4-8FFB0EBB00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744480" y="757080"/>
            <a:ext cx="5459400" cy="3780000"/>
          </a:xfrm>
          <a:prstGeom prst="rect">
            <a:avLst/>
          </a:prstGeom>
          <a:ln w="0">
            <a:noFill/>
          </a:ln>
        </p:spPr>
      </p:sp>
      <p:sp>
        <p:nvSpPr>
          <p:cNvPr id="228"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supervisors should make sure that technicians verify that containers are properly labeled with patient identification on the side of the container, not on the 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ervisor should make sure that new slides are used for AFB microcopy and they are cleaned prior to use if greasy, labeled with laboratory code, serial number and sequence ident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improper (confusing) labeling of smears may cause administrative errors and make accurate rechecking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the supervisor should make sure that when preparing smears the wire loop is sterilized by flaming after every smear or a new wooden stick is used to prepare each sm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smears should be completely air dried prior to fixing and then heat fixed by passing 3-5 times through flam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744480" y="757080"/>
            <a:ext cx="5459400" cy="3780000"/>
          </a:xfrm>
          <a:prstGeom prst="rect">
            <a:avLst/>
          </a:prstGeom>
          <a:ln w="0">
            <a:noFill/>
          </a:ln>
        </p:spPr>
      </p:sp>
      <p:sp>
        <p:nvSpPr>
          <p:cNvPr id="230"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that supervisors should check smears macroscopically to ensure that  their thickness is appropriate (not many too thick or too thin smears); that the size of smears is correct (not many very large or very small smears). The color of ZN smears should be only light blue and should not demonstrate much red col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that supervisors should examine recent positive smears, using the centre’s microscope to ensure that the microscope is properly functioning, that the image is bright and AFB are clearly seen. ZN stained AFB should have strong red color and completely stained. Smears should have only few or none red dots, cryst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supervisor should make sure that carbolfuchsin or auramine stain is always filtered before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staining procedure the supervisor should observe th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s are stained with hot, steaming carbol fuchsin for 10 minutes, more is OK but 5 is the minimum. For auramine, staining is cold during 15 to 30 minutes, not more or l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 is not permitted to dry on the sli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s are decolorized for 3 minutes, repeat decolorization is performed only when needed, slides are not over-decoloriz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s are counterstained with methylene blue or permanganate for 1 minute maximum, less is O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smear examination the supervisor should observe that microscopist takes at least 5 minutes (and examines 100 fields) to report a negative smear for ZN smears, or 1-2 minutes for auraine smears in FM. The technician should wipe the oil immersion objective at end of every day. The supervisor should make sure that the results are consistent with NTP recommendations for grading and reporting.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744480" y="757080"/>
            <a:ext cx="5459400" cy="3780000"/>
          </a:xfrm>
          <a:prstGeom prst="rect">
            <a:avLst/>
          </a:prstGeom>
          <a:ln w="0">
            <a:noFill/>
          </a:ln>
        </p:spPr>
      </p:sp>
      <p:sp>
        <p:nvSpPr>
          <p:cNvPr id="232"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supervisor should check records and bottles for stain preparation (if  stains are prepared). If no evidence (labels, records) can be provided, probably there are no controls done. Positive as well as negative controls should be tested with each batch; negatives should be repeatedly stained: positive control should give strong red AFB after 1 cycle; negatives should stay without AFB after repeated cycles (it means no contaminants in methylene blue or other st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supervisor should also observe availability of sufficient quantity of control slides – absence of unstained control smears may indicate absence of QC practic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744480" y="757080"/>
            <a:ext cx="5459400" cy="3780000"/>
          </a:xfrm>
          <a:prstGeom prst="rect">
            <a:avLst/>
          </a:prstGeom>
          <a:ln w="0">
            <a:noFill/>
          </a:ln>
        </p:spPr>
      </p:sp>
      <p:sp>
        <p:nvSpPr>
          <p:cNvPr id="234"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the supervisor should make sure that ALL slides are kept in slide boxes for rechecking – the supervisor was able to retrieve all slides identified from the laboratory register for EQA. Slides should not be separated as positives and negatives. Slides should not have the results written on them. Slides should be cleaned before storage and be stored in boxes so that oil can drain without touching or contaminating othe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e supervisor should also examine the internal documentation of EQA programs. Absence of EQA feedback reports may probably indicate absence of EQA blinded rechecking and/or panel testing activities. It is necessary to note that rechecking is not so effective without feedback and regularity. The supervisor may then check whether results are available at the controlling laboratory. The supervisor should examine EQA results for their plausibility. The supervisor should make sure that sample of smears are not taken by technicians themselves, that rechecking was really blind, that the second control was done on discordances. The supervisor should also pay attention to the number and type of errors made by controllers. If the rechecking was not blinded, or if controllers made too many errors results can be disregard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744480" y="757080"/>
            <a:ext cx="5459400" cy="3780000"/>
          </a:xfrm>
          <a:prstGeom prst="rect">
            <a:avLst/>
          </a:prstGeom>
          <a:ln w="0">
            <a:noFill/>
          </a:ln>
        </p:spPr>
      </p:sp>
      <p:sp>
        <p:nvSpPr>
          <p:cNvPr id="212"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in order to ensure that on-site supervisions are carried out in a consistent and in a structured way, NTP should develop standard check-lists to assist both laboratory and TB supervisors during their field visits. Checklists are the instrument that helps improve efficiency of on-site supervision and provide the means for reporting back to both laboratory staff and NTP.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935160" y="9577440"/>
            <a:ext cx="3009960" cy="504720"/>
          </a:xfrm>
          <a:prstGeom prst="rect">
            <a:avLst/>
          </a:prstGeom>
          <a:noFill/>
          <a:ln w="0">
            <a:noFill/>
          </a:ln>
        </p:spPr>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D130AE2-EA4E-487F-A4A0-F6756CBB90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9577440"/>
            <a:ext cx="3009960" cy="504720"/>
          </a:xfrm>
          <a:prstGeom prst="rect">
            <a:avLst/>
          </a:prstGeom>
          <a:noFill/>
          <a:ln w="0">
            <a:noFill/>
          </a:ln>
        </p:spPr>
        <p:txBody>
          <a:bodyPr lIns="94680" rIns="94680" tIns="47520" bIns="47520" anchor="b">
            <a:noAutofit/>
          </a:bodyPr>
          <a:p>
            <a:pP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PlaceHolder 1"/>
          <p:cNvSpPr>
            <a:spLocks noGrp="1"/>
          </p:cNvSpPr>
          <p:nvPr>
            <p:ph type="sldImg"/>
          </p:nvPr>
        </p:nvSpPr>
        <p:spPr>
          <a:xfrm>
            <a:off x="743040" y="755640"/>
            <a:ext cx="5460840" cy="3780000"/>
          </a:xfrm>
          <a:prstGeom prst="rect">
            <a:avLst/>
          </a:prstGeom>
          <a:ln w="0">
            <a:noFill/>
          </a:ln>
        </p:spPr>
      </p:sp>
      <p:sp>
        <p:nvSpPr>
          <p:cNvPr id="216" name="PlaceHolder 2"/>
          <p:cNvSpPr>
            <a:spLocks noGrp="1"/>
          </p:cNvSpPr>
          <p:nvPr>
            <p:ph type="body"/>
          </p:nvPr>
        </p:nvSpPr>
        <p:spPr>
          <a:xfrm>
            <a:off x="926640" y="4789440"/>
            <a:ext cx="509292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checklists is not a static document. Comprehensive checklists may be very useful at initial stages, but as experience is gained there will be recognition of frequent problem areas. The laboratory program should then focus on reviewing those areas where problems are frequently found, and condense the checklist into key questions and observations through country experience. So, the program should think about checklists as an instrument that can undergo evolutionary changes with time, when nee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744480" y="757080"/>
            <a:ext cx="5459400" cy="3780000"/>
          </a:xfrm>
          <a:prstGeom prst="rect">
            <a:avLst/>
          </a:prstGeom>
          <a:ln w="0">
            <a:noFill/>
          </a:ln>
        </p:spPr>
      </p:sp>
      <p:sp>
        <p:nvSpPr>
          <p:cNvPr id="218"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supervisors should assess the laboratory general set-up. It should include checking of space, ventilation, presence of running water, electric power supply, safety practices. The supervisor should check if the laboratory uses an NTP approved disinfectant active against TB, if an adequate supply of this disinfectant is available. The supervisor should make sure that the laboratory is clean and has proper waste disposal practices. Biohazard waste bins must have lids. Used containers should be burned or properly buried and never be reused. If slides are reused, they should be properly disinfected and cleaned and never reused for AFB microscopy. If the laboratory uses wire loops for smearing, a sand bucket with ethanol must be available to clean wire loops prior to flam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744480" y="757080"/>
            <a:ext cx="5459400" cy="3780000"/>
          </a:xfrm>
          <a:prstGeom prst="rect">
            <a:avLst/>
          </a:prstGeom>
          <a:ln w="0">
            <a:noFill/>
          </a:ln>
        </p:spPr>
      </p:sp>
      <p:sp>
        <p:nvSpPr>
          <p:cNvPr id="220"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the microscope should be binocular, with good 100x immersion objective, good light and mechanical stage. Availability of a fluorescent microscope is justified if workload exceeds 25 smears da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number of microscopes should be sufficient - too few microscopes may lead to unreliable results, the same time if there are too many microscopes they may spoil or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there should be at least 1 spare bulb and be protected against dust as well as against humidity if humidity is over 70% part of the year. The supervisor should check if silicagel against humidity is regenerated, rice/salt is rene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if stains are prepared at the laboratory, the supervisor should check availability of a measuring cylinder, glassware, balance. For stains preparation purified water is an absolute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the supervisor should check qualifications, training status of personnel. Laboratory technicians must have at least basic technician training plus working experience or NTP training. The supervisor should also check whether number of staff is sufficient to the existing workloa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744480" y="757080"/>
            <a:ext cx="5459400" cy="3780000"/>
          </a:xfrm>
          <a:prstGeom prst="rect">
            <a:avLst/>
          </a:prstGeom>
          <a:ln w="0">
            <a:noFill/>
          </a:ln>
        </p:spPr>
      </p:sp>
      <p:sp>
        <p:nvSpPr>
          <p:cNvPr id="222"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supervisors should make sure that all staining reagents are available and are within the expiration dates, that stains are protected from sunlight (stored in brown bottles), all bottles and fluids are well clo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supplies and consumables quantity in relation to smears processed per month should be roughly estimated. The required quantity of sputum containers and slides is 1100 per 1000 smears examined. The number of slide boxes should be sufficient to keep all slides of a sampling period (quarter?), or 500 slides at a minimum. Adequate quantities should be available for 3-6 months. If properly prepared ZN staining solutions can be stored for 2 years (not more), or during 12 months at least. Auramine stock solution may be kept safely for at least 6 months, working solution for not more than one or two months, and always in the dark. There should be at least 3L of carbolfuchsin or methylene blue and 6L acid solution per 1000 smears. Immersion oil must have acceptable viscosity (neither too thick nor too thin), the required volume of immersion oil is 1 ml per 10-20 smears or 50-100 ml per 1000 smears. The required volume of the burning spirit is 1-2L per 1000 smea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744480" y="757080"/>
            <a:ext cx="5459400" cy="3780000"/>
          </a:xfrm>
          <a:prstGeom prst="rect">
            <a:avLst/>
          </a:prstGeom>
          <a:ln w="0">
            <a:noFill/>
          </a:ln>
        </p:spPr>
      </p:sp>
      <p:sp>
        <p:nvSpPr>
          <p:cNvPr id="224"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specimen containers and request forms must contain legible information needed for patient identification. Request forms must be properly filled in by clin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supervisors should make sure that the laboratory register is present and all columns are completed properly. The register should be updated da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principle, all columns in the laboratory register should be filled, but this will of course depend on information supplied on request forms, so 100% should never be expected nor demanded. 100% same results in repeated series (1+;1+; 5AFB/100; 5AFB/100) may look suspicious (falsification possible?). Explain inadmissibility of preparing all smears from one specimen to declare that all specimens were really examined, speak about the problem with clin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supervisors should check if patient records in laboratory register are consistent with the district register. The supervisor should compare 10 patients from the laboratory register and determine if all 10 patients are listed in the district register. If more than 2% smear positive cases are lost in small, and more than 5% in big centers then think about poor registration and/or transmission results; or poor reception of pati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744480" y="757080"/>
            <a:ext cx="5459400" cy="3780000"/>
          </a:xfrm>
          <a:prstGeom prst="rect">
            <a:avLst/>
          </a:prstGeom>
          <a:ln w="0">
            <a:noFill/>
          </a:ln>
        </p:spPr>
      </p:sp>
      <p:sp>
        <p:nvSpPr>
          <p:cNvPr id="226" name="PlaceHolder 2"/>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positivity rate of suspect smears should be about 5%-15%. If it is abnormal the supervisor should discuss patients’ selection criteria, check if a lot of saliva specimens are submitted to the laboratory. Rarely can it also indicate gross technical errors (stain). The positivity rate of follow up smears should be about 5%-10%. Too low percentage may indicate careless microscopy or stain/staining problem. If the percentage is very high, it may indicate that technician doesn’t know AFB properly, it also can be due to contaminated carbolfuchsin s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A5862-973E-4FA7-A1D5-1360F65410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D4DE69B7-2D76-4115-BA76-889F9181DB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3512F570-D505-43AE-A06C-73DE93DCF9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4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EDFA7359-270E-49AE-A9C5-C2FD65F356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9B4BB1A-C1AE-4A73-917C-CE931EB9C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4"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D36B68-B3AE-4EAB-AE3F-6A03C4C7B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FA4215-CFBB-41BC-9DD7-95D6F3596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8F428B-B01E-4D02-8F29-2F71E1569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8D71FB-E481-462D-9E59-40B9C2178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DE17C1-4068-46DA-A0AB-4F0D13B70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3"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EEC516-4F8C-4BE3-8E8A-D27BC697A3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7808A31-1A6B-41B3-9223-4058703E3C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C83435-C8A1-42A5-B00B-0B88777367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1"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2C8F61-EAA3-4C7C-9422-E62E6E3486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5"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A2FA81-6809-41E2-87C7-22E2FD34D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8"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AB04CE-D1D2-4BB4-828D-10DE0C918FE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83"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8A78A70-CC1E-420D-B573-991AB5CD2B8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EB955D0-E805-4884-B208-0D18F9CCBAB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5"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4D8435E-46EA-4312-90EE-952B05F5B5E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E9D298D-2D9B-4178-9A20-DC98607CECF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9"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CD4E5CB-6E1D-4F81-97FF-58871A172D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ACDB05E-30A2-4671-8E84-980669A79B8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ED2F30D0-06D3-489D-A228-81A342EA2A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50155F0-B0FB-42CB-85D2-3946D42249F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4"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D43A84-2032-445E-8924-F9A8079E92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982836-5036-462D-85FF-13DEE748B6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C46CDC6-DC48-46CE-9846-30AD463651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6"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42DCD6A-0886-46F1-B1B0-67A62F4400D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9"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6D2B160-E5F0-4C54-8227-A8927D99B26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4"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E1EBC80-7497-4883-9B77-B58E4941DA5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8838682-07F6-45C8-9376-1D664DD1E3A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26C295E5-9BF9-4002-AB27-13870789D2B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E4E70EE2-7612-4617-B81E-985CE0A913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C38583CC-C617-44A7-B63D-E84979C4052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73A20514-DF78-4CA7-856D-0438ED0300A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8"/>
          </p:nvPr>
        </p:nvSpPr>
        <p:spPr/>
        <p:txBody>
          <a:bodyPr/>
          <a:p>
            <a:fld id="{7587D4C4-9895-4FE4-AA8B-DD4A4E97AC8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39E10FC8-D46E-401B-BA78-3DAB5E852E9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52088CC6-DB05-483B-BA16-427C3CFDF73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62796518-835C-42A3-9DBB-4D84B52E76D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19159063-ABF9-4559-8282-4DF26CF816E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31098798-559E-4FFD-8CE3-E43D5E43DF5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8"/>
          </p:nvPr>
        </p:nvSpPr>
        <p:spPr/>
        <p:txBody>
          <a:bodyPr/>
          <a:p>
            <a:fld id="{F0E14FC0-24B6-47BD-A70C-291EB659E0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8"/>
          </p:nvPr>
        </p:nvSpPr>
        <p:spPr/>
        <p:txBody>
          <a:bodyPr/>
          <a:p>
            <a:fld id="{4D92EEEF-7AF0-4958-9B35-D35A392F6A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DF9FF93C-3EA4-410D-90DB-F931C4473F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231DF55-6509-459B-B26F-B940C2548D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D84C3039-F002-41BD-8C43-607B74C751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A4AC8C31-1429-4458-A4D5-7A79520A5A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EA856FA3-3426-4A4F-8016-ABA1744689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610C-2711-4FA1-9ADC-4D9FFEFE6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D6CE-8BB7-42AC-B28C-89FDA51A9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A3E7-18D8-43A2-AF76-DEF162586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31" name="PlaceHolder 2"/>
          <p:cNvSpPr>
            <a:spLocks noGrp="1"/>
          </p:cNvSpPr>
          <p:nvPr>
            <p:ph type="sldNum" idx="8"/>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389E-651F-416F-8062-DED807C4FC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32" name=""/>
          <p:cNvGrpSpPr/>
          <p:nvPr/>
        </p:nvGrpSpPr>
        <p:grpSpPr>
          <a:xfrm>
            <a:off x="0" y="0"/>
            <a:ext cx="9903960" cy="6850080"/>
            <a:chOff x="0" y="0"/>
            <a:chExt cx="9903960" cy="6850080"/>
          </a:xfrm>
        </p:grpSpPr>
        <p:grpSp>
          <p:nvGrpSpPr>
            <p:cNvPr id="133" name=""/>
            <p:cNvGrpSpPr/>
            <p:nvPr/>
          </p:nvGrpSpPr>
          <p:grpSpPr>
            <a:xfrm>
              <a:off x="2972160" y="3540240"/>
              <a:ext cx="6926400" cy="3309840"/>
              <a:chOff x="2972160" y="3540240"/>
              <a:chExt cx="6926400" cy="3309840"/>
            </a:xfrm>
          </p:grpSpPr>
          <p:sp>
            <p:nvSpPr>
              <p:cNvPr id="13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72520" y="1628280"/>
            <a:ext cx="9217080" cy="28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	</a:t>
            </a:r>
            <a:r>
              <a:rPr b="1" lang="en-US" sz="4000" spc="-1" strike="noStrike">
                <a:solidFill>
                  <a:srgbClr val="ffff66"/>
                </a:solidFill>
                <a:latin typeface="Arial"/>
              </a:rPr>
              <a:t>ON-SITE SUPERVISION – CHECKLISTS</a:t>
            </a:r>
            <a:endParaRPr b="1" i="1" lang="en-US" sz="4000" spc="-1" strike="noStrike">
              <a:solidFill>
                <a:srgbClr val="ffff00"/>
              </a:solidFill>
              <a:latin typeface="Arial"/>
            </a:endParaRPr>
          </a:p>
        </p:txBody>
      </p:sp>
      <p:sp>
        <p:nvSpPr>
          <p:cNvPr id="186" name=""/>
          <p:cNvSpPr/>
          <p:nvPr/>
        </p:nvSpPr>
        <p:spPr>
          <a:xfrm>
            <a:off x="704880" y="4149720"/>
            <a:ext cx="842004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438C58D-6E2D-4B29-92D0-ADCF499110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885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mearing, staining, microscopic examination</a:t>
            </a:r>
            <a:endParaRPr b="1" i="1" lang="en-US" sz="3200" spc="-1" strike="noStrike">
              <a:solidFill>
                <a:srgbClr val="ffff00"/>
              </a:solidFill>
              <a:latin typeface="Arial"/>
            </a:endParaRPr>
          </a:p>
        </p:txBody>
      </p:sp>
      <p:sp>
        <p:nvSpPr>
          <p:cNvPr id="204" name="PlaceHolder 2"/>
          <p:cNvSpPr>
            <a:spLocks noGrp="1"/>
          </p:cNvSpPr>
          <p:nvPr>
            <p:ph/>
          </p:nvPr>
        </p:nvSpPr>
        <p:spPr>
          <a:xfrm>
            <a:off x="272520" y="1267920"/>
            <a:ext cx="9433080" cy="496908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ear preparation:</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new slides for AFB smear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ing prior to use if greasy?</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ly labeled?</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 loop cleaned in sand and sterilized by flaming OR a new disposable stick used every time?</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ears completely air dried before fixing?</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ly heat fixed?</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FC03EEBA-DA89-4906-8D06-06C5E1F35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880" y="274320"/>
            <a:ext cx="936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mearing, Staining, Microscopic Examination (cont.)</a:t>
            </a:r>
            <a:endParaRPr b="1" i="1" lang="en-US" sz="3200" spc="-1" strike="noStrike">
              <a:solidFill>
                <a:srgbClr val="ffff00"/>
              </a:solidFill>
              <a:latin typeface="Arial"/>
            </a:endParaRPr>
          </a:p>
        </p:txBody>
      </p:sp>
      <p:sp>
        <p:nvSpPr>
          <p:cNvPr id="206" name="PlaceHolder 2"/>
          <p:cNvSpPr>
            <a:spLocks noGrp="1"/>
          </p:cNvSpPr>
          <p:nvPr>
            <p:ph/>
          </p:nvPr>
        </p:nvSpPr>
        <p:spPr>
          <a:xfrm>
            <a:off x="272520" y="1628280"/>
            <a:ext cx="963324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mears macroscopically</a:t>
            </a:r>
            <a:endParaRPr b="1" lang="en-US" sz="28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ckness, size, color?</a:t>
            </a:r>
            <a:endParaRPr b="1" lang="en-US" sz="24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mears microscopically</a:t>
            </a:r>
            <a:endParaRPr b="1" lang="en-US" sz="28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ght image?</a:t>
            </a:r>
            <a:endParaRPr b="1" lang="en-US" sz="24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B clearly seen; strong red colour?</a:t>
            </a:r>
            <a:endParaRPr b="1" lang="en-US" sz="24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ften are stains filtered?</a:t>
            </a: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staining done according to NTP guidelines?</a:t>
            </a:r>
            <a:endParaRPr b="1" lang="en-US" sz="28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ining with carbolfuchsin or auramine</a:t>
            </a:r>
            <a:endParaRPr b="1" lang="en-US" sz="24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lorization</a:t>
            </a:r>
            <a:endParaRPr b="1" lang="en-US" sz="24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erstaining with methylene blue or permanganate</a:t>
            </a:r>
            <a:endParaRPr b="1" lang="en-US" sz="24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fields are examined to report positive / negative results?</a:t>
            </a:r>
            <a:endParaRPr b="1" lang="en-US" sz="28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01F232A8-68F5-4960-94AB-A41AFA5EE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8852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duct of Quality Control</a:t>
            </a:r>
            <a:endParaRPr b="1" i="1" lang="en-US" sz="3600" spc="-1" strike="noStrike">
              <a:solidFill>
                <a:srgbClr val="ffff00"/>
              </a:solidFill>
              <a:latin typeface="Arial"/>
            </a:endParaRPr>
          </a:p>
        </p:txBody>
      </p:sp>
      <p:sp>
        <p:nvSpPr>
          <p:cNvPr id="208" name="PlaceHolder 2"/>
          <p:cNvSpPr>
            <a:spLocks noGrp="1"/>
          </p:cNvSpPr>
          <p:nvPr>
            <p:ph/>
          </p:nvPr>
        </p:nvSpPr>
        <p:spPr>
          <a:xfrm>
            <a:off x="272520" y="1268280"/>
            <a:ext cx="89154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records and bottles for stain preparation quality control (if stains are prepared)</a:t>
            </a:r>
            <a:endParaRPr b="1" lang="en-US" sz="3200" spc="-1" strike="noStrike">
              <a:solidFill>
                <a:srgbClr val="ffffff"/>
              </a:solidFill>
              <a:latin typeface="Arial"/>
            </a:endParaRPr>
          </a:p>
          <a:p>
            <a:pPr lvl="1" marL="980640" indent="-5281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bottles numbered and dated? </a:t>
            </a:r>
            <a:endParaRPr b="1" lang="en-US" sz="2800" spc="-1" strike="noStrike">
              <a:solidFill>
                <a:srgbClr val="ffffff"/>
              </a:solidFill>
              <a:latin typeface="Arial"/>
            </a:endParaRPr>
          </a:p>
          <a:p>
            <a:pPr lvl="1" marL="980640" indent="-5281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records on controls kept?</a:t>
            </a:r>
            <a:endParaRPr b="1" lang="en-US" sz="2800" spc="-1" strike="noStrike">
              <a:solidFill>
                <a:srgbClr val="ffffff"/>
              </a:solidFill>
              <a:latin typeface="Arial"/>
            </a:endParaRPr>
          </a:p>
          <a:p>
            <a:pPr lvl="1" marL="980640" indent="-5281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positive as well as negative controls tested with each batch? </a:t>
            </a:r>
            <a:endParaRPr b="1" lang="en-US" sz="2800" spc="-1" strike="noStrike">
              <a:solidFill>
                <a:srgbClr val="ffffff"/>
              </a:solidFill>
              <a:latin typeface="Arial"/>
            </a:endParaRPr>
          </a:p>
          <a:p>
            <a:pPr lvl="1" marL="980640" indent="-5281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negatives read after repeat staining? </a:t>
            </a:r>
            <a:endParaRPr b="1" lang="en-US" sz="2800" spc="-1" strike="noStrike">
              <a:solidFill>
                <a:srgbClr val="ffffff"/>
              </a:solidFill>
              <a:latin typeface="Arial"/>
            </a:endParaRPr>
          </a:p>
          <a:p>
            <a:pPr lvl="1" marL="980640" indent="-528120">
              <a:lnSpc>
                <a:spcPct val="90000"/>
              </a:lnSpc>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control positive and control negative smears available?</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2F2C5602-DC06-47EB-B616-B106DD84E3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15440" y="1557000"/>
            <a:ext cx="9001080" cy="5111640"/>
          </a:xfrm>
          <a:prstGeom prst="rect">
            <a:avLst/>
          </a:prstGeom>
          <a:noFill/>
          <a:ln w="0">
            <a:noFill/>
          </a:ln>
        </p:spPr>
        <p:txBody>
          <a:bodyPr lIns="90000" rIns="90000" tIns="46800" bIns="46800" anchor="t">
            <a:normAutofit/>
          </a:bodyPr>
          <a:p>
            <a:pPr marL="609480" indent="-6094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ly select slides (according to lab register): </a:t>
            </a:r>
            <a:endParaRPr b="1" lang="en-US" sz="28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gt;90% of them be found in boxes?</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numbering of slides unique / results not written on them?</a:t>
            </a:r>
            <a:endParaRPr b="1" lang="en-US" sz="2400" spc="-1" strike="noStrike">
              <a:solidFill>
                <a:srgbClr val="ffffff"/>
              </a:solidFill>
              <a:latin typeface="Arial"/>
            </a:endParaRPr>
          </a:p>
          <a:p>
            <a:pPr marL="609480" indent="-6094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internal documentation of the rechecking program </a:t>
            </a:r>
            <a:endParaRPr b="1" lang="en-US" sz="28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records with feedback present? </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rechecking regularly done?</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as it done last time?</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s sample representative? </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e results plausible? </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s interpretation possible?</a:t>
            </a:r>
            <a:endParaRPr b="1" lang="en-US" sz="2400" spc="-1" strike="noStrike">
              <a:solidFill>
                <a:srgbClr val="ffffff"/>
              </a:solidFill>
              <a:latin typeface="Arial"/>
            </a:endParaRPr>
          </a:p>
        </p:txBody>
      </p:sp>
      <p:sp>
        <p:nvSpPr>
          <p:cNvPr id="210"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orage of Slides </a:t>
            </a:r>
            <a:br>
              <a:rPr sz="3600"/>
            </a:br>
            <a:r>
              <a:rPr b="1" lang="en-US" sz="3600" spc="-1" strike="noStrike">
                <a:solidFill>
                  <a:srgbClr val="ffff00"/>
                </a:solidFill>
                <a:latin typeface="Arial"/>
              </a:rPr>
              <a:t>and EQA Documentation</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6BFA11F0-90F5-46A1-A0A2-87FF4F01097F}"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2680" y="304560"/>
            <a:ext cx="8420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ecklists</a:t>
            </a:r>
            <a:endParaRPr b="1" i="1" lang="en-US" sz="3600" spc="-1" strike="noStrike">
              <a:solidFill>
                <a:srgbClr val="ffff00"/>
              </a:solidFill>
              <a:latin typeface="Arial"/>
            </a:endParaRPr>
          </a:p>
        </p:txBody>
      </p:sp>
      <p:sp>
        <p:nvSpPr>
          <p:cNvPr id="188" name="PlaceHolder 2"/>
          <p:cNvSpPr>
            <a:spLocks noGrp="1"/>
          </p:cNvSpPr>
          <p:nvPr>
            <p:ph/>
          </p:nvPr>
        </p:nvSpPr>
        <p:spPr>
          <a:xfrm>
            <a:off x="330120" y="1066320"/>
            <a:ext cx="924552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 as documentation of the visit and record of current conditions  and actions needed</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arrying out on-site supervision in a consistent and structured way</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of standard definitions of what is acceptable for each checklist item </a:t>
            </a:r>
            <a:endParaRPr b="1" lang="en-US" sz="28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a to be established by NTP</a:t>
            </a:r>
            <a:endParaRPr b="1"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structure:</a:t>
            </a:r>
            <a:endParaRPr b="1" lang="en-US" sz="28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non-leading questions</a:t>
            </a:r>
            <a:endParaRPr b="1" lang="en-US" sz="2400" spc="-1" strike="noStrike">
              <a:solidFill>
                <a:srgbClr val="ffffff"/>
              </a:solidFill>
              <a:latin typeface="Arial"/>
            </a:endParaRPr>
          </a:p>
          <a:p>
            <a:pPr lvl="1" marL="743040" indent="-285840">
              <a:lnSpc>
                <a:spcPct val="8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of on-site observation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302B55C9-2A2E-4A58-B3DD-EA1FF1F527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160" y="1066320"/>
            <a:ext cx="8832600" cy="495324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for lab supervisors)</a:t>
            </a:r>
            <a:endParaRPr b="1" lang="en-US" sz="2400" spc="-1" strike="noStrike">
              <a:solidFill>
                <a:srgbClr val="ffffff"/>
              </a:solidFill>
              <a:latin typeface="Arial"/>
            </a:endParaRPr>
          </a:p>
          <a:p>
            <a:pPr lvl="2" marL="1143000" indent="-228600">
              <a:spcBef>
                <a:spcPts val="499"/>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effective if shortened version is used later on</a:t>
            </a:r>
            <a:endParaRPr b="1" lang="en-US" sz="20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for TB supervisor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practical use</a:t>
            </a:r>
            <a:endParaRPr b="1" lang="en-US" sz="28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on problems that are frequently identified or most likely occur</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 with time</a:t>
            </a:r>
            <a:endParaRPr b="1" lang="en-US" sz="2400" spc="-1" strike="noStrike">
              <a:solidFill>
                <a:srgbClr val="ffffff"/>
              </a:solidFill>
              <a:latin typeface="Arial"/>
            </a:endParaRPr>
          </a:p>
          <a:p>
            <a:pPr lvl="1" marL="743040" indent="-285840">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P may refine objective criteria for acceptable practice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0" name="PlaceHolder 2"/>
          <p:cNvSpPr>
            <a:spLocks noGrp="1"/>
          </p:cNvSpPr>
          <p:nvPr>
            <p:ph type="title"/>
          </p:nvPr>
        </p:nvSpPr>
        <p:spPr>
          <a:xfrm>
            <a:off x="742680" y="304560"/>
            <a:ext cx="8420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ecklists </a:t>
            </a:r>
            <a:r>
              <a:rPr b="1" lang="en-US" sz="3200" spc="-1" strike="noStrike">
                <a:solidFill>
                  <a:srgbClr val="ffff00"/>
                </a:solidFill>
                <a:latin typeface="Arial"/>
              </a:rPr>
              <a:t>(continued)</a:t>
            </a:r>
            <a:endParaRPr b="1" i="1" lang="en-US" sz="3200" spc="-1" strike="noStrike">
              <a:solidFill>
                <a:srgbClr val="ffff00"/>
              </a:solidFill>
              <a:latin typeface="Arial"/>
            </a:endParaRPr>
          </a:p>
        </p:txBody>
      </p:sp>
      <p:sp>
        <p:nvSpPr>
          <p:cNvPr id="4" name="PlaceHolder 3"/>
          <p:cNvSpPr>
            <a:spLocks noGrp="1"/>
          </p:cNvSpPr>
          <p:nvPr>
            <p:ph type="sldNum" idx="1"/>
          </p:nvPr>
        </p:nvSpPr>
        <p:spPr/>
        <p:txBody>
          <a:bodyPr/>
          <a:p>
            <a:fld id="{0D456176-813A-4862-B46F-1C6CF5B5EB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6016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eck Items</a:t>
            </a:r>
            <a:endParaRPr b="1" i="1" lang="en-US" sz="3600" spc="-1" strike="noStrike">
              <a:solidFill>
                <a:srgbClr val="ffff00"/>
              </a:solidFill>
              <a:latin typeface="Arial"/>
            </a:endParaRPr>
          </a:p>
        </p:txBody>
      </p:sp>
      <p:sp>
        <p:nvSpPr>
          <p:cNvPr id="192" name="PlaceHolder 2"/>
          <p:cNvSpPr>
            <a:spLocks noGrp="1"/>
          </p:cNvSpPr>
          <p:nvPr>
            <p:ph/>
          </p:nvPr>
        </p:nvSpPr>
        <p:spPr>
          <a:xfrm>
            <a:off x="560160" y="907560"/>
            <a:ext cx="9072360" cy="5689800"/>
          </a:xfrm>
          <a:prstGeom prst="rect">
            <a:avLst/>
          </a:prstGeom>
          <a:noFill/>
          <a:ln w="0">
            <a:noFill/>
          </a:ln>
        </p:spPr>
        <p:txBody>
          <a:bodyPr lIns="90000" rIns="90000" tIns="46800" bIns="46800" anchor="t">
            <a:normAutofit/>
          </a:bodyPr>
          <a:p>
            <a:pPr marL="609480" indent="-609480">
              <a:spcBef>
                <a:spcPts val="700"/>
              </a:spcBef>
              <a:buClr>
                <a:srgbClr val="ff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facilities / safety</a:t>
            </a:r>
            <a:endParaRPr b="1" lang="en-US" sz="2800" spc="-1" strike="noStrike">
              <a:solidFill>
                <a:srgbClr val="ffffff"/>
              </a:solidFill>
              <a:latin typeface="Arial"/>
            </a:endParaRPr>
          </a:p>
          <a:p>
            <a:pPr marL="609480" indent="-609480">
              <a:spcBef>
                <a:spcPts val="700"/>
              </a:spcBef>
              <a:buClr>
                <a:srgbClr val="ff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ratory equipment </a:t>
            </a:r>
            <a:endParaRPr b="1" lang="en-US" sz="2800" spc="-1" strike="noStrike">
              <a:solidFill>
                <a:srgbClr val="ffffff"/>
              </a:solidFill>
              <a:latin typeface="Arial"/>
            </a:endParaRPr>
          </a:p>
          <a:p>
            <a:pPr marL="609480" indent="-609480">
              <a:spcBef>
                <a:spcPts val="700"/>
              </a:spcBef>
              <a:buClr>
                <a:srgbClr val="ff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a:t>
            </a:r>
            <a:endParaRPr b="1" lang="en-US" sz="2800" spc="-1" strike="noStrike">
              <a:solidFill>
                <a:srgbClr val="ffffff"/>
              </a:solidFill>
              <a:latin typeface="Arial"/>
            </a:endParaRPr>
          </a:p>
          <a:p>
            <a:pPr marL="609480" indent="-609480">
              <a:spcBef>
                <a:spcPts val="700"/>
              </a:spcBef>
              <a:buClr>
                <a:srgbClr val="ff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cks of supplies and consumables</a:t>
            </a:r>
            <a:endParaRPr b="1" lang="en-US" sz="2800" spc="-1" strike="noStrike">
              <a:solidFill>
                <a:srgbClr val="ffffff"/>
              </a:solidFill>
              <a:latin typeface="Arial"/>
            </a:endParaRPr>
          </a:p>
          <a:p>
            <a:pPr marL="609480" indent="-609480">
              <a:spcBef>
                <a:spcPts val="700"/>
              </a:spcBef>
              <a:buClr>
                <a:srgbClr val="ff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ation and transmission of results</a:t>
            </a:r>
            <a:endParaRPr b="1" lang="en-US" sz="2800" spc="-1" strike="noStrike">
              <a:solidFill>
                <a:srgbClr val="ffffff"/>
              </a:solidFill>
              <a:latin typeface="Arial"/>
            </a:endParaRPr>
          </a:p>
          <a:p>
            <a:pPr marL="609480" indent="-609480">
              <a:spcBef>
                <a:spcPts val="700"/>
              </a:spcBef>
              <a:buClr>
                <a:srgbClr val="ff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ratory register counts: workload, indicators</a:t>
            </a:r>
            <a:endParaRPr b="1" lang="en-US" sz="2800" spc="-1" strike="noStrike">
              <a:solidFill>
                <a:srgbClr val="ffffff"/>
              </a:solidFill>
              <a:latin typeface="Arial"/>
            </a:endParaRPr>
          </a:p>
          <a:p>
            <a:pPr marL="609480" indent="-609480">
              <a:spcBef>
                <a:spcPts val="700"/>
              </a:spcBef>
              <a:buClr>
                <a:srgbClr val="ff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 of sputum collection, smearing, staining, microscopic examination procedures </a:t>
            </a:r>
            <a:endParaRPr b="1" lang="en-US" sz="2800" spc="-1" strike="noStrike">
              <a:solidFill>
                <a:srgbClr val="ffffff"/>
              </a:solidFill>
              <a:latin typeface="Arial"/>
            </a:endParaRPr>
          </a:p>
          <a:p>
            <a:pPr marL="609480" indent="-609480">
              <a:spcBef>
                <a:spcPts val="700"/>
              </a:spcBef>
              <a:buClr>
                <a:srgbClr val="ff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control</a:t>
            </a:r>
            <a:endParaRPr b="1" lang="en-US" sz="2800" spc="-1" strike="noStrike">
              <a:solidFill>
                <a:srgbClr val="ffffff"/>
              </a:solidFill>
              <a:latin typeface="Arial"/>
            </a:endParaRPr>
          </a:p>
          <a:p>
            <a:pPr marL="609480" indent="-609480">
              <a:spcBef>
                <a:spcPts val="700"/>
              </a:spcBef>
              <a:buClr>
                <a:srgbClr val="ffcc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A documentation</a:t>
            </a: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5B7C3F1B-5711-4B84-BF84-A4E52012B2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54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sic Facilities / Safety</a:t>
            </a:r>
            <a:endParaRPr b="1" i="1" lang="en-US" sz="3200" spc="-1" strike="noStrike">
              <a:solidFill>
                <a:srgbClr val="ffff00"/>
              </a:solidFill>
              <a:latin typeface="Arial"/>
            </a:endParaRPr>
          </a:p>
        </p:txBody>
      </p:sp>
      <p:sp>
        <p:nvSpPr>
          <p:cNvPr id="194" name="PlaceHolder 2"/>
          <p:cNvSpPr>
            <a:spLocks noGrp="1"/>
          </p:cNvSpPr>
          <p:nvPr>
            <p:ph/>
          </p:nvPr>
        </p:nvSpPr>
        <p:spPr>
          <a:xfrm>
            <a:off x="272520" y="1196640"/>
            <a:ext cx="9433080" cy="532764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oratory space and furniture</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ntilation</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ic power supply</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of water supply: tap &amp; drain </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k or basin, buckets, bottles</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 bucket with a lid; autoclave or pressure cooker; burning facility</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infection / overall cleanness </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AB12002E-05DA-4341-95B3-F13AAAEE31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88520" y="333360"/>
            <a:ext cx="8915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boratory Equipment, Personnel</a:t>
            </a:r>
            <a:endParaRPr b="1" i="1" lang="en-US" sz="3600" spc="-1" strike="noStrike">
              <a:solidFill>
                <a:srgbClr val="ffff00"/>
              </a:solidFill>
              <a:latin typeface="Arial"/>
            </a:endParaRPr>
          </a:p>
        </p:txBody>
      </p:sp>
      <p:sp>
        <p:nvSpPr>
          <p:cNvPr id="196" name="PlaceHolder 2"/>
          <p:cNvSpPr>
            <a:spLocks noGrp="1"/>
          </p:cNvSpPr>
          <p:nvPr>
            <p:ph/>
          </p:nvPr>
        </p:nvSpPr>
        <p:spPr>
          <a:xfrm>
            <a:off x="272520" y="1341360"/>
            <a:ext cx="9217080" cy="4813200"/>
          </a:xfrm>
          <a:prstGeom prst="rect">
            <a:avLst/>
          </a:prstGeom>
          <a:noFill/>
          <a:ln w="0">
            <a:noFill/>
          </a:ln>
        </p:spPr>
        <p:txBody>
          <a:bodyPr lIns="90000" rIns="90000" tIns="46800" bIns="46800" anchor="t">
            <a:normAutofit fontScale="97000"/>
          </a:bodyPr>
          <a:p>
            <a:pPr marL="591120" indent="-59112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and number of microscopes</a:t>
            </a:r>
            <a:endParaRPr b="1" lang="en-US" sz="2800" spc="-1" strike="noStrike">
              <a:solidFill>
                <a:srgbClr val="ffffff"/>
              </a:solidFill>
              <a:latin typeface="Arial"/>
            </a:endParaRPr>
          </a:p>
          <a:p>
            <a:pPr lvl="1" marL="960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91120" indent="-59112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copes: </a:t>
            </a:r>
            <a:r>
              <a:rPr b="0" lang="fr-FR" sz="2800" spc="-1" strike="noStrike">
                <a:solidFill>
                  <a:srgbClr val="ffffff"/>
                </a:solidFill>
                <a:latin typeface="Arial"/>
              </a:rPr>
              <a:t>objectives,</a:t>
            </a:r>
            <a:r>
              <a:rPr b="0" lang="en-US" sz="2800" spc="-1" strike="noStrike">
                <a:solidFill>
                  <a:srgbClr val="ffffff"/>
                </a:solidFill>
                <a:latin typeface="Arial"/>
              </a:rPr>
              <a:t> spare bulbs; mirror, evidence of protection </a:t>
            </a:r>
            <a:endParaRPr b="1" lang="en-US" sz="2800" spc="-1" strike="noStrike">
              <a:solidFill>
                <a:srgbClr val="ffffff"/>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91120" indent="-59112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if stains are prepared:</a:t>
            </a:r>
            <a:endParaRPr b="1" lang="en-US" sz="2800" spc="-1" strike="noStrike">
              <a:solidFill>
                <a:srgbClr val="ffffff"/>
              </a:solidFill>
              <a:latin typeface="Arial"/>
            </a:endParaRPr>
          </a:p>
          <a:p>
            <a:pPr lvl="1" marL="960840" indent="-517320">
              <a:lnSpc>
                <a:spcPct val="8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re a water distiller or filter? balance? measuring cylinder &amp; glassware available? </a:t>
            </a:r>
            <a:endParaRPr b="1" lang="en-US" sz="2400" spc="-1" strike="noStrike">
              <a:solidFill>
                <a:srgbClr val="ffffff"/>
              </a:solidFill>
              <a:latin typeface="Arial"/>
            </a:endParaRPr>
          </a:p>
          <a:p>
            <a:pPr lvl="1" marL="960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91120" indent="-59112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trained for AFB microscopy</a:t>
            </a:r>
            <a:endParaRPr b="1" lang="en-US" sz="2800" spc="-1" strike="noStrike">
              <a:solidFill>
                <a:srgbClr val="ffffff"/>
              </a:solidFill>
              <a:latin typeface="Arial"/>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91120" indent="-591120">
              <a:lnSpc>
                <a:spcPct val="8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Workload</a:t>
            </a:r>
            <a:endParaRPr b="1" lang="en-US" sz="2800" spc="-1" strike="noStrike">
              <a:solidFill>
                <a:srgbClr val="ffffff"/>
              </a:solidFill>
              <a:latin typeface="Arial"/>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92C76CFB-7693-4D76-A6C7-62D8A220CA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60160" y="188640"/>
            <a:ext cx="8915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ocks of Supplies and Consumables</a:t>
            </a:r>
            <a:endParaRPr b="1" i="1" lang="en-US" sz="3600" spc="-1" strike="noStrike">
              <a:solidFill>
                <a:srgbClr val="ffff00"/>
              </a:solidFill>
              <a:latin typeface="Arial"/>
            </a:endParaRPr>
          </a:p>
        </p:txBody>
      </p:sp>
      <p:sp>
        <p:nvSpPr>
          <p:cNvPr id="198" name="PlaceHolder 2"/>
          <p:cNvSpPr>
            <a:spLocks noGrp="1"/>
          </p:cNvSpPr>
          <p:nvPr>
            <p:ph/>
          </p:nvPr>
        </p:nvSpPr>
        <p:spPr>
          <a:xfrm>
            <a:off x="200160" y="1267920"/>
            <a:ext cx="9074160" cy="5256360"/>
          </a:xfrm>
          <a:prstGeom prst="rect">
            <a:avLst/>
          </a:prstGeom>
          <a:noFill/>
          <a:ln w="0">
            <a:noFill/>
          </a:ln>
        </p:spPr>
        <p:txBody>
          <a:bodyPr lIns="90000" rIns="90000" tIns="46800" bIns="46800" anchor="t">
            <a:normAutofit/>
          </a:bodyPr>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torage conditions</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ight sealed containers</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ut of sunlight</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piration date</a:t>
            </a:r>
            <a:endParaRPr b="1"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equate quantities should be available for  3-6 months: </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number of examinations over last 12 months; calculate monthly average</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DF477976-0014-48E1-B1A7-C2E0F550F3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gistration and Transmission of Results</a:t>
            </a:r>
            <a:endParaRPr b="1" i="1" lang="en-US" sz="3600" spc="-1" strike="noStrike">
              <a:solidFill>
                <a:srgbClr val="ffff00"/>
              </a:solidFill>
              <a:latin typeface="Arial"/>
            </a:endParaRPr>
          </a:p>
        </p:txBody>
      </p:sp>
      <p:sp>
        <p:nvSpPr>
          <p:cNvPr id="200" name="PlaceHolder 2"/>
          <p:cNvSpPr>
            <a:spLocks noGrp="1"/>
          </p:cNvSpPr>
          <p:nvPr>
            <p:ph/>
          </p:nvPr>
        </p:nvSpPr>
        <p:spPr>
          <a:xfrm>
            <a:off x="272880" y="1628640"/>
            <a:ext cx="9360000" cy="5229360"/>
          </a:xfrm>
          <a:prstGeom prst="rect">
            <a:avLst/>
          </a:prstGeom>
          <a:noFill/>
          <a:ln w="0">
            <a:noFill/>
          </a:ln>
        </p:spPr>
        <p:txBody>
          <a:bodyPr lIns="90000" rIns="90000" tIns="46800" bIns="46800" anchor="t">
            <a:normAutofit/>
          </a:bodyPr>
          <a:p>
            <a:pPr marL="609480" indent="-6094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 sputum pots and request forms for labeling and completeness of information</a:t>
            </a:r>
            <a:endParaRPr b="1"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 the laboratory register</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updated daily?</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essential information filled in (address of suspects, new / follow-ups)? </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results correctly recorded and look plausible?</a:t>
            </a:r>
            <a:endParaRPr b="1"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oss-check the laboratory against the District Register</a:t>
            </a:r>
            <a:endParaRPr b="1" lang="en-US" sz="2400" spc="-1" strike="noStrike">
              <a:solidFill>
                <a:srgbClr val="ffffff"/>
              </a:solidFill>
              <a:latin typeface="Arial"/>
            </a:endParaRPr>
          </a:p>
          <a:p>
            <a:pPr lvl="1" marL="990720" indent="-533520">
              <a:lnSpc>
                <a:spcPct val="90000"/>
              </a:lnSpc>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patient records in the laboratory register consistent with the district register? </a:t>
            </a:r>
            <a:endParaRPr b="1"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056EFCCA-65A8-41E4-997D-DF4727D4EB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252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eck on Performance</a:t>
            </a:r>
            <a:endParaRPr b="1" i="1" lang="en-US" sz="3600" spc="-1" strike="noStrike">
              <a:solidFill>
                <a:srgbClr val="ffff00"/>
              </a:solidFill>
              <a:latin typeface="Arial"/>
            </a:endParaRPr>
          </a:p>
        </p:txBody>
      </p:sp>
      <p:sp>
        <p:nvSpPr>
          <p:cNvPr id="202" name="PlaceHolder 2"/>
          <p:cNvSpPr>
            <a:spLocks noGrp="1"/>
          </p:cNvSpPr>
          <p:nvPr>
            <p:ph/>
          </p:nvPr>
        </p:nvSpPr>
        <p:spPr>
          <a:xfrm>
            <a:off x="488880" y="1413000"/>
            <a:ext cx="8928000" cy="4464000"/>
          </a:xfrm>
          <a:prstGeom prst="rect">
            <a:avLst/>
          </a:prstGeom>
          <a:noFill/>
          <a:ln w="0">
            <a:noFill/>
          </a:ln>
        </p:spPr>
        <p:txBody>
          <a:bodyPr lIns="90000" rIns="90000" tIns="46800" bIns="46800" anchor="t">
            <a:normAutofit/>
          </a:bodyPr>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workload</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2-3 smears per day but not more than 20-25 smears / per day / per technician</a:t>
            </a:r>
            <a:endParaRPr b="1"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indicators from lab register / internal monitoring chart</a:t>
            </a:r>
            <a:endParaRPr b="1" lang="en-US" sz="32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sitive suspects:5-15% ?</a:t>
            </a:r>
            <a:endParaRPr b="1" lang="en-US" sz="2800" spc="-1" strike="noStrike">
              <a:solidFill>
                <a:srgbClr val="ffffff"/>
              </a:solidFill>
              <a:latin typeface="Arial"/>
            </a:endParaRPr>
          </a:p>
          <a:p>
            <a:pPr lvl="1" marL="990720" indent="-533520">
              <a:spcBef>
                <a:spcPts val="700"/>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up (FU) positives: 5- 10%?</a:t>
            </a:r>
            <a:endParaRPr b="1"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013FCAC7-3D4F-432C-85B0-80A7892A92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29:20Z</dcterms:created>
  <dc:creator>ryszewskak</dc:creator>
  <dc:description/>
  <dc:language>en-US</dc:language>
  <cp:lastModifiedBy>avdeun</cp:lastModifiedBy>
  <cp:lastPrinted>2005-08-07T02:34:10Z</cp:lastPrinted>
  <dcterms:modified xsi:type="dcterms:W3CDTF">2009-05-04T01:34:26Z</dcterms:modified>
  <cp:revision>368</cp:revision>
  <dc:subject/>
  <dc:title>DOTS Directly Observed Treatment, Short-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